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9AD0A-9040-4C4C-AB8A-5229C13246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ccff"/>
              </a:solidFill>
              <a:latin typeface="幼圆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6934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08000" y="3840480"/>
            <a:ext cx="6934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7FDDE-B1E7-46EF-B6E0-4CF98CAB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ccff"/>
              </a:solidFill>
              <a:latin typeface="幼圆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61200" y="141264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08000" y="384048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461200" y="384048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372B3-5625-4FF0-8AB8-3F76EF25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ccff"/>
              </a:solidFill>
              <a:latin typeface="幼圆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2232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52680" y="1412640"/>
            <a:ext cx="2232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7360" y="1412640"/>
            <a:ext cx="2232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08000" y="3840480"/>
            <a:ext cx="2232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252680" y="3840480"/>
            <a:ext cx="2232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7360" y="3840480"/>
            <a:ext cx="2232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D5268-7AE5-4BE9-856F-5FDF872F44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7177D9-5773-4AB2-A34E-372F7F53F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ccff"/>
              </a:solidFill>
              <a:latin typeface="幼圆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08000" y="141264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0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CD229-8D9C-4503-B4F6-691122DC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ccff"/>
              </a:solidFill>
              <a:latin typeface="幼圆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9513A-A204-4F37-A17B-02BB68B4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ccff"/>
              </a:solidFill>
              <a:latin typeface="幼圆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61200" y="141264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AB5B2-A05F-4710-ADCA-872931B0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ccf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1CC68-FEA7-44CE-9DA0-B68D81DE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904760" y="228240"/>
            <a:ext cx="6933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00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C6A25-56A1-470B-AD2F-CB47CD61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ccff"/>
              </a:solidFill>
              <a:latin typeface="幼圆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61200" y="141264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908000" y="384048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B3444-156C-4853-9DD6-95C0A51A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ccff"/>
              </a:solidFill>
              <a:latin typeface="幼圆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08000" y="141264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0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849C2-6554-49D1-AA25-DE4C1C5F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ccff"/>
              </a:solidFill>
              <a:latin typeface="幼圆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61200" y="141264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461200" y="384048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AC3EC-CE47-4EA3-B3C3-426A00ED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ccff"/>
              </a:solidFill>
              <a:latin typeface="幼圆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61200" y="141264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908000" y="3840480"/>
            <a:ext cx="6934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4A5C4-9365-446C-9E2D-5C83C923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ccff"/>
              </a:solidFill>
              <a:latin typeface="幼圆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6934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908000" y="3840480"/>
            <a:ext cx="6934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DB688-F904-4CE3-B76D-ED77EFE2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ccff"/>
              </a:solidFill>
              <a:latin typeface="幼圆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61200" y="141264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908000" y="384048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461200" y="384048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ACDF3-8828-4BED-A55C-EA7806414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ccff"/>
              </a:solidFill>
              <a:latin typeface="幼圆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2232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52680" y="1412640"/>
            <a:ext cx="2232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97360" y="1412640"/>
            <a:ext cx="2232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908000" y="3840480"/>
            <a:ext cx="2232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252680" y="3840480"/>
            <a:ext cx="2232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97360" y="3840480"/>
            <a:ext cx="2232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9561F-E06C-4399-8BCD-B593DD026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ccff"/>
              </a:solidFill>
              <a:latin typeface="幼圆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0C652-1EF6-4F14-B476-A5BBF117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ccff"/>
              </a:solidFill>
              <a:latin typeface="幼圆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461200" y="141264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842A5-F32E-460C-8176-47F3A6A3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ccf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1534E-0D11-4BBF-8790-0130BDFB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04760" y="228240"/>
            <a:ext cx="6933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00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15FCB-AC9F-4083-AEE5-14C91FE37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ccff"/>
              </a:solidFill>
              <a:latin typeface="幼圆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61200" y="141264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08000" y="384048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C1311-0461-404D-91C8-C920EF50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ccff"/>
              </a:solidFill>
              <a:latin typeface="幼圆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61200" y="141264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461200" y="384048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AC780-DD50-4D6B-A9F6-8ED77CF8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ccff"/>
              </a:solidFill>
              <a:latin typeface="幼圆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461200" y="141264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08000" y="3840480"/>
            <a:ext cx="6934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55161-0FEB-4E9B-9D52-23126136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幼圆"/>
              </a:rPr>
              <a:t>Click to edit the title text format</a:t>
            </a:r>
            <a:endParaRPr b="1" lang="en-US" sz="4000" spc="-1" strike="noStrike">
              <a:solidFill>
                <a:srgbClr val="99ccff"/>
              </a:solidFill>
              <a:latin typeface="幼圆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8000" y="141264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81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543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1217-C274-4078-B865-8357CA24B977}" type="slidenum"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179280" y="5421240"/>
            <a:ext cx="1331640" cy="816120"/>
            <a:chOff x="179280" y="5421240"/>
            <a:chExt cx="1331640" cy="816120"/>
          </a:xfrm>
        </p:grpSpPr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179280" y="5965920"/>
              <a:ext cx="1331640" cy="27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4"/>
            <a:stretch/>
          </p:blipFill>
          <p:spPr>
            <a:xfrm>
              <a:off x="179280" y="5421240"/>
              <a:ext cx="898560" cy="4064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733560" y="2134800"/>
            <a:ext cx="51814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幼圆"/>
              </a:rPr>
              <a:t>Click to edit the title text format</a:t>
            </a:r>
            <a:endParaRPr b="1" lang="en-US" sz="4400" spc="-1" strike="noStrike">
              <a:solidFill>
                <a:srgbClr val="3399ff"/>
              </a:solidFill>
              <a:latin typeface="幼圆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99c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9cc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99c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9cc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99c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5C03-16DB-4434-BE23-8E0E878F46B7}" type="slidenum">
              <a:rPr b="1" lang="zh-CN" sz="1200" spc="-1" strike="noStrike">
                <a:solidFill>
                  <a:srgbClr val="99c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幼圆"/>
              </a:rPr>
              <a:t>Click to edit the outline text format</a:t>
            </a:r>
            <a:endParaRPr b="0" lang="en-US" sz="2800" spc="-1" strike="noStrike">
              <a:solidFill>
                <a:srgbClr val="996600"/>
              </a:solidFill>
              <a:latin typeface="幼圆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5229360"/>
            <a:ext cx="9144000" cy="1282320"/>
          </a:xfrm>
          <a:prstGeom prst="rect">
            <a:avLst/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华文细黑"/>
                <a:ea typeface="华文细黑"/>
              </a:rPr>
              <a:t>红太阳队</a:t>
            </a:r>
            <a:r>
              <a:rPr b="1" lang="zh-CN" sz="2800" spc="-1" strike="noStrike">
                <a:solidFill>
                  <a:srgbClr val="f8f8f8"/>
                </a:solidFill>
                <a:latin typeface="华文细黑"/>
                <a:ea typeface="华文细黑"/>
              </a:rPr>
              <a:t>: </a:t>
            </a:r>
            <a:r>
              <a:rPr b="1" lang="zh-CN" sz="2800" spc="-1" strike="noStrike">
                <a:solidFill>
                  <a:srgbClr val="f8f8f8"/>
                </a:solidFill>
                <a:latin typeface="华文细黑"/>
                <a:ea typeface="华文细黑"/>
              </a:rPr>
              <a:t>邬彬红  詹亮   强迎庆  王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Elephant"/>
                <a:ea typeface="楷体_GB2312"/>
              </a:rPr>
              <a:t>2005</a:t>
            </a:r>
            <a:r>
              <a:rPr b="0" lang="zh-CN" sz="2400" spc="-1" strike="noStrike">
                <a:solidFill>
                  <a:srgbClr val="f8f8f8"/>
                </a:solidFill>
                <a:latin typeface="Elephant"/>
                <a:ea typeface="楷体_GB2312"/>
              </a:rPr>
              <a:t>年</a:t>
            </a:r>
            <a:r>
              <a:rPr b="0" lang="zh-CN" sz="2400" spc="-1" strike="noStrike">
                <a:solidFill>
                  <a:srgbClr val="f8f8f8"/>
                </a:solidFill>
                <a:latin typeface="Elephant"/>
                <a:ea typeface="楷体_GB2312"/>
              </a:rPr>
              <a:t>12</a:t>
            </a:r>
            <a:r>
              <a:rPr b="0" lang="zh-CN" sz="2400" spc="-1" strike="noStrike">
                <a:solidFill>
                  <a:srgbClr val="f8f8f8"/>
                </a:solidFill>
                <a:latin typeface="Elephant"/>
                <a:ea typeface="楷体_GB2312"/>
              </a:rPr>
              <a:t>月</a:t>
            </a:r>
            <a:r>
              <a:rPr b="0" lang="zh-CN" sz="2400" spc="-1" strike="noStrike">
                <a:solidFill>
                  <a:srgbClr val="f8f8f8"/>
                </a:solidFill>
                <a:latin typeface="Elephant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f8f8f8"/>
                </a:solidFill>
                <a:latin typeface="Elephant"/>
                <a:ea typeface="楷体_GB2312"/>
              </a:rPr>
              <a:t>日</a:t>
            </a:r>
            <a:r>
              <a:rPr b="0" lang="zh-CN" sz="1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95280" y="406440"/>
            <a:ext cx="2160720" cy="439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771640" y="333360"/>
            <a:ext cx="1297080" cy="58572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-36360" y="2463840"/>
            <a:ext cx="9180000" cy="1469880"/>
            <a:chOff x="-36360" y="2463840"/>
            <a:chExt cx="9180000" cy="1469880"/>
          </a:xfrm>
        </p:grpSpPr>
        <p:grpSp>
          <p:nvGrpSpPr>
            <p:cNvPr id="88" name=""/>
            <p:cNvGrpSpPr/>
            <p:nvPr/>
          </p:nvGrpSpPr>
          <p:grpSpPr>
            <a:xfrm>
              <a:off x="-36360" y="2781360"/>
              <a:ext cx="9180000" cy="1152360"/>
              <a:chOff x="-36360" y="2781360"/>
              <a:chExt cx="9180000" cy="1152360"/>
            </a:xfrm>
          </p:grpSpPr>
          <p:sp>
            <p:nvSpPr>
              <p:cNvPr id="89" name=""/>
              <p:cNvSpPr/>
              <p:nvPr/>
            </p:nvSpPr>
            <p:spPr>
              <a:xfrm>
                <a:off x="-36360" y="2854440"/>
                <a:ext cx="732600" cy="576000"/>
              </a:xfrm>
              <a:prstGeom prst="flowChartAlternateProcess">
                <a:avLst/>
              </a:prstGeom>
              <a:solidFill>
                <a:srgbClr val="000000">
                  <a:alpha val="3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14160" y="3357360"/>
                <a:ext cx="732600" cy="576360"/>
              </a:xfrm>
              <a:prstGeom prst="flowChartAlternateProcess">
                <a:avLst/>
              </a:prstGeom>
              <a:solidFill>
                <a:srgbClr val="000000">
                  <a:alpha val="3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346760" y="2854440"/>
                <a:ext cx="732960" cy="576000"/>
              </a:xfrm>
              <a:prstGeom prst="flowChartAlternateProcess">
                <a:avLst/>
              </a:prstGeom>
              <a:solidFill>
                <a:srgbClr val="000000">
                  <a:alpha val="3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077920" y="3357360"/>
                <a:ext cx="732960" cy="576360"/>
              </a:xfrm>
              <a:prstGeom prst="flowChartAlternateProcess">
                <a:avLst/>
              </a:prstGeom>
              <a:solidFill>
                <a:srgbClr val="000000">
                  <a:alpha val="3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728440" y="2854440"/>
                <a:ext cx="732960" cy="576000"/>
              </a:xfrm>
              <a:prstGeom prst="flowChartAlternateProcess">
                <a:avLst/>
              </a:prstGeom>
              <a:solidFill>
                <a:srgbClr val="000000">
                  <a:alpha val="3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443760" y="3357360"/>
                <a:ext cx="732600" cy="576360"/>
              </a:xfrm>
              <a:prstGeom prst="flowChartAlternateProcess">
                <a:avLst/>
              </a:prstGeom>
              <a:solidFill>
                <a:srgbClr val="000000">
                  <a:alpha val="3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176360" y="2854440"/>
                <a:ext cx="732960" cy="576000"/>
              </a:xfrm>
              <a:prstGeom prst="flowChartAlternateProcess">
                <a:avLst/>
              </a:prstGeom>
              <a:solidFill>
                <a:srgbClr val="000000">
                  <a:alpha val="3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907520" y="3357360"/>
                <a:ext cx="732960" cy="576360"/>
              </a:xfrm>
              <a:prstGeom prst="flowChartAlternateProcess">
                <a:avLst/>
              </a:prstGeom>
              <a:solidFill>
                <a:srgbClr val="000000">
                  <a:alpha val="3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572080" y="2867040"/>
                <a:ext cx="732960" cy="576360"/>
              </a:xfrm>
              <a:prstGeom prst="flowChartAlternateProcess">
                <a:avLst/>
              </a:prstGeom>
              <a:solidFill>
                <a:srgbClr val="000000">
                  <a:alpha val="3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265800" y="3357360"/>
                <a:ext cx="732600" cy="576360"/>
              </a:xfrm>
              <a:prstGeom prst="flowChartAlternateProcess">
                <a:avLst/>
              </a:prstGeom>
              <a:solidFill>
                <a:srgbClr val="000000">
                  <a:alpha val="3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953760" y="2781360"/>
                <a:ext cx="732960" cy="576000"/>
              </a:xfrm>
              <a:prstGeom prst="flowChartAlternateProcess">
                <a:avLst/>
              </a:prstGeom>
              <a:solidFill>
                <a:srgbClr val="000000">
                  <a:alpha val="3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87080" y="3357360"/>
                <a:ext cx="732600" cy="576360"/>
              </a:xfrm>
              <a:prstGeom prst="flowChartAlternateProcess">
                <a:avLst/>
              </a:prstGeom>
              <a:solidFill>
                <a:srgbClr val="000000">
                  <a:alpha val="3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410680" y="2781360"/>
                <a:ext cx="732960" cy="576000"/>
              </a:xfrm>
              <a:prstGeom prst="flowChartAlternateProcess">
                <a:avLst/>
              </a:prstGeom>
              <a:solidFill>
                <a:srgbClr val="000000">
                  <a:alpha val="3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" name=""/>
            <p:cNvSpPr txBox="1"/>
            <p:nvPr/>
          </p:nvSpPr>
          <p:spPr>
            <a:xfrm>
              <a:off x="574920" y="2463840"/>
              <a:ext cx="8208720" cy="1038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8000" spc="1" strike="noStrike">
                  <a:ln cap="sq" w="936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ff6600"/>
                      </a:gs>
                      <a:gs pos="100000">
                        <a:srgbClr val="ff0000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隶书"/>
                </a:rPr>
                <a:t>让好酒插上营销的翅膀</a:t>
              </a:r>
              <a:endParaRPr b="1" i="1" lang="en-US" sz="8000" spc="1" strike="noStrike">
                <a:ln cap="sq"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63640" y="3813120"/>
            <a:ext cx="7380360" cy="504720"/>
          </a:xfrm>
          <a:prstGeom prst="rect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39640" y="228240"/>
            <a:ext cx="649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ff"/>
                </a:solidFill>
                <a:latin typeface="幼圆"/>
              </a:rPr>
              <a:t>提 纲</a:t>
            </a:r>
            <a:endParaRPr b="1" lang="en-US" sz="4800" spc="-1" strike="noStrike">
              <a:solidFill>
                <a:srgbClr val="99ccff"/>
              </a:solidFill>
              <a:latin typeface="幼圆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284720" y="1228320"/>
            <a:ext cx="4557600" cy="52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背景介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问题及原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改进建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案例启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现场问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ff"/>
                </a:solidFill>
                <a:latin typeface="幼圆"/>
              </a:rPr>
              <a:t>改进建议</a:t>
            </a:r>
            <a:r>
              <a:rPr b="1" lang="zh-CN" sz="4800" spc="-1" strike="noStrike">
                <a:solidFill>
                  <a:srgbClr val="99ccff"/>
                </a:solidFill>
                <a:latin typeface="幼圆"/>
              </a:rPr>
              <a:t>[</a:t>
            </a:r>
            <a:r>
              <a:rPr b="1" lang="zh-CN" sz="4800" spc="-1" strike="noStrike">
                <a:solidFill>
                  <a:srgbClr val="99ccff"/>
                </a:solidFill>
                <a:latin typeface="幼圆"/>
              </a:rPr>
              <a:t>短期</a:t>
            </a:r>
            <a:r>
              <a:rPr b="1" lang="zh-CN" sz="4800" spc="-1" strike="noStrike">
                <a:solidFill>
                  <a:srgbClr val="99ccff"/>
                </a:solidFill>
                <a:latin typeface="幼圆"/>
              </a:rPr>
              <a:t>]</a:t>
            </a:r>
            <a:endParaRPr b="1" lang="en-US" sz="4800" spc="-1" strike="noStrike">
              <a:solidFill>
                <a:srgbClr val="99ccff"/>
              </a:solidFill>
              <a:latin typeface="幼圆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908000" y="796680"/>
            <a:ext cx="693432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重视支持营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完善营销方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          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—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做好市场调研、仔细核算、提高效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创新营销模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—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直击目标客户、节省成本、强调实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ff"/>
                </a:solidFill>
                <a:latin typeface="幼圆"/>
              </a:rPr>
              <a:t>改进建议</a:t>
            </a:r>
            <a:r>
              <a:rPr b="1" lang="zh-CN" sz="4800" spc="-1" strike="noStrike">
                <a:solidFill>
                  <a:srgbClr val="99ccff"/>
                </a:solidFill>
                <a:latin typeface="幼圆"/>
              </a:rPr>
              <a:t>[</a:t>
            </a:r>
            <a:r>
              <a:rPr b="1" lang="zh-CN" sz="4800" spc="-1" strike="noStrike">
                <a:solidFill>
                  <a:srgbClr val="99ccff"/>
                </a:solidFill>
                <a:latin typeface="幼圆"/>
              </a:rPr>
              <a:t>长期</a:t>
            </a:r>
            <a:r>
              <a:rPr b="1" lang="zh-CN" sz="4800" spc="-1" strike="noStrike">
                <a:solidFill>
                  <a:srgbClr val="99ccff"/>
                </a:solidFill>
                <a:latin typeface="幼圆"/>
              </a:rPr>
              <a:t>]</a:t>
            </a:r>
            <a:endParaRPr b="1" lang="en-US" sz="4800" spc="-1" strike="noStrike">
              <a:solidFill>
                <a:srgbClr val="99ccff"/>
              </a:solidFill>
              <a:latin typeface="幼圆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979640" y="1557000"/>
            <a:ext cx="69343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制定正确战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以产品为导向        客户为导向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2421000"/>
            <a:ext cx="533160" cy="141120"/>
          </a:xfrm>
          <a:prstGeom prst="rightArrow">
            <a:avLst>
              <a:gd name="adj1" fmla="val 50000"/>
              <a:gd name="adj2" fmla="val 94452"/>
            </a:avLst>
          </a:prstGeom>
          <a:solidFill>
            <a:srgbClr val="586f9e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038760" y="2693520"/>
            <a:ext cx="4536000" cy="3810960"/>
            <a:chOff x="3038760" y="2693520"/>
            <a:chExt cx="4536000" cy="3810960"/>
          </a:xfrm>
        </p:grpSpPr>
        <p:sp>
          <p:nvSpPr>
            <p:cNvPr id="145" name=""/>
            <p:cNvSpPr/>
            <p:nvPr/>
          </p:nvSpPr>
          <p:spPr>
            <a:xfrm>
              <a:off x="4481640" y="4022640"/>
              <a:ext cx="210960" cy="1634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bb7b7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00760" y="3784680"/>
              <a:ext cx="212760" cy="164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bb7b7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07240" y="4978440"/>
              <a:ext cx="210960" cy="1634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bb7b7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56160" y="5205240"/>
              <a:ext cx="212760" cy="163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bb7b7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52640" y="3530520"/>
              <a:ext cx="457920" cy="228600"/>
            </a:xfrm>
            <a:prstGeom prst="rect">
              <a:avLst/>
            </a:prstGeom>
            <a:solidFill>
              <a:srgbClr val="00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ffffff"/>
                  </a:solidFill>
                  <a:latin typeface="Arial"/>
                </a:rPr>
                <a:t>组织架构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08360" y="4067280"/>
              <a:ext cx="457920" cy="228600"/>
            </a:xfrm>
            <a:prstGeom prst="rect">
              <a:avLst/>
            </a:prstGeom>
            <a:solidFill>
              <a:srgbClr val="00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ffffff"/>
                  </a:solidFill>
                  <a:latin typeface="Arial"/>
                </a:rPr>
                <a:t>运营流程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88920" y="5410080"/>
              <a:ext cx="457920" cy="228600"/>
            </a:xfrm>
            <a:prstGeom prst="rect">
              <a:avLst/>
            </a:prstGeom>
            <a:solidFill>
              <a:srgbClr val="00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ffffff"/>
                  </a:solidFill>
                  <a:latin typeface="Arial"/>
                </a:rPr>
                <a:t>资源配置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650760" y="4784040"/>
              <a:ext cx="457920" cy="228600"/>
            </a:xfrm>
            <a:prstGeom prst="rect">
              <a:avLst/>
            </a:prstGeom>
            <a:solidFill>
              <a:srgbClr val="00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ffffff"/>
                  </a:solidFill>
                  <a:latin typeface="Arial"/>
                </a:rPr>
                <a:t>考评体系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9198000">
              <a:off x="4668840" y="4108320"/>
              <a:ext cx="1246320" cy="968400"/>
            </a:xfrm>
            <a:prstGeom prst="rect">
              <a:avLst/>
            </a:prstGeom>
            <a:solidFill>
              <a:srgbClr val="ccecff"/>
            </a:solidFill>
            <a:ln w="64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9198000">
              <a:off x="5135040" y="5041440"/>
              <a:ext cx="1419480" cy="1208160"/>
            </a:xfrm>
            <a:custGeom>
              <a:avLst/>
              <a:gdLst/>
              <a:ahLst/>
              <a:rect l="l" t="t" r="r" b="b"/>
              <a:pathLst>
                <a:path w="820" h="819">
                  <a:moveTo>
                    <a:pt x="0" y="0"/>
                  </a:moveTo>
                  <a:lnTo>
                    <a:pt x="0" y="819"/>
                  </a:lnTo>
                  <a:lnTo>
                    <a:pt x="820" y="819"/>
                  </a:lnTo>
                </a:path>
              </a:pathLst>
            </a:custGeom>
            <a:noFill/>
            <a:ln w="2232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4598000">
              <a:off x="3430440" y="4500360"/>
              <a:ext cx="1103400" cy="1557360"/>
            </a:xfrm>
            <a:custGeom>
              <a:avLst/>
              <a:gdLst/>
              <a:ahLst/>
              <a:rect l="l" t="t" r="r" b="b"/>
              <a:pathLst>
                <a:path w="820" h="819">
                  <a:moveTo>
                    <a:pt x="0" y="0"/>
                  </a:moveTo>
                  <a:lnTo>
                    <a:pt x="0" y="819"/>
                  </a:lnTo>
                  <a:lnTo>
                    <a:pt x="820" y="819"/>
                  </a:lnTo>
                </a:path>
              </a:pathLst>
            </a:custGeom>
            <a:noFill/>
            <a:ln w="2232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rot="3798600">
              <a:off x="4168080" y="2846160"/>
              <a:ext cx="1209600" cy="1406520"/>
            </a:xfrm>
            <a:custGeom>
              <a:avLst/>
              <a:gdLst/>
              <a:ahLst/>
              <a:rect l="l" t="t" r="r" b="b"/>
              <a:pathLst>
                <a:path w="820" h="819">
                  <a:moveTo>
                    <a:pt x="0" y="0"/>
                  </a:moveTo>
                  <a:lnTo>
                    <a:pt x="0" y="819"/>
                  </a:lnTo>
                  <a:lnTo>
                    <a:pt x="820" y="819"/>
                  </a:lnTo>
                </a:path>
              </a:pathLst>
            </a:custGeom>
            <a:noFill/>
            <a:ln w="2232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 rot="14598000">
              <a:off x="6081480" y="3129120"/>
              <a:ext cx="1100160" cy="1557360"/>
            </a:xfrm>
            <a:custGeom>
              <a:avLst/>
              <a:gdLst/>
              <a:ahLst/>
              <a:rect l="l" t="t" r="r" b="b"/>
              <a:pathLst>
                <a:path w="820" h="819">
                  <a:moveTo>
                    <a:pt x="0" y="0"/>
                  </a:moveTo>
                  <a:lnTo>
                    <a:pt x="0" y="819"/>
                  </a:lnTo>
                  <a:lnTo>
                    <a:pt x="820" y="819"/>
                  </a:lnTo>
                </a:path>
              </a:pathLst>
            </a:custGeom>
            <a:noFill/>
            <a:ln w="2232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966200" y="4371480"/>
              <a:ext cx="6483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005a58"/>
                  </a:solidFill>
                  <a:latin typeface="Arial"/>
                  <a:ea typeface="黑体"/>
                </a:rPr>
                <a:t>客户为导向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005a58"/>
                  </a:solidFill>
                  <a:latin typeface="Arial"/>
                  <a:ea typeface="黑体"/>
                </a:rPr>
                <a:t>战略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580000" y="3357720"/>
            <a:ext cx="3024360" cy="3166920"/>
          </a:xfrm>
          <a:prstGeom prst="ellipse">
            <a:avLst/>
          </a:prstGeom>
          <a:noFill/>
          <a:ln cap="sq"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12000" y="3860640"/>
            <a:ext cx="2089080" cy="2160720"/>
          </a:xfrm>
          <a:prstGeom prst="ellipse">
            <a:avLst/>
          </a:prstGeom>
          <a:solidFill>
            <a:srgbClr val="ff6600">
              <a:alpha val="60000"/>
            </a:srgbClr>
          </a:solidFill>
          <a:ln cap="sq"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228600"/>
            <a:ext cx="6933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ff"/>
                </a:solidFill>
                <a:latin typeface="幼圆"/>
                <a:ea typeface="幼圆"/>
              </a:rPr>
              <a:t>改进建议</a:t>
            </a:r>
            <a:r>
              <a:rPr b="1" lang="zh-CN" sz="4800" spc="-1" strike="noStrike">
                <a:solidFill>
                  <a:srgbClr val="99ccff"/>
                </a:solidFill>
                <a:latin typeface="幼圆"/>
                <a:ea typeface="幼圆"/>
              </a:rPr>
              <a:t>[</a:t>
            </a:r>
            <a:r>
              <a:rPr b="1" lang="zh-CN" sz="4800" spc="-1" strike="noStrike">
                <a:solidFill>
                  <a:srgbClr val="99ccff"/>
                </a:solidFill>
                <a:latin typeface="幼圆"/>
                <a:ea typeface="幼圆"/>
              </a:rPr>
              <a:t>长期</a:t>
            </a:r>
            <a:r>
              <a:rPr b="1" lang="zh-CN" sz="4800" spc="-1" strike="noStrike">
                <a:solidFill>
                  <a:srgbClr val="99ccff"/>
                </a:solidFill>
                <a:latin typeface="幼圆"/>
                <a:ea typeface="幼圆"/>
              </a:rPr>
              <a:t>]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79640" y="1557360"/>
            <a:ext cx="69343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制定正确战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以产品为导向        客户为导向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2421000"/>
            <a:ext cx="533160" cy="141120"/>
          </a:xfrm>
          <a:prstGeom prst="rightArrow">
            <a:avLst>
              <a:gd name="adj1" fmla="val 50000"/>
              <a:gd name="adj2" fmla="val 94452"/>
            </a:avLst>
          </a:prstGeom>
          <a:solidFill>
            <a:srgbClr val="586f9e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486480" y="4365720"/>
            <a:ext cx="1152720" cy="1150920"/>
          </a:xfrm>
          <a:prstGeom prst="ellipse">
            <a:avLst/>
          </a:prstGeom>
          <a:solidFill>
            <a:srgbClr val="5f5f5f"/>
          </a:solidFill>
          <a:ln cap="sq"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45240" y="55166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营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659640" y="472428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客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59640" y="60674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生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667640" y="390852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财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22920" y="390852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研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91280" y="3357720"/>
            <a:ext cx="0" cy="502920"/>
          </a:xfrm>
          <a:prstGeom prst="line">
            <a:avLst/>
          </a:prstGeom>
          <a:ln cap="sq"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985160" y="5473800"/>
            <a:ext cx="360360" cy="288720"/>
          </a:xfrm>
          <a:prstGeom prst="line">
            <a:avLst/>
          </a:prstGeom>
          <a:ln cap="sq"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6000" y="5445000"/>
            <a:ext cx="288720" cy="216000"/>
          </a:xfrm>
          <a:prstGeom prst="line">
            <a:avLst/>
          </a:prstGeom>
          <a:ln cap="sq"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24360" y="5157720"/>
            <a:ext cx="1009440" cy="647640"/>
          </a:xfrm>
          <a:prstGeom prst="rightArrow">
            <a:avLst>
              <a:gd name="adj1" fmla="val 50000"/>
              <a:gd name="adj2" fmla="val 38966"/>
            </a:avLst>
          </a:prstGeom>
          <a:solidFill>
            <a:srgbClr val="586f9e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411280" y="3213000"/>
            <a:ext cx="2016360" cy="1596960"/>
            <a:chOff x="2411280" y="3213000"/>
            <a:chExt cx="2016360" cy="1596960"/>
          </a:xfrm>
        </p:grpSpPr>
        <p:grpSp>
          <p:nvGrpSpPr>
            <p:cNvPr id="175" name=""/>
            <p:cNvGrpSpPr/>
            <p:nvPr/>
          </p:nvGrpSpPr>
          <p:grpSpPr>
            <a:xfrm>
              <a:off x="2411280" y="3213000"/>
              <a:ext cx="2016360" cy="1224000"/>
              <a:chOff x="2411280" y="3213000"/>
              <a:chExt cx="2016360" cy="1224000"/>
            </a:xfrm>
          </p:grpSpPr>
          <p:sp>
            <p:nvSpPr>
              <p:cNvPr id="176" name=""/>
              <p:cNvSpPr/>
              <p:nvPr/>
            </p:nvSpPr>
            <p:spPr>
              <a:xfrm>
                <a:off x="3449880" y="3825360"/>
                <a:ext cx="977760" cy="61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Arial"/>
                    <a:ea typeface="华文新魏"/>
                  </a:rPr>
                  <a:t>研发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411280" y="3825360"/>
                <a:ext cx="1038600" cy="611280"/>
              </a:xfrm>
              <a:prstGeom prst="rect">
                <a:avLst/>
              </a:prstGeom>
              <a:solidFill>
                <a:srgbClr val="ff66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Arial"/>
                    <a:ea typeface="华文新魏"/>
                  </a:rPr>
                  <a:t>营销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449880" y="3213000"/>
                <a:ext cx="97776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Arial"/>
                    <a:ea typeface="华文新魏"/>
                  </a:rPr>
                  <a:t>财务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411280" y="3213000"/>
                <a:ext cx="103860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Arial"/>
                    <a:ea typeface="华文新魏"/>
                  </a:rPr>
                  <a:t>生产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411280" y="3213000"/>
                <a:ext cx="201636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411280" y="3825360"/>
                <a:ext cx="2016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411280" y="4437000"/>
                <a:ext cx="201636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411280" y="3213000"/>
                <a:ext cx="0" cy="122400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449880" y="3213000"/>
                <a:ext cx="0" cy="1224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427640" y="3213000"/>
                <a:ext cx="0" cy="122400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6" name=""/>
            <p:cNvSpPr txBox="1"/>
            <p:nvPr/>
          </p:nvSpPr>
          <p:spPr>
            <a:xfrm>
              <a:off x="3051000" y="4581360"/>
              <a:ext cx="8002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1" strike="noStrike">
                  <a:ln cap="sq"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华文中宋"/>
                </a:rPr>
                <a:t>一般功能</a:t>
              </a:r>
              <a:endParaRPr b="0" lang="en-US" sz="1600" spc="1" strike="noStrike">
                <a:ln cap="sq"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华文中宋"/>
                <a:ea typeface="华文中宋"/>
              </a:endParaRPr>
            </a:p>
          </p:txBody>
        </p:sp>
      </p:grpSp>
      <p:sp>
        <p:nvSpPr>
          <p:cNvPr id="187" name=""/>
          <p:cNvSpPr txBox="1"/>
          <p:nvPr/>
        </p:nvSpPr>
        <p:spPr>
          <a:xfrm>
            <a:off x="5219640" y="6381720"/>
            <a:ext cx="800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cap="sq"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华文中宋"/>
              </a:rPr>
              <a:t>整体功能</a:t>
            </a:r>
            <a:endParaRPr b="0" lang="en-US" sz="1600" spc="1" strike="noStrike">
              <a:ln cap="sq"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华文中宋"/>
              <a:ea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ff"/>
                </a:solidFill>
                <a:latin typeface="幼圆"/>
              </a:rPr>
              <a:t>改进建议</a:t>
            </a:r>
            <a:r>
              <a:rPr b="1" lang="zh-CN" sz="4800" spc="-1" strike="noStrike">
                <a:solidFill>
                  <a:srgbClr val="99ccff"/>
                </a:solidFill>
                <a:latin typeface="幼圆"/>
              </a:rPr>
              <a:t>[</a:t>
            </a:r>
            <a:r>
              <a:rPr b="1" lang="zh-CN" sz="4800" spc="-1" strike="noStrike">
                <a:solidFill>
                  <a:srgbClr val="99ccff"/>
                </a:solidFill>
                <a:latin typeface="幼圆"/>
              </a:rPr>
              <a:t>长期</a:t>
            </a:r>
            <a:r>
              <a:rPr b="1" lang="zh-CN" sz="4800" spc="-1" strike="noStrike">
                <a:solidFill>
                  <a:srgbClr val="99ccff"/>
                </a:solidFill>
                <a:latin typeface="幼圆"/>
              </a:rPr>
              <a:t>]</a:t>
            </a:r>
            <a:endParaRPr b="1" lang="en-US" sz="4800" spc="-1" strike="noStrike">
              <a:solidFill>
                <a:srgbClr val="99ccff"/>
              </a:solidFill>
              <a:latin typeface="幼圆"/>
            </a:endParaRPr>
          </a:p>
        </p:txBody>
      </p:sp>
      <p:sp>
        <p:nvSpPr>
          <p:cNvPr id="189" name=""/>
          <p:cNvSpPr/>
          <p:nvPr/>
        </p:nvSpPr>
        <p:spPr>
          <a:xfrm>
            <a:off x="1979640" y="2060640"/>
            <a:ext cx="69343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明确使命定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为客户创造价值      受市场青睐的产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实施整合营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找准诉求焦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—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建设传播渠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—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创新营销策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—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防止过度营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6720" y="2711520"/>
            <a:ext cx="533520" cy="141120"/>
          </a:xfrm>
          <a:prstGeom prst="rightArrow">
            <a:avLst>
              <a:gd name="adj1" fmla="val 50000"/>
              <a:gd name="adj2" fmla="val 94515"/>
            </a:avLst>
          </a:prstGeom>
          <a:solidFill>
            <a:srgbClr val="586f9e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6461280" y="2997360"/>
            <a:ext cx="2431440" cy="2669760"/>
            <a:chOff x="6461280" y="2997360"/>
            <a:chExt cx="2431440" cy="2669760"/>
          </a:xfrm>
        </p:grpSpPr>
        <p:pic>
          <p:nvPicPr>
            <p:cNvPr id="192" name="" descr=""/>
            <p:cNvPicPr/>
            <p:nvPr/>
          </p:nvPicPr>
          <p:blipFill>
            <a:blip r:embed="rId2"/>
            <a:stretch/>
          </p:blipFill>
          <p:spPr>
            <a:xfrm>
              <a:off x="7827840" y="3213000"/>
              <a:ext cx="1064880" cy="133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6461280" y="2997360"/>
              <a:ext cx="1288800" cy="12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 rot="16200000">
              <a:off x="6558840" y="4265280"/>
              <a:ext cx="1590840" cy="1212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ff"/>
                </a:solidFill>
                <a:latin typeface="幼圆"/>
              </a:rPr>
              <a:t>改进建议</a:t>
            </a:r>
            <a:r>
              <a:rPr b="1" lang="zh-CN" sz="4800" spc="-1" strike="noStrike">
                <a:solidFill>
                  <a:srgbClr val="99ccff"/>
                </a:solidFill>
                <a:latin typeface="幼圆"/>
              </a:rPr>
              <a:t>[</a:t>
            </a:r>
            <a:r>
              <a:rPr b="1" lang="zh-CN" sz="4800" spc="-1" strike="noStrike">
                <a:solidFill>
                  <a:srgbClr val="99ccff"/>
                </a:solidFill>
                <a:latin typeface="幼圆"/>
              </a:rPr>
              <a:t>长期</a:t>
            </a:r>
            <a:r>
              <a:rPr b="1" lang="zh-CN" sz="4800" spc="-1" strike="noStrike">
                <a:solidFill>
                  <a:srgbClr val="99ccff"/>
                </a:solidFill>
                <a:latin typeface="幼圆"/>
              </a:rPr>
              <a:t>]</a:t>
            </a:r>
            <a:endParaRPr b="1" lang="en-US" sz="4800" spc="-1" strike="noStrike">
              <a:solidFill>
                <a:srgbClr val="99ccff"/>
              </a:solidFill>
              <a:latin typeface="幼圆"/>
            </a:endParaRPr>
          </a:p>
        </p:txBody>
      </p:sp>
      <p:sp>
        <p:nvSpPr>
          <p:cNvPr id="196" name=""/>
          <p:cNvSpPr/>
          <p:nvPr/>
        </p:nvSpPr>
        <p:spPr>
          <a:xfrm>
            <a:off x="1979640" y="1413000"/>
            <a:ext cx="693432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倡导精确营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—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分市场、寻找差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—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有效利用资源、提高营销效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形成文化合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—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和谐向上  全局观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—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沟通渠道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6732720" y="3429000"/>
            <a:ext cx="1979640" cy="2297160"/>
            <a:chOff x="6732720" y="3429000"/>
            <a:chExt cx="1979640" cy="2297160"/>
          </a:xfrm>
        </p:grpSpPr>
        <p:sp>
          <p:nvSpPr>
            <p:cNvPr id="198" name=""/>
            <p:cNvSpPr/>
            <p:nvPr/>
          </p:nvSpPr>
          <p:spPr>
            <a:xfrm>
              <a:off x="6732720" y="3429000"/>
              <a:ext cx="1979640" cy="2015640"/>
            </a:xfrm>
            <a:prstGeom prst="ellipse">
              <a:avLst/>
            </a:prstGeom>
            <a:solidFill>
              <a:srgbClr val="586f9e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066080" y="3763800"/>
              <a:ext cx="1332000" cy="1368000"/>
            </a:xfrm>
            <a:prstGeom prst="ellipse">
              <a:avLst/>
            </a:prstGeom>
            <a:solidFill>
              <a:srgbClr val="99cc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93320" y="4114440"/>
              <a:ext cx="649080" cy="647280"/>
            </a:xfrm>
            <a:prstGeom prst="ellipse">
              <a:avLst/>
            </a:prstGeom>
            <a:solidFill>
              <a:srgbClr val="ff66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7596200">
              <a:off x="6869880" y="4761000"/>
              <a:ext cx="1225440" cy="576360"/>
            </a:xfrm>
            <a:prstGeom prst="rightArrow">
              <a:avLst>
                <a:gd name="adj1" fmla="val 50000"/>
                <a:gd name="adj2" fmla="val 53154"/>
              </a:avLst>
            </a:prstGeom>
            <a:solidFill>
              <a:srgbClr val="ff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763640" y="4876920"/>
            <a:ext cx="7380360" cy="504720"/>
          </a:xfrm>
          <a:prstGeom prst="rect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339640" y="228240"/>
            <a:ext cx="649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ff"/>
                </a:solidFill>
                <a:latin typeface="幼圆"/>
              </a:rPr>
              <a:t>提 纲</a:t>
            </a:r>
            <a:endParaRPr b="1" lang="en-US" sz="4800" spc="-1" strike="noStrike">
              <a:solidFill>
                <a:srgbClr val="99ccff"/>
              </a:solidFill>
              <a:latin typeface="幼圆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284720" y="1228320"/>
            <a:ext cx="4557600" cy="52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背景介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问题及原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改进建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案例启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现场问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ff"/>
                </a:solidFill>
                <a:latin typeface="幼圆"/>
              </a:rPr>
              <a:t>案例启示</a:t>
            </a:r>
            <a:endParaRPr b="1" lang="en-US" sz="4800" spc="-1" strike="noStrike">
              <a:solidFill>
                <a:srgbClr val="99ccff"/>
              </a:solidFill>
              <a:latin typeface="幼圆"/>
            </a:endParaRPr>
          </a:p>
        </p:txBody>
      </p:sp>
      <p:sp>
        <p:nvSpPr>
          <p:cNvPr id="206" name=""/>
          <p:cNvSpPr/>
          <p:nvPr/>
        </p:nvSpPr>
        <p:spPr>
          <a:xfrm>
            <a:off x="1979640" y="2133720"/>
            <a:ext cx="69343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随需应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顾客为导向、市场为依托、创新为立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切合实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选好内容、找准工具、用对渠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最优效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投入最少、效率最高、效果最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763640" y="5877000"/>
            <a:ext cx="7380360" cy="504720"/>
          </a:xfrm>
          <a:prstGeom prst="rect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39640" y="228240"/>
            <a:ext cx="649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ff"/>
                </a:solidFill>
                <a:latin typeface="幼圆"/>
              </a:rPr>
              <a:t>提 纲</a:t>
            </a:r>
            <a:endParaRPr b="1" lang="en-US" sz="4800" spc="-1" strike="noStrike">
              <a:solidFill>
                <a:srgbClr val="99ccff"/>
              </a:solidFill>
              <a:latin typeface="幼圆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284720" y="1228320"/>
            <a:ext cx="4557600" cy="52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背景介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问题及原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改进建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案例启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现场问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ff"/>
                </a:solidFill>
                <a:latin typeface="幼圆"/>
              </a:rPr>
              <a:t>现场问答</a:t>
            </a:r>
            <a:endParaRPr b="1" lang="en-US" sz="4800" spc="-1" strike="noStrike">
              <a:solidFill>
                <a:srgbClr val="99ccff"/>
              </a:solidFill>
              <a:latin typeface="幼圆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635280" y="2779560"/>
            <a:ext cx="381636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华文中宋"/>
              </a:rPr>
              <a:t>谢  谢</a:t>
            </a:r>
            <a:endParaRPr b="0" lang="en-US" sz="5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华文中宋"/>
              <a:ea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763640" y="1785960"/>
            <a:ext cx="7380360" cy="504720"/>
          </a:xfrm>
          <a:prstGeom prst="rect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39640" y="228240"/>
            <a:ext cx="649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ff"/>
                </a:solidFill>
                <a:latin typeface="幼圆"/>
              </a:rPr>
              <a:t>提 纲</a:t>
            </a:r>
            <a:endParaRPr b="1" lang="en-US" sz="4800" spc="-1" strike="noStrike">
              <a:solidFill>
                <a:srgbClr val="99ccff"/>
              </a:solidFill>
              <a:latin typeface="幼圆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284720" y="1228320"/>
            <a:ext cx="4557600" cy="52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背景介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问题及原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改进建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案例启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现场问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ff"/>
                </a:solidFill>
                <a:latin typeface="幼圆"/>
              </a:rPr>
              <a:t>背景介绍</a:t>
            </a:r>
            <a:endParaRPr b="1" lang="en-US" sz="4800" spc="-1" strike="noStrike">
              <a:solidFill>
                <a:srgbClr val="99ccff"/>
              </a:solidFill>
              <a:latin typeface="幼圆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加州视觉工具公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视觉工具</a:t>
            </a:r>
            <a:r>
              <a:rPr b="0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2.0</a:t>
            </a:r>
            <a:r>
              <a:rPr b="0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是否需要大型营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视觉工具</a:t>
            </a:r>
            <a:r>
              <a:rPr b="0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1.0</a:t>
            </a:r>
            <a:r>
              <a:rPr b="0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已经成功推向市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吉姆正面临着进退两难的境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ff"/>
                </a:solidFill>
                <a:latin typeface="幼圆"/>
              </a:rPr>
              <a:t>背景介绍</a:t>
            </a:r>
            <a:endParaRPr b="1" lang="en-US" sz="4800" spc="-1" strike="noStrike">
              <a:solidFill>
                <a:srgbClr val="99ccff"/>
              </a:solidFill>
              <a:latin typeface="幼圆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7640" y="836280"/>
            <a:ext cx="74170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以前的成功是否意味着持续的领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只关注产品和技术能否领跑行业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763640" y="4653000"/>
            <a:ext cx="7380360" cy="1224000"/>
            <a:chOff x="1763640" y="4653000"/>
            <a:chExt cx="7380360" cy="1224000"/>
          </a:xfrm>
        </p:grpSpPr>
        <p:sp>
          <p:nvSpPr>
            <p:cNvPr id="111" name=""/>
            <p:cNvSpPr/>
            <p:nvPr/>
          </p:nvSpPr>
          <p:spPr>
            <a:xfrm>
              <a:off x="1763640" y="4653000"/>
              <a:ext cx="7380360" cy="1224000"/>
            </a:xfrm>
            <a:prstGeom prst="flowChartAlternateProcess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2284560" y="4826160"/>
              <a:ext cx="6184800" cy="86508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0">
                    <a:noFill/>
                  </a:ln>
                  <a:solidFill>
                    <a:srgbClr val="ffffff"/>
                  </a:solidFill>
                  <a:latin typeface="隶书"/>
                </a:rPr>
                <a:t>“</a:t>
              </a:r>
              <a:r>
                <a:rPr b="0" lang="zh-CN" sz="2800" spc="1" strike="noStrike">
                  <a:ln w="0">
                    <a:noFill/>
                  </a:ln>
                  <a:solidFill>
                    <a:srgbClr val="ffffff"/>
                  </a:solidFill>
                  <a:latin typeface="隶书"/>
                </a:rPr>
                <a:t>在工业与商业中，所有的事情都在更新。”</a:t>
              </a:r>
              <a:endParaRPr b="0" lang="en-US" sz="2800" spc="1" strike="noStrike">
                <a:ln w="0">
                  <a:noFill/>
                </a:ln>
                <a:solidFill>
                  <a:srgbClr val="ffffff"/>
                </a:solidFill>
                <a:latin typeface="隶书"/>
                <a:ea typeface="隶书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0">
                    <a:noFill/>
                  </a:ln>
                  <a:solidFill>
                    <a:srgbClr val="ffffff"/>
                  </a:solidFill>
                  <a:latin typeface="隶书"/>
                </a:rPr>
                <a:t>——</a:t>
              </a:r>
              <a:r>
                <a:rPr b="0" lang="zh-CN" sz="2800" spc="1" strike="noStrike">
                  <a:ln w="0">
                    <a:noFill/>
                  </a:ln>
                  <a:solidFill>
                    <a:srgbClr val="ffffff"/>
                  </a:solidFill>
                  <a:latin typeface="隶书"/>
                </a:rPr>
                <a:t>第一期《哈佛商业评论》封面语</a:t>
              </a:r>
              <a:endParaRPr b="0" lang="en-US" sz="2800" spc="1" strike="noStrike">
                <a:ln w="0">
                  <a:noFill/>
                </a:ln>
                <a:solidFill>
                  <a:srgbClr val="ffffff"/>
                </a:solidFill>
                <a:latin typeface="隶书"/>
                <a:ea typeface="隶书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763640" y="2827440"/>
            <a:ext cx="7380360" cy="504720"/>
          </a:xfrm>
          <a:prstGeom prst="rect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39640" y="228240"/>
            <a:ext cx="649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ff"/>
                </a:solidFill>
                <a:latin typeface="幼圆"/>
              </a:rPr>
              <a:t>提 纲</a:t>
            </a:r>
            <a:endParaRPr b="1" lang="en-US" sz="4800" spc="-1" strike="noStrike">
              <a:solidFill>
                <a:srgbClr val="99ccff"/>
              </a:solidFill>
              <a:latin typeface="幼圆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284720" y="1228320"/>
            <a:ext cx="4557600" cy="52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背景介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问题及原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改进建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案例启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现场问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ff"/>
                </a:solidFill>
                <a:latin typeface="幼圆"/>
              </a:rPr>
              <a:t>问题分析</a:t>
            </a:r>
            <a:endParaRPr b="1" lang="en-US" sz="4800" spc="-1" strike="noStrike">
              <a:solidFill>
                <a:srgbClr val="99ccff"/>
              </a:solidFill>
              <a:latin typeface="幼圆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174760" y="1844280"/>
            <a:ext cx="69343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产品优势</a:t>
            </a:r>
            <a:r>
              <a:rPr b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=</a:t>
            </a:r>
            <a:r>
              <a:rPr b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市场优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— “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产品好就能赢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—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只关注产品本身特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—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无视客户及市场变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短期优势</a:t>
            </a:r>
            <a:r>
              <a:rPr b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=</a:t>
            </a:r>
            <a:r>
              <a:rPr b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持续优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—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老产品没营销照样成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—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目前市场分额高，无需营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ff"/>
                </a:solidFill>
                <a:latin typeface="幼圆"/>
              </a:rPr>
              <a:t>问题分析</a:t>
            </a:r>
            <a:endParaRPr b="1" lang="en-US" sz="4800" spc="-1" strike="noStrike">
              <a:solidFill>
                <a:srgbClr val="99ccff"/>
              </a:solidFill>
              <a:latin typeface="幼圆"/>
            </a:endParaRPr>
          </a:p>
        </p:txBody>
      </p:sp>
      <p:sp>
        <p:nvSpPr>
          <p:cNvPr id="119" name=""/>
          <p:cNvSpPr/>
          <p:nvPr/>
        </p:nvSpPr>
        <p:spPr>
          <a:xfrm>
            <a:off x="2174760" y="1628640"/>
            <a:ext cx="69343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公司营销</a:t>
            </a:r>
            <a:r>
              <a:rPr b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=</a:t>
            </a:r>
            <a:r>
              <a:rPr b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产品促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—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将营销等同于销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部门角度</a:t>
            </a:r>
            <a:r>
              <a:rPr b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=</a:t>
            </a:r>
            <a:r>
              <a:rPr b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公司角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—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不顾“大我”，只看“小我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—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部门间及公司内沟通不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细黑"/>
              </a:rPr>
              <a:t>其他问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ff"/>
                </a:solidFill>
                <a:latin typeface="幼圆"/>
              </a:rPr>
              <a:t>原因分析</a:t>
            </a:r>
            <a:endParaRPr b="1" lang="en-US" sz="4800" spc="-1" strike="noStrike">
              <a:solidFill>
                <a:srgbClr val="99ccff"/>
              </a:solidFill>
              <a:latin typeface="幼圆"/>
            </a:endParaRPr>
          </a:p>
        </p:txBody>
      </p:sp>
      <p:sp>
        <p:nvSpPr>
          <p:cNvPr id="121" name=""/>
          <p:cNvSpPr/>
          <p:nvPr/>
        </p:nvSpPr>
        <p:spPr>
          <a:xfrm>
            <a:off x="2174760" y="1628640"/>
            <a:ext cx="693432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细黑"/>
              </a:rPr>
              <a:t>滞后的竞争战略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—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公司高层的技术背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—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产品导向根深蒂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—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大竞争因素分析不深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484360" y="4292280"/>
            <a:ext cx="6264360" cy="2161080"/>
            <a:chOff x="2484360" y="4292280"/>
            <a:chExt cx="6264360" cy="2161080"/>
          </a:xfrm>
        </p:grpSpPr>
        <p:sp>
          <p:nvSpPr>
            <p:cNvPr id="123" name=""/>
            <p:cNvSpPr/>
            <p:nvPr/>
          </p:nvSpPr>
          <p:spPr>
            <a:xfrm>
              <a:off x="4441680" y="4365720"/>
              <a:ext cx="2087640" cy="2087640"/>
            </a:xfrm>
            <a:prstGeom prst="ellipse">
              <a:avLst/>
            </a:prstGeom>
            <a:solidFill>
              <a:srgbClr val="ff6600">
                <a:alpha val="80000"/>
              </a:srgbClr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59280" y="5103720"/>
              <a:ext cx="1225440" cy="585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324480" y="5655960"/>
              <a:ext cx="2424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r" pos="8521560"/>
                  <a:tab algn="l" pos="8585280"/>
                  <a:tab algn="l" pos="8915400"/>
                  <a:tab algn="l" pos="9245520"/>
                  <a:tab algn="l" pos="9575640"/>
                  <a:tab algn="l" pos="9906120"/>
                  <a:tab algn="l" pos="10236240"/>
                  <a:tab algn="l" pos="10566360"/>
                  <a:tab algn="l" pos="108964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供应商议价能力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324480" y="4292280"/>
              <a:ext cx="2122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r" pos="8521560"/>
                  <a:tab algn="l" pos="8585280"/>
                  <a:tab algn="l" pos="8915400"/>
                  <a:tab algn="l" pos="9245520"/>
                  <a:tab algn="l" pos="9575640"/>
                  <a:tab algn="l" pos="9906120"/>
                  <a:tab algn="l" pos="10236240"/>
                  <a:tab algn="l" pos="10566360"/>
                  <a:tab algn="l" pos="108964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新进者的威胁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52760" y="5655960"/>
              <a:ext cx="2122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r" pos="8521560"/>
                  <a:tab algn="l" pos="8585280"/>
                  <a:tab algn="l" pos="8915400"/>
                  <a:tab algn="l" pos="9245520"/>
                  <a:tab algn="l" pos="9575640"/>
                  <a:tab algn="l" pos="9906120"/>
                  <a:tab algn="l" pos="10236240"/>
                  <a:tab algn="l" pos="10566360"/>
                  <a:tab algn="l" pos="108964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替代产品威胁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56000" y="4292280"/>
              <a:ext cx="2379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r" pos="8521560"/>
                  <a:tab algn="l" pos="8585280"/>
                  <a:tab algn="l" pos="8915400"/>
                  <a:tab algn="l" pos="9245520"/>
                  <a:tab algn="l" pos="9575640"/>
                  <a:tab algn="l" pos="9906120"/>
                  <a:tab algn="l" pos="10236240"/>
                  <a:tab algn="l" pos="10566360"/>
                  <a:tab algn="l" pos="108964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消费者议价能力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484360" y="4802040"/>
              <a:ext cx="2497320" cy="106560"/>
            </a:xfrm>
            <a:custGeom>
              <a:avLst/>
              <a:gdLst/>
              <a:ahLst/>
              <a:rect l="l" t="t" r="r" b="b"/>
              <a:pathLst>
                <a:path w="1982" h="214">
                  <a:moveTo>
                    <a:pt x="1982" y="214"/>
                  </a:moveTo>
                  <a:lnTo>
                    <a:pt x="1768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ccecff"/>
              </a:solidFill>
              <a:round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484360" y="5949360"/>
              <a:ext cx="2497320" cy="106200"/>
            </a:xfrm>
            <a:custGeom>
              <a:avLst/>
              <a:gdLst/>
              <a:ahLst/>
              <a:rect l="l" t="t" r="r" b="b"/>
              <a:pathLst>
                <a:path w="1982" h="214">
                  <a:moveTo>
                    <a:pt x="1982" y="214"/>
                  </a:moveTo>
                  <a:lnTo>
                    <a:pt x="1768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ccecff"/>
              </a:solidFill>
              <a:round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962680" y="4797360"/>
              <a:ext cx="2496960" cy="106560"/>
            </a:xfrm>
            <a:custGeom>
              <a:avLst/>
              <a:gdLst/>
              <a:ahLst/>
              <a:rect l="l" t="t" r="r" b="b"/>
              <a:pathLst>
                <a:path w="1982" h="214">
                  <a:moveTo>
                    <a:pt x="1982" y="214"/>
                  </a:moveTo>
                  <a:lnTo>
                    <a:pt x="1768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ccecff"/>
              </a:solidFill>
              <a:round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5998320" y="5914440"/>
              <a:ext cx="2497320" cy="106200"/>
            </a:xfrm>
            <a:custGeom>
              <a:avLst/>
              <a:gdLst/>
              <a:ahLst/>
              <a:rect l="l" t="t" r="r" b="b"/>
              <a:pathLst>
                <a:path w="1982" h="214">
                  <a:moveTo>
                    <a:pt x="1982" y="214"/>
                  </a:moveTo>
                  <a:lnTo>
                    <a:pt x="1768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ccecff"/>
              </a:solidFill>
              <a:round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27040" y="52228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4bb7b7"/>
                  </a:solidFill>
                  <a:latin typeface="Arial"/>
                </a:rPr>
                <a:t>业内竞争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ff"/>
                </a:solidFill>
                <a:latin typeface="幼圆"/>
              </a:rPr>
              <a:t>原因分析</a:t>
            </a:r>
            <a:endParaRPr b="1" lang="en-US" sz="4800" spc="-1" strike="noStrike">
              <a:solidFill>
                <a:srgbClr val="99ccff"/>
              </a:solidFill>
              <a:latin typeface="幼圆"/>
            </a:endParaRPr>
          </a:p>
        </p:txBody>
      </p:sp>
      <p:sp>
        <p:nvSpPr>
          <p:cNvPr id="135" name=""/>
          <p:cNvSpPr/>
          <p:nvPr/>
        </p:nvSpPr>
        <p:spPr>
          <a:xfrm>
            <a:off x="2209680" y="1484280"/>
            <a:ext cx="69343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细黑"/>
              </a:rPr>
              <a:t>狭隘的市场营销思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—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领导层对营销的认识停留在销售层次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— “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营销短视症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细黑"/>
              </a:rPr>
              <a:t>割裂的企业文化氛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—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重技术、 轻文化发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—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合力文化缺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—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缺乏双向沟通交流平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16:55:08Z</dcterms:created>
  <dc:creator>user</dc:creator>
  <dc:description/>
  <dc:language>en-US</dc:language>
  <cp:lastModifiedBy>wf</cp:lastModifiedBy>
  <dcterms:modified xsi:type="dcterms:W3CDTF">2005-12-06T14:15:59Z</dcterms:modified>
  <cp:revision>38</cp:revision>
  <dc:subject/>
  <dc:title>幻灯片 1</dc:title>
</cp:coreProperties>
</file>