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69CE-7FA3-4BE9-B80F-4849E3EE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0" y="3886200"/>
            <a:ext cx="6719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86000" y="4085280"/>
            <a:ext cx="6719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2461-0CA2-4866-AFBA-22C0732D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0" y="388620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29040" y="388620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86000" y="408528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729040" y="408528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5232-82C0-4087-97B9-C4AD32FA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0" y="3886200"/>
            <a:ext cx="2163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58320" y="3886200"/>
            <a:ext cx="2163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30280" y="3886200"/>
            <a:ext cx="2163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286000" y="4085280"/>
            <a:ext cx="2163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558320" y="4085280"/>
            <a:ext cx="2163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830280" y="4085280"/>
            <a:ext cx="2163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785C-D98F-4551-BDEC-30A7AB08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0352-BE07-45AD-8305-81A818A9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6000" y="3886200"/>
            <a:ext cx="6719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F20A-462B-45FA-9BEB-8532B4EC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0" y="3886200"/>
            <a:ext cx="6719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7369-84B7-433A-8FEC-FE9BD06C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0" y="3886200"/>
            <a:ext cx="3278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29040" y="3886200"/>
            <a:ext cx="3278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2F00-16F9-495E-A8FD-758FD8BA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9787-BD00-487D-A863-8B325E7D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2285640" y="3047760"/>
            <a:ext cx="670572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C110-3B34-4F18-867A-B8BA823F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388620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29040" y="3886200"/>
            <a:ext cx="3278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08528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11BC-0179-4C3E-87FB-6ACDF3B4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286000" y="3886200"/>
            <a:ext cx="6719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FB75-904D-4C93-80B1-8B80C107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3886200"/>
            <a:ext cx="3278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729040" y="388620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29040" y="408528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7062-B4BE-4E6C-A217-88071801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0" y="388620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729040" y="388620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6000" y="4085280"/>
            <a:ext cx="6719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2073-A77F-42A7-ADA9-0ACE1A9C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3886200"/>
            <a:ext cx="6719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6000" y="4085280"/>
            <a:ext cx="6719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9B85-96A8-489F-BD50-EDF08F1D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0" y="388620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729040" y="388620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6000" y="408528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729040" y="408528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313E-193C-42E9-BAFC-95DFAB27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0" y="3886200"/>
            <a:ext cx="2163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8320" y="3886200"/>
            <a:ext cx="2163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30280" y="3886200"/>
            <a:ext cx="2163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6000" y="4085280"/>
            <a:ext cx="2163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4558320" y="4085280"/>
            <a:ext cx="2163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830280" y="4085280"/>
            <a:ext cx="2163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DB32-9D32-4C75-A4F5-A7F698E2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0" y="3886200"/>
            <a:ext cx="6719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EE40-7730-421E-8579-4DD99F26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0" y="3886200"/>
            <a:ext cx="3278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29040" y="3886200"/>
            <a:ext cx="3278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865A-DDEE-4014-A318-953E4C54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377A-C2E8-4C0B-8D7A-722888F3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285640" y="3047760"/>
            <a:ext cx="670572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DB92-5CF6-4434-AEC2-B93FDAE3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0" y="388620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29040" y="3886200"/>
            <a:ext cx="3278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0" y="408528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959C-6F33-49F0-A857-CC5B3ABA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0" y="3886200"/>
            <a:ext cx="3278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29040" y="388620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29040" y="408528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69D2-4B18-4EB8-8214-00CFF263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0" y="388620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29040" y="388620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0" y="4085280"/>
            <a:ext cx="6719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6F02-6EA3-432E-873B-48CCDE09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68360" y="0"/>
            <a:ext cx="22323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912000" y="0"/>
            <a:ext cx="223200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0" y="0"/>
            <a:ext cx="22320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7347d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7347d"/>
                </a:solidFill>
                <a:latin typeface="Verdana"/>
                <a:ea typeface="宋体"/>
              </a:rPr>
              <a:t>复旦大学管理学院 东方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7347d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B24F-9B56-4366-8BE8-DC9DD7239300}" type="slidenum">
              <a:rPr b="0" lang="zh-CN" sz="1200" spc="-1" strike="noStrike">
                <a:solidFill>
                  <a:srgbClr val="17347d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03640" cy="716040"/>
          </a:xfrm>
          <a:prstGeom prst="rect">
            <a:avLst/>
          </a:prstGeom>
          <a:ln w="0">
            <a:noFill/>
          </a:ln>
        </p:spPr>
      </p:pic>
      <p:grpSp>
        <p:nvGrpSpPr>
          <p:cNvPr id="9" name="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10" name="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" name="" descr=""/>
          <p:cNvPicPr/>
          <p:nvPr/>
        </p:nvPicPr>
        <p:blipFill>
          <a:blip r:embed="rId5"/>
          <a:stretch/>
        </p:blipFill>
        <p:spPr>
          <a:xfrm>
            <a:off x="468360" y="6359400"/>
            <a:ext cx="1257120" cy="49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0" y="0"/>
            <a:ext cx="2286000" cy="3124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22096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0"/>
            <a:ext cx="2209680" cy="3124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0"/>
            <a:ext cx="2209680" cy="3124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3124080"/>
            <a:ext cx="6858000" cy="60984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124080"/>
            <a:ext cx="9144000" cy="15264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551640"/>
            <a:ext cx="213372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7347d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7347d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7347d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7347d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7347d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078D-E234-4E4C-BC82-46607B4774DB}" type="slidenum">
              <a:rPr b="0" lang="zh-CN" sz="1200" spc="-1" strike="noStrike">
                <a:solidFill>
                  <a:srgbClr val="17347d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276640" cy="685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7347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7347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7347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香飘万里   需借东风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-252360" y="4508280"/>
            <a:ext cx="67197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347d"/>
                </a:solidFill>
                <a:latin typeface="Verdana"/>
                <a:ea typeface="宋体"/>
              </a:rPr>
              <a:t>哈佛商业案例评论大赛 复旦大学管理学院</a:t>
            </a:r>
            <a:r>
              <a:rPr b="1" lang="en-US" sz="2000" spc="-1" strike="noStrike">
                <a:solidFill>
                  <a:srgbClr val="17347d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17347d"/>
                </a:solidFill>
                <a:latin typeface="Verdana"/>
                <a:ea typeface="宋体"/>
              </a:rPr>
              <a:t>东方队</a:t>
            </a: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347d"/>
                </a:solidFill>
                <a:latin typeface="Verdana"/>
                <a:ea typeface="宋体"/>
              </a:rPr>
              <a:t>                                 </a:t>
            </a: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3860640"/>
            <a:ext cx="3591000" cy="505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511800" y="501336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347d"/>
                </a:solidFill>
                <a:latin typeface="Arial"/>
                <a:ea typeface="宋体"/>
              </a:rPr>
              <a:t>季军 纪晓华 张婷 张智强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战略营销是必由之路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346040" y="2997360"/>
            <a:ext cx="6105600" cy="1226880"/>
            <a:chOff x="1346040" y="2997360"/>
            <a:chExt cx="6105600" cy="1226880"/>
          </a:xfrm>
        </p:grpSpPr>
        <p:sp>
          <p:nvSpPr>
            <p:cNvPr id="243" name=""/>
            <p:cNvSpPr/>
            <p:nvPr/>
          </p:nvSpPr>
          <p:spPr>
            <a:xfrm>
              <a:off x="1346040" y="2997360"/>
              <a:ext cx="6105600" cy="12268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76360" y="3141720"/>
              <a:ext cx="1206360" cy="10033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b4b4fe"/>
                </a:gs>
                <a:gs pos="100000">
                  <a:srgbClr val="9999ff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44760" y="3174840"/>
              <a:ext cx="601560" cy="5018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ff">
                    <a:alpha val="0"/>
                  </a:srgbClr>
                </a:gs>
                <a:gs pos="100000">
                  <a:srgbClr val="d2d2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76360" y="3429000"/>
              <a:ext cx="1352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734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营销作用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71640" y="3106800"/>
              <a:ext cx="460404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17347d"/>
                  </a:solidFill>
                  <a:latin typeface="Arial"/>
                  <a:ea typeface="宋体"/>
                </a:rPr>
                <a:t>树立企业形象，打造品牌市场，扩大市场份</a:t>
              </a:r>
              <a:endParaRPr b="0" lang="en-US" sz="1700" spc="-1" strike="noStrike">
                <a:solidFill>
                  <a:srgbClr val="17347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17347d"/>
                  </a:solidFill>
                  <a:latin typeface="Arial"/>
                  <a:ea typeface="宋体"/>
                </a:rPr>
                <a:t>额，增加企业收益，提高股东回报。</a:t>
              </a:r>
              <a:endParaRPr b="0" lang="en-US" sz="17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332000" y="4437000"/>
            <a:ext cx="6119640" cy="1228680"/>
            <a:chOff x="1332000" y="4437000"/>
            <a:chExt cx="6119640" cy="1228680"/>
          </a:xfrm>
        </p:grpSpPr>
        <p:sp>
          <p:nvSpPr>
            <p:cNvPr id="249" name=""/>
            <p:cNvSpPr/>
            <p:nvPr/>
          </p:nvSpPr>
          <p:spPr>
            <a:xfrm>
              <a:off x="1332000" y="4437000"/>
              <a:ext cx="611964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61960" y="4581360"/>
              <a:ext cx="1236960" cy="10051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8c8ab"/>
                </a:gs>
                <a:gs pos="100000">
                  <a:srgbClr val="45ab7d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19200" y="4649760"/>
              <a:ext cx="617400" cy="5018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45ab7d">
                    <a:alpha val="0"/>
                  </a:srgbClr>
                </a:gs>
                <a:gs pos="100000">
                  <a:srgbClr val="a3d5b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76360" y="4869000"/>
              <a:ext cx="14749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734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营销成本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79560" y="4581360"/>
              <a:ext cx="467208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17347d"/>
                  </a:solidFill>
                  <a:latin typeface="Arial"/>
                  <a:ea typeface="宋体"/>
                </a:rPr>
                <a:t>分摊费用</a:t>
              </a:r>
              <a:r>
                <a:rPr b="1" lang="en-US" sz="1700" spc="-1" strike="noStrike">
                  <a:solidFill>
                    <a:srgbClr val="17347d"/>
                  </a:solidFill>
                  <a:latin typeface="Arial"/>
                  <a:ea typeface="宋体"/>
                </a:rPr>
                <a:t>—</a:t>
              </a:r>
              <a:r>
                <a:rPr b="1" lang="zh-CN" sz="1700" spc="-1" strike="noStrike">
                  <a:solidFill>
                    <a:srgbClr val="17347d"/>
                  </a:solidFill>
                  <a:latin typeface="Arial"/>
                  <a:ea typeface="宋体"/>
                </a:rPr>
                <a:t>单位营销成本较低。</a:t>
              </a:r>
              <a:endParaRPr b="0" lang="en-US" sz="1700" spc="-1" strike="noStrike">
                <a:solidFill>
                  <a:srgbClr val="17347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17347d"/>
                  </a:solidFill>
                  <a:latin typeface="Arial"/>
                  <a:ea typeface="宋体"/>
                </a:rPr>
                <a:t>需求价格弹性较小</a:t>
              </a:r>
              <a:r>
                <a:rPr b="1" lang="en-US" sz="1700" spc="-1" strike="noStrike">
                  <a:solidFill>
                    <a:srgbClr val="17347d"/>
                  </a:solidFill>
                  <a:latin typeface="Arial"/>
                  <a:ea typeface="宋体"/>
                </a:rPr>
                <a:t>—</a:t>
              </a:r>
              <a:r>
                <a:rPr b="1" lang="zh-CN" sz="1700" spc="-1" strike="noStrike">
                  <a:solidFill>
                    <a:srgbClr val="17347d"/>
                  </a:solidFill>
                  <a:latin typeface="Arial"/>
                  <a:ea typeface="宋体"/>
                </a:rPr>
                <a:t>对销量影响较低。 </a:t>
              </a:r>
              <a:endParaRPr b="0" lang="en-US" sz="17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330200" y="1609560"/>
            <a:ext cx="6121440" cy="1229040"/>
            <a:chOff x="1330200" y="1609560"/>
            <a:chExt cx="6121440" cy="1229040"/>
          </a:xfrm>
        </p:grpSpPr>
        <p:sp>
          <p:nvSpPr>
            <p:cNvPr id="255" name=""/>
            <p:cNvSpPr/>
            <p:nvPr/>
          </p:nvSpPr>
          <p:spPr>
            <a:xfrm>
              <a:off x="3203640" y="1773360"/>
              <a:ext cx="3825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30200" y="1609560"/>
              <a:ext cx="6121440" cy="12290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1476360" y="1700280"/>
              <a:ext cx="1220400" cy="1004760"/>
              <a:chOff x="1476360" y="1700280"/>
              <a:chExt cx="1220400" cy="1004760"/>
            </a:xfrm>
          </p:grpSpPr>
          <p:sp>
            <p:nvSpPr>
              <p:cNvPr id="258" name=""/>
              <p:cNvSpPr/>
              <p:nvPr/>
            </p:nvSpPr>
            <p:spPr>
              <a:xfrm>
                <a:off x="1476360" y="1700280"/>
                <a:ext cx="1220400" cy="10047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7b7e7"/>
                  </a:gs>
                  <a:gs pos="100000">
                    <a:srgbClr val="527fa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552680" y="1764720"/>
                <a:ext cx="608400" cy="5022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4d6f0"/>
                  </a:gs>
                  <a:gs pos="50000">
                    <a:srgbClr val="77b7e7">
                      <a:alpha val="0"/>
                    </a:srgbClr>
                  </a:gs>
                  <a:gs pos="100000">
                    <a:srgbClr val="b4d6f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86480" y="1954800"/>
                <a:ext cx="176040" cy="518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7347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1476360" y="1989000"/>
              <a:ext cx="14828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734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战略营销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27360" y="1768320"/>
              <a:ext cx="4533840" cy="7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17347d"/>
                  </a:solidFill>
                  <a:latin typeface="Arial"/>
                  <a:ea typeface="宋体"/>
                </a:rPr>
                <a:t>市场环境瞬息万变，需要实施新的营销策略。</a:t>
              </a:r>
              <a:endParaRPr b="0" lang="en-US" sz="1700" spc="-1" strike="noStrike">
                <a:solidFill>
                  <a:srgbClr val="17347d"/>
                </a:solidFill>
                <a:latin typeface="Arial"/>
              </a:endParaRPr>
            </a:p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17347d"/>
                  </a:solidFill>
                  <a:latin typeface="Arial"/>
                  <a:ea typeface="宋体"/>
                </a:rPr>
                <a:t>营销活动与公司未来的产品协调发展。</a:t>
              </a:r>
              <a:endParaRPr b="0" lang="en-US" sz="17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启示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937120" y="1908000"/>
            <a:ext cx="2170080" cy="4035600"/>
            <a:chOff x="5937120" y="1908000"/>
            <a:chExt cx="2170080" cy="4035600"/>
          </a:xfrm>
        </p:grpSpPr>
        <p:sp>
          <p:nvSpPr>
            <p:cNvPr id="265" name=""/>
            <p:cNvSpPr/>
            <p:nvPr/>
          </p:nvSpPr>
          <p:spPr>
            <a:xfrm>
              <a:off x="5943240" y="22158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976720" y="2224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94000" y="42876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994000" y="22460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6687720" y="1908000"/>
              <a:ext cx="642960" cy="642960"/>
              <a:chOff x="6687720" y="1908000"/>
              <a:chExt cx="642960" cy="642960"/>
            </a:xfrm>
          </p:grpSpPr>
          <p:sp>
            <p:nvSpPr>
              <p:cNvPr id="270" name=""/>
              <p:cNvSpPr/>
              <p:nvPr/>
            </p:nvSpPr>
            <p:spPr>
              <a:xfrm>
                <a:off x="668772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69420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702120" y="1916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70860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74244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682812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19560" y="267012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66cc"/>
                  </a:solidFill>
                  <a:latin typeface="Arial"/>
                  <a:ea typeface="宋体"/>
                </a:rPr>
                <a:t>高科技企业必须提高科技的专利意识、做好知识产权的保护。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3712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8140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225440" y="1908000"/>
            <a:ext cx="2163960" cy="4035600"/>
            <a:chOff x="1225440" y="1908000"/>
            <a:chExt cx="2163960" cy="4035600"/>
          </a:xfrm>
        </p:grpSpPr>
        <p:sp>
          <p:nvSpPr>
            <p:cNvPr id="280" name=""/>
            <p:cNvSpPr/>
            <p:nvPr/>
          </p:nvSpPr>
          <p:spPr>
            <a:xfrm>
              <a:off x="1295280" y="2670120"/>
              <a:ext cx="20574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17347d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58920" y="2268360"/>
              <a:ext cx="2098800" cy="280368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3">
                  <a:moveTo>
                    <a:pt x="3600" y="0"/>
                  </a:moveTo>
                  <a:arcTo wR="3600" hR="3600" stAng="16200000" swAng="-5400000"/>
                  <a:lnTo>
                    <a:pt x="0" y="25253"/>
                  </a:lnTo>
                  <a:arcTo wR="3600" hR="3600" stAng="10800000" swAng="-5400000"/>
                  <a:lnTo>
                    <a:pt x="18000" y="288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76200" y="50785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71520" y="43149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71520" y="2301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25440" y="50734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70080" y="509760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963800" y="1908000"/>
              <a:ext cx="642960" cy="642960"/>
              <a:chOff x="1963800" y="1908000"/>
              <a:chExt cx="642960" cy="642960"/>
            </a:xfrm>
          </p:grpSpPr>
          <p:sp>
            <p:nvSpPr>
              <p:cNvPr id="288" name=""/>
              <p:cNvSpPr/>
              <p:nvPr/>
            </p:nvSpPr>
            <p:spPr>
              <a:xfrm>
                <a:off x="196380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7028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78200" y="1916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468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01852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210384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78000" y="3009960"/>
              <a:ext cx="199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在客户为导向的市场环境中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,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营销是树立公司形象和品牌形象的有效途径 。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581280" y="1908000"/>
            <a:ext cx="2166840" cy="4035600"/>
            <a:chOff x="3581280" y="1908000"/>
            <a:chExt cx="2166840" cy="4035600"/>
          </a:xfrm>
        </p:grpSpPr>
        <p:sp>
          <p:nvSpPr>
            <p:cNvPr id="296" name=""/>
            <p:cNvSpPr/>
            <p:nvPr/>
          </p:nvSpPr>
          <p:spPr>
            <a:xfrm>
              <a:off x="358128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614400" y="2224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3204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63204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25760" y="19080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331880" y="19126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40160" y="19159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46280" y="19224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81200" y="19382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6580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657240" y="267012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7347d"/>
                  </a:solidFill>
                  <a:latin typeface="Arial"/>
                  <a:ea typeface="宋体"/>
                </a:rPr>
                <a:t>管理层应该高瞻远瞩具备战略眼光。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84160" y="50734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2880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819160" y="495252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edit company slogan .</a:t>
            </a:r>
            <a:endParaRPr b="0" lang="en-US" sz="18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438280" y="32767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复旦大学管理学院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东方队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286000" y="4191120"/>
            <a:ext cx="5029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17347d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17347d"/>
                  </a:gs>
                </a:gsLst>
                <a:lin ang="108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总体大纲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268360" y="1628640"/>
            <a:ext cx="4724280" cy="685800"/>
            <a:chOff x="2268360" y="1628640"/>
            <a:chExt cx="4724280" cy="685800"/>
          </a:xfrm>
        </p:grpSpPr>
        <p:sp>
          <p:nvSpPr>
            <p:cNvPr id="104" name=""/>
            <p:cNvSpPr/>
            <p:nvPr/>
          </p:nvSpPr>
          <p:spPr>
            <a:xfrm>
              <a:off x="2649240" y="174780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45ab7d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68360" y="1628640"/>
              <a:ext cx="685800" cy="685800"/>
            </a:xfrm>
            <a:prstGeom prst="diamond">
              <a:avLst/>
            </a:prstGeom>
            <a:solidFill>
              <a:srgbClr val="45ab7d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77840" y="180324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7347d"/>
                  </a:solidFill>
                  <a:latin typeface="Arial"/>
                  <a:ea typeface="宋体"/>
                </a:rPr>
                <a:t>背景介绍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24240" y="1727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268360" y="2708280"/>
            <a:ext cx="4724280" cy="685800"/>
            <a:chOff x="2268360" y="2708280"/>
            <a:chExt cx="4724280" cy="685800"/>
          </a:xfrm>
        </p:grpSpPr>
        <p:sp>
          <p:nvSpPr>
            <p:cNvPr id="109" name=""/>
            <p:cNvSpPr/>
            <p:nvPr/>
          </p:nvSpPr>
          <p:spPr>
            <a:xfrm>
              <a:off x="2649240" y="282744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77b7e7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68360" y="2708280"/>
              <a:ext cx="685800" cy="685800"/>
            </a:xfrm>
            <a:prstGeom prst="diamond">
              <a:avLst/>
            </a:prstGeom>
            <a:solidFill>
              <a:srgbClr val="77b7e7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77840" y="2882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7347d"/>
                  </a:solidFill>
                  <a:latin typeface="Arial"/>
                  <a:ea typeface="宋体"/>
                </a:rPr>
                <a:t>CVJ</a:t>
              </a:r>
              <a:r>
                <a:rPr b="1" lang="zh-CN" sz="1800" spc="-1" strike="noStrike">
                  <a:solidFill>
                    <a:srgbClr val="17347d"/>
                  </a:solidFill>
                  <a:latin typeface="Arial"/>
                  <a:ea typeface="宋体"/>
                </a:rPr>
                <a:t>的</a:t>
              </a:r>
              <a:r>
                <a:rPr b="1" lang="zh-CN" sz="1800" spc="-1" strike="noStrike">
                  <a:solidFill>
                    <a:srgbClr val="17347d"/>
                  </a:solidFill>
                  <a:latin typeface="Arial"/>
                  <a:ea typeface="宋体"/>
                </a:rPr>
                <a:t>SWOT</a:t>
              </a:r>
              <a:r>
                <a:rPr b="1" lang="zh-CN" sz="1800" spc="-1" strike="noStrike">
                  <a:solidFill>
                    <a:srgbClr val="17347d"/>
                  </a:solidFill>
                  <a:latin typeface="Arial"/>
                  <a:ea typeface="宋体"/>
                </a:rPr>
                <a:t>分析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24240" y="280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281320" y="3697200"/>
            <a:ext cx="4724280" cy="685800"/>
            <a:chOff x="2281320" y="3697200"/>
            <a:chExt cx="4724280" cy="685800"/>
          </a:xfrm>
        </p:grpSpPr>
        <p:sp>
          <p:nvSpPr>
            <p:cNvPr id="114" name=""/>
            <p:cNvSpPr/>
            <p:nvPr/>
          </p:nvSpPr>
          <p:spPr>
            <a:xfrm>
              <a:off x="2843280" y="3852720"/>
              <a:ext cx="364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7347d"/>
                  </a:solidFill>
                  <a:latin typeface="Arial"/>
                  <a:ea typeface="宋体"/>
                </a:rPr>
                <a:t>战略营销是必由之路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2281320" y="3697200"/>
              <a:ext cx="4724280" cy="685800"/>
              <a:chOff x="2281320" y="3697200"/>
              <a:chExt cx="4724280" cy="685800"/>
            </a:xfrm>
          </p:grpSpPr>
          <p:sp>
            <p:nvSpPr>
              <p:cNvPr id="116" name=""/>
              <p:cNvSpPr/>
              <p:nvPr/>
            </p:nvSpPr>
            <p:spPr>
              <a:xfrm>
                <a:off x="2662200" y="3782880"/>
                <a:ext cx="4343400" cy="45720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  <a:effectLst>
                <a:outerShdw dist="99192" dir="2381944" blurRad="0" rotWithShape="0">
                  <a:srgbClr val="ddddd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281320" y="3697200"/>
                <a:ext cx="685800" cy="685800"/>
              </a:xfrm>
              <a:prstGeom prst="diamond">
                <a:avLst/>
              </a:prstGeom>
              <a:solidFill>
                <a:srgbClr val="969696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413440" y="3789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"/>
          <p:cNvGrpSpPr/>
          <p:nvPr/>
        </p:nvGrpSpPr>
        <p:grpSpPr>
          <a:xfrm>
            <a:off x="2268360" y="4664160"/>
            <a:ext cx="4724640" cy="685800"/>
            <a:chOff x="2268360" y="4664160"/>
            <a:chExt cx="4724640" cy="685800"/>
          </a:xfrm>
        </p:grpSpPr>
        <p:sp>
          <p:nvSpPr>
            <p:cNvPr id="120" name=""/>
            <p:cNvSpPr/>
            <p:nvPr/>
          </p:nvSpPr>
          <p:spPr>
            <a:xfrm>
              <a:off x="2843280" y="4797360"/>
              <a:ext cx="364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7347d"/>
                  </a:solidFill>
                  <a:latin typeface="Arial"/>
                  <a:ea typeface="宋体"/>
                </a:rPr>
                <a:t>案例启示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49600" y="478296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cc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68360" y="4664160"/>
              <a:ext cx="685800" cy="685800"/>
            </a:xfrm>
            <a:prstGeom prst="diamond">
              <a:avLst/>
            </a:prstGeom>
            <a:solidFill>
              <a:srgbClr val="ff99cc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24600" y="476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VM1.0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功原因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 rot="3418800">
            <a:off x="7275240" y="1589040"/>
            <a:ext cx="924120" cy="10029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73560" y="2905200"/>
            <a:ext cx="1715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5f5f"/>
                </a:solidFill>
                <a:latin typeface="Arial"/>
                <a:ea typeface="宋体"/>
              </a:rPr>
              <a:t>企业销售收入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$30 Millio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5f5f"/>
                </a:solidFill>
                <a:latin typeface="Arial"/>
                <a:ea typeface="宋体"/>
              </a:rPr>
              <a:t>市场占有率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5f5f"/>
                </a:solidFill>
                <a:latin typeface="Arial"/>
                <a:ea typeface="宋体"/>
              </a:rPr>
              <a:t>企业市值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$100 Millio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77b7e7"/>
              </a:gs>
              <a:gs pos="100000">
                <a:srgbClr val="36546a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5240" y="2421000"/>
            <a:ext cx="12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以往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图形系统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45ab7d"/>
              </a:gs>
              <a:gs pos="100000">
                <a:srgbClr val="1f4e39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33560" y="45324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VM 1.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10520" y="1700280"/>
            <a:ext cx="8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绝对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VM1.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809880" y="2276280"/>
            <a:ext cx="3498840" cy="20890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图形动画系统发展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57800" y="5495760"/>
            <a:ext cx="10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5f5f"/>
                </a:solidFill>
                <a:latin typeface="Arial"/>
                <a:ea typeface="宋体"/>
              </a:rPr>
              <a:t>可在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PC</a:t>
            </a:r>
            <a:r>
              <a:rPr b="0" lang="zh-CN" sz="1400" spc="-1" strike="noStrike">
                <a:solidFill>
                  <a:srgbClr val="5f5f5f"/>
                </a:solidFill>
                <a:latin typeface="Arial"/>
                <a:ea typeface="宋体"/>
              </a:rPr>
              <a:t>上使用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5f5f"/>
                </a:solidFill>
                <a:latin typeface="Arial"/>
                <a:ea typeface="宋体"/>
              </a:rPr>
              <a:t>售价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$10,000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6400" y="357984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5f5f"/>
                </a:solidFill>
                <a:latin typeface="Arial"/>
                <a:ea typeface="宋体"/>
              </a:rPr>
              <a:t>只可在工作站上使用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5f5f"/>
                </a:solidFill>
                <a:latin typeface="Arial"/>
                <a:ea typeface="宋体"/>
              </a:rPr>
              <a:t>售价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$90,000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VM1.0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优势的没落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003640" y="2401920"/>
          <a:ext cx="3961080" cy="298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2401920"/>
                    <a:ext cx="3961080" cy="29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95440" y="2397240"/>
          <a:ext cx="5195880" cy="2768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5440" y="2397240"/>
                    <a:ext cx="519588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900000" y="5013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184464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17347d"/>
                </a:solidFill>
                <a:uFillTx/>
                <a:latin typeface="Arial"/>
                <a:ea typeface="宋体"/>
              </a:rPr>
              <a:t>过去占据市场领导地位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64000" y="5445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17347d"/>
                </a:solidFill>
                <a:uFillTx/>
                <a:latin typeface="Arial"/>
                <a:ea typeface="宋体"/>
              </a:rPr>
              <a:t>现在产品优势正在削弱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企业的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SWOT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分析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9640" y="1341360"/>
            <a:ext cx="8207280" cy="4897440"/>
            <a:chOff x="539640" y="1341360"/>
            <a:chExt cx="8207280" cy="4897440"/>
          </a:xfrm>
        </p:grpSpPr>
        <p:sp>
          <p:nvSpPr>
            <p:cNvPr id="148" name=""/>
            <p:cNvSpPr/>
            <p:nvPr/>
          </p:nvSpPr>
          <p:spPr>
            <a:xfrm>
              <a:off x="539640" y="1341360"/>
              <a:ext cx="4032360" cy="2376360"/>
            </a:xfrm>
            <a:prstGeom prst="rect">
              <a:avLst/>
            </a:prstGeom>
            <a:gradFill rotWithShape="0">
              <a:gsLst>
                <a:gs pos="0">
                  <a:srgbClr val="b1c0df">
                    <a:alpha val="59215"/>
                  </a:srgbClr>
                </a:gs>
                <a:gs pos="100000">
                  <a:srgbClr val="003399">
                    <a:alpha val="4901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9640" y="3862080"/>
              <a:ext cx="4032360" cy="2374920"/>
            </a:xfrm>
            <a:prstGeom prst="rect">
              <a:avLst/>
            </a:prstGeom>
            <a:gradFill rotWithShape="0">
              <a:gsLst>
                <a:gs pos="0">
                  <a:srgbClr val="c6e4d6">
                    <a:alpha val="26274"/>
                  </a:srgbClr>
                </a:gs>
                <a:gs pos="100000">
                  <a:srgbClr val="45ab7d">
                    <a:alpha val="6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14560" y="1341360"/>
              <a:ext cx="4032360" cy="2376360"/>
            </a:xfrm>
            <a:prstGeom prst="rect">
              <a:avLst/>
            </a:prstGeom>
            <a:gradFill rotWithShape="0">
              <a:gsLst>
                <a:gs pos="0">
                  <a:srgbClr val="fefeb1">
                    <a:alpha val="64313"/>
                  </a:srgbClr>
                </a:gs>
                <a:gs pos="100000">
                  <a:srgbClr val="ffff00">
                    <a:alpha val="2705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14560" y="3862080"/>
              <a:ext cx="4032360" cy="2376720"/>
            </a:xfrm>
            <a:prstGeom prst="rect">
              <a:avLst/>
            </a:prstGeom>
            <a:gradFill rotWithShape="0">
              <a:gsLst>
                <a:gs pos="0">
                  <a:srgbClr val="e2b1bb">
                    <a:alpha val="59215"/>
                  </a:srgbClr>
                </a:gs>
                <a:gs pos="100000">
                  <a:srgbClr val="a50021">
                    <a:alpha val="4901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539640" y="1341360"/>
              <a:ext cx="8207280" cy="4895640"/>
              <a:chOff x="539640" y="1341360"/>
              <a:chExt cx="8207280" cy="4895640"/>
            </a:xfrm>
          </p:grpSpPr>
          <p:sp>
            <p:nvSpPr>
              <p:cNvPr id="153" name=""/>
              <p:cNvSpPr/>
              <p:nvPr/>
            </p:nvSpPr>
            <p:spPr>
              <a:xfrm>
                <a:off x="539640" y="3789000"/>
                <a:ext cx="8207280" cy="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643280" y="1341360"/>
                <a:ext cx="0" cy="489564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10920" y="1412640"/>
                <a:ext cx="3961080" cy="2305080"/>
              </a:xfrm>
              <a:prstGeom prst="rect">
                <a:avLst/>
              </a:prstGeom>
              <a:gradFill rotWithShape="0">
                <a:gsLst>
                  <a:gs pos="0">
                    <a:srgbClr val="b1c0df">
                      <a:alpha val="59215"/>
                    </a:srgbClr>
                  </a:gs>
                  <a:gs pos="100000">
                    <a:srgbClr val="003399">
                      <a:alpha val="4901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10920" y="3933720"/>
                <a:ext cx="3961080" cy="2303280"/>
              </a:xfrm>
              <a:prstGeom prst="rect">
                <a:avLst/>
              </a:prstGeom>
              <a:gradFill rotWithShape="0">
                <a:gsLst>
                  <a:gs pos="0">
                    <a:srgbClr val="c6e4d6">
                      <a:alpha val="26274"/>
                    </a:srgbClr>
                  </a:gs>
                  <a:gs pos="100000">
                    <a:srgbClr val="45ab7d">
                      <a:alpha val="67058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87640" y="1412640"/>
                <a:ext cx="3959280" cy="2305080"/>
              </a:xfrm>
              <a:prstGeom prst="rect">
                <a:avLst/>
              </a:prstGeom>
              <a:gradFill rotWithShape="0">
                <a:gsLst>
                  <a:gs pos="0">
                    <a:srgbClr val="fefeb1">
                      <a:alpha val="64313"/>
                    </a:srgbClr>
                  </a:gs>
                  <a:gs pos="100000">
                    <a:srgbClr val="ffff00">
                      <a:alpha val="27058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87640" y="3933720"/>
                <a:ext cx="3959280" cy="2303280"/>
              </a:xfrm>
              <a:prstGeom prst="rect">
                <a:avLst/>
              </a:prstGeom>
              <a:gradFill rotWithShape="0">
                <a:gsLst>
                  <a:gs pos="0">
                    <a:srgbClr val="e2b1bb">
                      <a:alpha val="59215"/>
                    </a:srgbClr>
                  </a:gs>
                  <a:gs pos="100000">
                    <a:srgbClr val="a50021">
                      <a:alpha val="4901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755640" y="4076640"/>
            <a:ext cx="360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机会：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新产品功能领先对手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展会来临，品牌经营机会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03640" y="1557360"/>
            <a:ext cx="29512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弱势：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产品进入壁垒较低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自身产品价格较高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不完善的营销体系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4149720"/>
            <a:ext cx="345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威胁：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竞争对手超强复制能力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激烈的市场竞争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1484280"/>
            <a:ext cx="3168720" cy="20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优势：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市场的主导地位（占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市场份额）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良好的客户关系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优秀的研发团队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Jim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选择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615320" y="1005120"/>
            <a:ext cx="5481000" cy="5149080"/>
            <a:chOff x="1615320" y="1005120"/>
            <a:chExt cx="5481000" cy="5149080"/>
          </a:xfrm>
        </p:grpSpPr>
        <p:sp>
          <p:nvSpPr>
            <p:cNvPr id="165" name=""/>
            <p:cNvSpPr/>
            <p:nvPr/>
          </p:nvSpPr>
          <p:spPr>
            <a:xfrm rot="20805000">
              <a:off x="4583160" y="273852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47ec4"/>
                </a:gs>
                <a:gs pos="100000">
                  <a:srgbClr val="fefefe"/>
                </a:gs>
              </a:gsLst>
              <a:lin ang="115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61200">
              <a:off x="2788920" y="229068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2a684c"/>
                </a:gs>
                <a:gs pos="100000">
                  <a:srgbClr val="fefefe"/>
                </a:gs>
              </a:gsLst>
              <a:lin ang="5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4128200">
              <a:off x="4639320" y="760680"/>
              <a:ext cx="1150920" cy="33177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182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615320" y="1510560"/>
              <a:ext cx="5481000" cy="4643640"/>
              <a:chOff x="1615320" y="1510560"/>
              <a:chExt cx="5481000" cy="4643640"/>
            </a:xfrm>
          </p:grpSpPr>
          <p:sp>
            <p:nvSpPr>
              <p:cNvPr id="169" name=""/>
              <p:cNvSpPr/>
              <p:nvPr/>
            </p:nvSpPr>
            <p:spPr>
              <a:xfrm>
                <a:off x="4385520" y="2838240"/>
                <a:ext cx="1150560" cy="331596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cfdb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6256200">
                <a:off x="2788920" y="213768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cfdbdf"/>
                  </a:gs>
                  <a:gs pos="100000">
                    <a:srgbClr val="ffffff"/>
                  </a:gs>
                </a:gsLst>
                <a:lin ang="45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4922600">
                <a:off x="4766760" y="990000"/>
                <a:ext cx="11505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cfdbdf"/>
                  </a:gs>
                  <a:gs pos="100000">
                    <a:srgbClr val="ffffff"/>
                  </a:gs>
                </a:gsLst>
                <a:lin ang="174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875040" y="2801880"/>
              <a:ext cx="1339920" cy="1338480"/>
              <a:chOff x="3875040" y="2801880"/>
              <a:chExt cx="1339920" cy="1338480"/>
            </a:xfrm>
          </p:grpSpPr>
          <p:sp>
            <p:nvSpPr>
              <p:cNvPr id="173" name=""/>
              <p:cNvSpPr/>
              <p:nvPr/>
            </p:nvSpPr>
            <p:spPr>
              <a:xfrm>
                <a:off x="3875040" y="2801880"/>
                <a:ext cx="1339920" cy="133848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12828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028040" y="2823840"/>
                <a:ext cx="1033560" cy="50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"/>
          <p:cNvSpPr/>
          <p:nvPr/>
        </p:nvSpPr>
        <p:spPr>
          <a:xfrm>
            <a:off x="3851280" y="326880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营销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08000" y="2873520"/>
            <a:ext cx="10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宋体"/>
              </a:rPr>
              <a:t>营销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2205000"/>
            <a:ext cx="123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宋体"/>
              </a:rPr>
              <a:t>营销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5229360"/>
            <a:ext cx="112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宋体"/>
              </a:rPr>
              <a:t>营销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战略营销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 rot="20805000">
            <a:off x="4595760" y="2738520"/>
            <a:ext cx="1150920" cy="33163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447ec4"/>
              </a:gs>
              <a:gs pos="100000">
                <a:srgbClr val="fefefe"/>
              </a:gs>
            </a:gsLst>
            <a:lin ang="11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5461200">
            <a:off x="2801880" y="2290680"/>
            <a:ext cx="1150920" cy="33163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2a684c"/>
              </a:gs>
              <a:gs pos="100000">
                <a:srgbClr val="fefefe"/>
              </a:gs>
            </a:gsLst>
            <a:lin ang="53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4128200">
            <a:off x="4651920" y="760680"/>
            <a:ext cx="1150920" cy="331776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182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98840" y="2838600"/>
            <a:ext cx="1150920" cy="331596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cfdbd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6256200">
            <a:off x="2801880" y="2138040"/>
            <a:ext cx="1150920" cy="33163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cfdbdf"/>
              </a:gs>
              <a:gs pos="100000">
                <a:srgbClr val="ffffff"/>
              </a:gs>
            </a:gsLst>
            <a:lin ang="45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4922600">
            <a:off x="4779720" y="990000"/>
            <a:ext cx="1150920" cy="33163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cfdbdf"/>
              </a:gs>
              <a:gs pos="100000">
                <a:srgbClr val="ffffff"/>
              </a:gs>
            </a:gsLst>
            <a:lin ang="174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887640" y="2801880"/>
            <a:ext cx="1339920" cy="1338480"/>
            <a:chOff x="3887640" y="2801880"/>
            <a:chExt cx="1339920" cy="1338480"/>
          </a:xfrm>
        </p:grpSpPr>
        <p:sp>
          <p:nvSpPr>
            <p:cNvPr id="187" name=""/>
            <p:cNvSpPr/>
            <p:nvPr/>
          </p:nvSpPr>
          <p:spPr>
            <a:xfrm>
              <a:off x="3887640" y="2801880"/>
              <a:ext cx="1339920" cy="1338480"/>
            </a:xfrm>
            <a:prstGeom prst="ellipse">
              <a:avLst/>
            </a:prstGeom>
            <a:gradFill rotWithShape="0">
              <a:gsLst>
                <a:gs pos="0">
                  <a:srgbClr val="f14343"/>
                </a:gs>
                <a:gs pos="100000">
                  <a:srgbClr val="91282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40280" y="2824200"/>
              <a:ext cx="1035000" cy="5047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780000" y="32688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营销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58920" y="2992320"/>
            <a:ext cx="227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天内购买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老客户折扣礼遇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0120" y="2163600"/>
            <a:ext cx="195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举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isual 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-Motio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活动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49680" y="470052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广告、直邮、分销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传统营销手段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营销成功的因素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23814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92360" y="1619280"/>
            <a:ext cx="611964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99ff">
                  <a:alpha val="99215"/>
                </a:srgbClr>
              </a:gs>
              <a:gs pos="50000">
                <a:srgbClr val="bcbcfe"/>
              </a:gs>
              <a:gs pos="100000">
                <a:srgbClr val="9999ff">
                  <a:alpha val="99215"/>
                </a:srgbClr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销成功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066680" y="4254480"/>
            <a:ext cx="1486080" cy="1514520"/>
            <a:chOff x="1066680" y="4254480"/>
            <a:chExt cx="1486080" cy="1514520"/>
          </a:xfrm>
        </p:grpSpPr>
        <p:sp>
          <p:nvSpPr>
            <p:cNvPr id="197" name=""/>
            <p:cNvSpPr/>
            <p:nvPr/>
          </p:nvSpPr>
          <p:spPr>
            <a:xfrm>
              <a:off x="1066680" y="4254480"/>
              <a:ext cx="1486080" cy="1514520"/>
            </a:xfrm>
            <a:prstGeom prst="ellipse">
              <a:avLst/>
            </a:prstGeom>
            <a:gradFill rotWithShape="0">
              <a:gsLst>
                <a:gs pos="0">
                  <a:srgbClr val="45ab7d"/>
                </a:gs>
                <a:gs pos="100000">
                  <a:srgbClr val="2b6c4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36600" y="4279320"/>
              <a:ext cx="1146240" cy="5716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5ab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116000" y="501156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高层战略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支持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886360"/>
            <a:ext cx="1579680" cy="438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4254480"/>
            <a:ext cx="1617480" cy="2069640"/>
            <a:chOff x="2971800" y="4254480"/>
            <a:chExt cx="1617480" cy="2069640"/>
          </a:xfrm>
        </p:grpSpPr>
        <p:grpSp>
          <p:nvGrpSpPr>
            <p:cNvPr id="202" name=""/>
            <p:cNvGrpSpPr/>
            <p:nvPr/>
          </p:nvGrpSpPr>
          <p:grpSpPr>
            <a:xfrm>
              <a:off x="2971800" y="4254480"/>
              <a:ext cx="1523880" cy="1520640"/>
              <a:chOff x="2971800" y="4254480"/>
              <a:chExt cx="1523880" cy="1520640"/>
            </a:xfrm>
          </p:grpSpPr>
          <p:sp>
            <p:nvSpPr>
              <p:cNvPr id="203" name=""/>
              <p:cNvSpPr/>
              <p:nvPr/>
            </p:nvSpPr>
            <p:spPr>
              <a:xfrm>
                <a:off x="2971800" y="425448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e4e8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146040" y="42796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3047760" y="49845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活动经费支持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0996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029200" y="4210200"/>
            <a:ext cx="1631880" cy="2113920"/>
            <a:chOff x="5029200" y="4210200"/>
            <a:chExt cx="1631880" cy="2113920"/>
          </a:xfrm>
        </p:grpSpPr>
        <p:grpSp>
          <p:nvGrpSpPr>
            <p:cNvPr id="208" name=""/>
            <p:cNvGrpSpPr/>
            <p:nvPr/>
          </p:nvGrpSpPr>
          <p:grpSpPr>
            <a:xfrm>
              <a:off x="5029200" y="4210200"/>
              <a:ext cx="1523880" cy="1520640"/>
              <a:chOff x="5029200" y="4210200"/>
              <a:chExt cx="1523880" cy="1520640"/>
            </a:xfrm>
          </p:grpSpPr>
          <p:sp>
            <p:nvSpPr>
              <p:cNvPr id="209" name=""/>
              <p:cNvSpPr/>
              <p:nvPr/>
            </p:nvSpPr>
            <p:spPr>
              <a:xfrm>
                <a:off x="5029200" y="42102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3c5d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203440" y="423540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77b7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5105160" y="4939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市场团队合作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8140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934320" y="4210200"/>
            <a:ext cx="1523880" cy="1531800"/>
            <a:chOff x="6934320" y="4210200"/>
            <a:chExt cx="1523880" cy="1531800"/>
          </a:xfrm>
        </p:grpSpPr>
        <p:grpSp>
          <p:nvGrpSpPr>
            <p:cNvPr id="214" name=""/>
            <p:cNvGrpSpPr/>
            <p:nvPr/>
          </p:nvGrpSpPr>
          <p:grpSpPr>
            <a:xfrm>
              <a:off x="6934320" y="4210200"/>
              <a:ext cx="1523880" cy="1531800"/>
              <a:chOff x="6934320" y="4210200"/>
              <a:chExt cx="1523880" cy="1531800"/>
            </a:xfrm>
          </p:grpSpPr>
          <p:sp>
            <p:nvSpPr>
              <p:cNvPr id="215" name=""/>
              <p:cNvSpPr/>
              <p:nvPr/>
            </p:nvSpPr>
            <p:spPr>
              <a:xfrm>
                <a:off x="6934320" y="4210200"/>
                <a:ext cx="1523880" cy="15318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108560" y="4235400"/>
                <a:ext cx="1175400" cy="5781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077240" y="4910040"/>
              <a:ext cx="1311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研发团队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支撑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6934320" y="5886360"/>
            <a:ext cx="1579320" cy="438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没有经费支持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20574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77b7e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40360" y="3213000"/>
            <a:ext cx="295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347d"/>
                </a:solidFill>
                <a:latin typeface="Arial"/>
                <a:ea typeface="宋体"/>
              </a:rPr>
              <a:t>VM2.0</a:t>
            </a:r>
            <a:r>
              <a:rPr b="1" lang="zh-CN" sz="2800" spc="-1" strike="noStrike">
                <a:solidFill>
                  <a:srgbClr val="17347d"/>
                </a:solidFill>
                <a:latin typeface="Arial"/>
                <a:ea typeface="宋体"/>
              </a:rPr>
              <a:t>将不能实现公司预期的销售收入和利润！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20876400">
            <a:off x="3316320" y="50482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7920" y="38289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68800" y="383868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86080" y="38545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78240" y="38988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20826600">
            <a:off x="1473120" y="44384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03280" y="3429000"/>
            <a:ext cx="1363680" cy="14414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20920" y="3436920"/>
            <a:ext cx="1330200" cy="1405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33520" y="3451320"/>
            <a:ext cx="1265400" cy="1312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06600" y="3487680"/>
            <a:ext cx="1123920" cy="10652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03280" y="3645000"/>
            <a:ext cx="136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47d"/>
                </a:solidFill>
                <a:latin typeface="Arial"/>
                <a:ea typeface="宋体"/>
              </a:rPr>
              <a:t>削弱</a:t>
            </a:r>
            <a:r>
              <a:rPr b="1" lang="en-US" sz="1600" spc="-1" strike="noStrike">
                <a:solidFill>
                  <a:srgbClr val="17347d"/>
                </a:solidFill>
                <a:latin typeface="Arial"/>
                <a:ea typeface="宋体"/>
              </a:rPr>
              <a:t>2.0</a:t>
            </a:r>
            <a:r>
              <a:rPr b="1" lang="en-US" sz="1600" spc="-1" strike="noStrike">
                <a:solidFill>
                  <a:srgbClr val="17347d"/>
                </a:solidFill>
                <a:latin typeface="Arial"/>
                <a:ea typeface="宋体"/>
              </a:rPr>
              <a:t>产品优势，降低</a:t>
            </a:r>
            <a:r>
              <a:rPr b="1" lang="en-US" sz="1600" spc="-1" strike="noStrike">
                <a:solidFill>
                  <a:srgbClr val="17347d"/>
                </a:solidFill>
                <a:latin typeface="Arial"/>
                <a:ea typeface="宋体"/>
              </a:rPr>
              <a:t>VM</a:t>
            </a:r>
            <a:r>
              <a:rPr b="1" lang="en-US" sz="1600" spc="-1" strike="noStrike">
                <a:solidFill>
                  <a:srgbClr val="17347d"/>
                </a:solidFill>
                <a:latin typeface="Arial"/>
                <a:ea typeface="宋体"/>
              </a:rPr>
              <a:t>系列产品市场份额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26827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207648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384200" y="2081160"/>
            <a:ext cx="1000080" cy="1000080"/>
            <a:chOff x="1384200" y="2081160"/>
            <a:chExt cx="1000080" cy="1000080"/>
          </a:xfrm>
        </p:grpSpPr>
        <p:sp>
          <p:nvSpPr>
            <p:cNvPr id="236" name=""/>
            <p:cNvSpPr/>
            <p:nvPr/>
          </p:nvSpPr>
          <p:spPr>
            <a:xfrm>
              <a:off x="1384200" y="208116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95360" y="20923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1449360" y="21178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03640" y="4365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7347d"/>
                </a:solidFill>
                <a:latin typeface="Arial"/>
                <a:ea typeface="宋体"/>
              </a:rPr>
              <a:t>打击品牌形象，影响企业声誉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03280" y="234936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7347d"/>
                </a:solidFill>
                <a:latin typeface="Arial"/>
                <a:ea typeface="宋体"/>
              </a:rPr>
              <a:t>2.0</a:t>
            </a:r>
            <a:r>
              <a:rPr b="1" lang="zh-CN" sz="1400" spc="-1" strike="noStrike">
                <a:solidFill>
                  <a:srgbClr val="17347d"/>
                </a:solidFill>
                <a:latin typeface="Arial"/>
                <a:ea typeface="宋体"/>
              </a:rPr>
              <a:t>难以打开市场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05:19:21Z</dcterms:created>
  <dc:creator>owner</dc:creator>
  <dc:description/>
  <dc:language>en-US</dc:language>
  <cp:lastModifiedBy>jijun</cp:lastModifiedBy>
  <dcterms:modified xsi:type="dcterms:W3CDTF">2005-12-01T09:28:19Z</dcterms:modified>
  <cp:revision>33</cp:revision>
  <dc:subject/>
  <dc:title>PowerPoint Template</dc:title>
</cp:coreProperties>
</file>