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152063" cy="7588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B60B-1EE6-4F98-821F-5854C9FA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8077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52120" y="4150800"/>
            <a:ext cx="8077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8A15-A7E3-4292-BB33-EE3BF471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89140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5212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9140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18A0-5612-4EF2-B9EC-3672E08C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483080" y="15238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214400" y="15238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52120" y="41508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483080" y="41508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214400" y="41508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F37-9783-4967-96F5-E5DE9F88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97AB-AFBC-4C8E-BE30-B59374A3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AC44-ECF6-467E-814C-5BE186EF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5B14-310A-439C-9759-64EABCFB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89140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E143-E122-4FB5-933F-C8C9B784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82EB-03F5-4076-8CD7-956F54A2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30492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5B1C-4CB4-4267-8BF8-7AE57651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89140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5212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4ABB-D575-4168-B018-1EEE38BD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2181-25C7-4165-80FC-DD0E9633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89140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9140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E711-22C9-4439-B923-D781E743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89140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52120" y="4150800"/>
            <a:ext cx="8077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2934-46E5-4A18-834B-C4CDD746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8077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52120" y="4150800"/>
            <a:ext cx="8077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F0D2-46F5-49DE-A468-59DEEB5E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89140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5212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89140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05E1-E122-43E2-81AF-BF13AEB3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83080" y="15238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214400" y="15238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52120" y="41508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83080" y="41508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214400" y="41508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75DA-D500-4892-A534-73DF5477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F547-C627-441C-9A9A-6CDB55B7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89140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C84A-3BB4-4E09-B4E0-E818EBE0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6F4F-EF46-4AAD-A83A-A36AEC2A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120" y="30492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78EF-7473-4ACF-814B-A1105563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89140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5212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6095-36CB-4226-B345-C6524293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89140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89140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0D0E-D8B3-48B3-8AAA-02E0F4B1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89140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52120" y="4150800"/>
            <a:ext cx="8077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EF62-E9CA-481F-AF63-35CBD52F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324000" y="311040"/>
            <a:ext cx="1306440" cy="130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3175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684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7336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1320" indent="-254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281320" indent="-254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281320" indent="-254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752120" y="6933960"/>
            <a:ext cx="2133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91120" y="6933960"/>
            <a:ext cx="3124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20120" y="6933960"/>
            <a:ext cx="2133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080B-B6C0-4199-A7E7-0579CD98F42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2560" y="1203480"/>
            <a:ext cx="914400" cy="358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宇翔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066680" y="2927520"/>
            <a:ext cx="1517760" cy="1517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66520" y="297180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2590920" y="6858000"/>
            <a:ext cx="175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4800600" y="685800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543800" y="6858000"/>
            <a:ext cx="175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E52A-F3AA-498D-9945-F64D2828CBF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7600" y="1775520"/>
            <a:ext cx="913644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 indent="0" algn="ctr">
              <a:spcBef>
                <a:spcPts val="7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4480" algn="ctr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1000" algn="ctr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27160" algn="ctr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2716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2716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666880" y="1778040"/>
            <a:ext cx="7088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宋体"/>
              </a:rPr>
              <a:t>难以广泛传播的战略</a:t>
            </a:r>
            <a:br>
              <a:rPr sz="6000"/>
            </a:b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宋体"/>
              </a:rPr>
              <a:t>－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不要让奶牛产羊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482920" y="4190760"/>
            <a:ext cx="688968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我们都知道，奶牛的最大优势就是能产出营养价值很高的牛奶；而羊的最大优点就是产出羊毛。也许没有人会指责奶牛不出羊毛，因为我们都很清楚地知道这两种动物的优势是不一样的。但是，在我们的管理中，管理者常常会不知不觉地做“指责奶牛产不出羊毛”的傻事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　　同样的道理，一个组织的成功模式是不能够完全拷贝到另一个组织中的，生搬硬套只能会带来困惑和失败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要因分析之三（组织行为学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拉伯克的咨询团队中没有拉伯克中没有拉伯克人员的参与，不能给人以充分信任的感觉（组织与非组织的关系）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要因分析之四（领导特质论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空降兵并不是救世主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凯勒是威奇托成功的关键因素，但是对拉伯克说，还需要有一个类似凯勒的人物来提高团队的建设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4900" spc="-1" strike="noStrike">
                <a:solidFill>
                  <a:srgbClr val="000000"/>
                </a:solidFill>
                <a:latin typeface="Times New Roman"/>
                <a:ea typeface="宋体"/>
              </a:rPr>
              <a:t>拉伯克下一步的措施（一）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抛弃威奇托的影响，对拉伯克问题进行基础调研，寻找问题的根源。同时注意员工的惰性因素和组织变革的策略性目标，看接受程度及实际执行能力的匹配性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提出和强化一个理念，要简单易懂而且又能激发人心，如此心存疑虑员工员工才能理解变革的原因与其背后的原意义。（策略不等同于理念）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4900" spc="-1" strike="noStrike">
                <a:solidFill>
                  <a:srgbClr val="000000"/>
                </a:solidFill>
                <a:latin typeface="Times New Roman"/>
                <a:ea typeface="宋体"/>
              </a:rPr>
              <a:t>拉伯克下一步的措施（二）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重新组合拉伯克咨询团队，在组合过程中考虑到让拉伯克的人员参加（员工的卷入管理），弱化组织之间的对立关系，因为业务单位的部门负责人不愿意释放其手中的职责、资源和控制权，拉伯克的人员参加一定程度上起到缓解的作用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进行相应的授权管理和明确的激励措施，使变革融入到企业文化中去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zh-CN" sz="49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0">
              <a:spcBef>
                <a:spcPts val="18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0">
              <a:spcBef>
                <a:spcPts val="180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谢谢大家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4900" spc="-1" strike="noStrike">
                <a:solidFill>
                  <a:srgbClr val="000000"/>
                </a:solidFill>
                <a:latin typeface="Times New Roman"/>
                <a:ea typeface="宋体"/>
              </a:rPr>
              <a:t>宇翔队简介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小组特点：潜心钻研、认真学习、沉重思考、我心飞翔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小队成员：刘金明、魏健、周锋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小队ＬＯＧＯ：地球　可持续思维　ＰＤＣＡ模式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4900" spc="-1" strike="noStrike">
                <a:solidFill>
                  <a:srgbClr val="000000"/>
                </a:solidFill>
                <a:latin typeface="Times New Roman"/>
                <a:ea typeface="宋体"/>
              </a:rPr>
              <a:t>案例分析应用的知识点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imes New Roman"/>
                <a:ea typeface="宋体"/>
              </a:rPr>
              <a:t>分析使用相关知识点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imes New Roman"/>
                <a:ea typeface="宋体"/>
              </a:rPr>
              <a:t>管理的权变理论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imes New Roman"/>
                <a:ea typeface="宋体"/>
              </a:rPr>
              <a:t>组织行为学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imes New Roman"/>
                <a:ea typeface="宋体"/>
              </a:rPr>
              <a:t>业务流程优化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imes New Roman"/>
                <a:ea typeface="宋体"/>
              </a:rPr>
              <a:t>质量管理学（戴明）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4900" spc="-1" strike="noStrike">
                <a:solidFill>
                  <a:srgbClr val="000000"/>
                </a:solidFill>
                <a:latin typeface="Times New Roman"/>
                <a:ea typeface="宋体"/>
              </a:rPr>
              <a:t>案例分析方法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受案例启发，我们在讨论和交流时采用的是头脑风暴法，无组织领导和讨论，最后统一意见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在讨论过程中，一是本着最大程度地趋近于理性的分析，而不是单凭操纵直觉进行思考的原则进行；二是以解决问题为根本原则，效果与效率并重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4900" spc="-1" strike="noStrike">
                <a:solidFill>
                  <a:srgbClr val="000000"/>
                </a:solidFill>
                <a:latin typeface="Times New Roman"/>
                <a:ea typeface="宋体"/>
              </a:rPr>
              <a:t>案例主要内容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52480" y="1523880"/>
          <a:ext cx="8077320" cy="5281560"/>
        </p:xfrm>
        <a:graphic>
          <a:graphicData uri="http://schemas.openxmlformats.org/drawingml/2006/table">
            <a:tbl>
              <a:tblPr/>
              <a:tblGrid>
                <a:gridCol w="874800"/>
                <a:gridCol w="1584360"/>
                <a:gridCol w="1579680"/>
                <a:gridCol w="1346040"/>
                <a:gridCol w="1346400"/>
                <a:gridCol w="134604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地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出现的问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采取的措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预期效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实际效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绩效评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威奇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产率低、成本高，士气低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确定一个顾问团队、成立一个顾问小组、问题会议、打垒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产率提高，成本降低、士气上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产率提高、成本下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工人和管理层之间的关系得到改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拉伯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具体描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模仿威奇托实施成功的策略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产率提高，成本降低、士气上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产率仅仅是有小部分提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工人拒绝参与团队性活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拉伯克进退两难的境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目前在拉伯克的生产率和士气并不如想像的要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0">
              <a:spcBef>
                <a:spcPts val="6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blem chat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人参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0">
              <a:spcBef>
                <a:spcPts val="6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举行户外活动时，发现员工带有比较强的抵触情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要因分析之一（权变论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具体体现：由威奇托至拉伯克，运行目的和运行规则不变，没有进行深入调查，仅凭主观想象加以管理和控制，导致拉伯克现在这种情况的根本要因是什么？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要因分析之二（变革论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企业主而言，推动改变的最有力的工具就是组织再造。在最理想的情况下，组织再造可以扫除公司内部的怠慢与不满。但是员工反对也是造成许多组织无法再继续组织再造的主要原因。因为当每个企业主宣布再造计划时，多数员工的第一个反应就是抗拒，毕竟，改变通常会引起焦虑与冲突，而员工往往认为这是不必要的乱象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拉伯克的具体体现：项目起动时没有广泛进行发动，宣传力度不够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要因分析之二（变革论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变革的阻力来源主要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员工的固有的工作和行为习惯难民改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就业安全需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经济收入变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未知的恐惧及对变革的认知存有偏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体中非正式组织有可能被打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拉伯克的具体体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0">
              <a:spcBef>
                <a:spcPts val="6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3:48:31Z</dcterms:created>
  <dc:creator>zf</dc:creator>
  <dc:description/>
  <dc:language>en-US</dc:language>
  <cp:lastModifiedBy>april.yuan</cp:lastModifiedBy>
  <dcterms:modified xsi:type="dcterms:W3CDTF">2005-12-20T01:49:07Z</dcterms:modified>
  <cp:revision>25</cp:revision>
  <dc:subject/>
  <dc:title>幻灯片 1</dc:title>
</cp:coreProperties>
</file>