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华文细黑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982DBB2-CE72-40CD-9E4D-41A32114BC1B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东华大学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BA0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aozhi@bste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84978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800880"/>
            <a:ext cx="84978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512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3720" y="129492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6880" y="129492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80088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3720" y="380088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6880" y="380088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294920"/>
            <a:ext cx="8497800" cy="47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849780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0560" y="260280"/>
            <a:ext cx="6696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294920"/>
            <a:ext cx="8497800" cy="47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512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800880"/>
            <a:ext cx="84978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84978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3800880"/>
            <a:ext cx="84978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512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3720" y="129492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6880" y="129492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380088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3720" y="380088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6880" y="3800880"/>
            <a:ext cx="27360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849780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60280"/>
            <a:ext cx="6696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5120" y="380088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5120" y="1294920"/>
            <a:ext cx="414684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800880"/>
            <a:ext cx="8497800" cy="22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294920"/>
            <a:ext cx="849780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0920" y="914400"/>
            <a:ext cx="8497800" cy="0"/>
          </a:xfrm>
          <a:prstGeom prst="line">
            <a:avLst/>
          </a:prstGeom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95640" y="6472440"/>
            <a:ext cx="5184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© 2005 </a:t>
            </a:r>
            <a:r>
              <a:rPr b="0" lang="fr-FR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东华</a:t>
            </a:r>
            <a:r>
              <a:rPr b="0" lang="zh-CN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大学</a:t>
            </a:r>
            <a:r>
              <a:rPr b="0" lang="fr-FR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055MBA 3M</a:t>
            </a:r>
            <a:r>
              <a:rPr b="0" lang="zh-CN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小组（</a:t>
            </a:r>
            <a:r>
              <a:rPr b="0" lang="fr-FR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3 MBAs</a:t>
            </a:r>
            <a:r>
              <a:rPr b="0" lang="zh-CN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、</a:t>
            </a:r>
            <a:r>
              <a:rPr b="0" lang="fr-FR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3Men</a:t>
            </a:r>
            <a:r>
              <a:rPr b="0" lang="zh-CN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、</a:t>
            </a:r>
            <a:r>
              <a:rPr b="0" lang="fr-FR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3Mights</a:t>
            </a:r>
            <a:r>
              <a:rPr b="0" lang="zh-CN" sz="1300" spc="-1" strike="noStrike">
                <a:solidFill>
                  <a:srgbClr val="333300"/>
                </a:solidFill>
                <a:latin typeface="华文细黑"/>
                <a:ea typeface="华文细黑"/>
              </a:rPr>
              <a:t>）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50920" y="154080"/>
            <a:ext cx="172872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0570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428760"/>
            <a:ext cx="809640" cy="79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87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2133720"/>
            <a:ext cx="7740720" cy="93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88520" y="4319640"/>
            <a:ext cx="3105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东华大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BA055 3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组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5-11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057040"/>
            <a:ext cx="6132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EMPLOYEE SATISFIED ,THEN CUSTOMER SATISFIED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264200" y="1628640"/>
            <a:ext cx="0" cy="396108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建议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Prest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公司应该一方面抓紧对外进行危机公关，把对外影响降低到最低限度，另一方面重塑企业核心价值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"/>
          <p:cNvSpPr/>
          <p:nvPr/>
        </p:nvSpPr>
        <p:spPr>
          <a:xfrm>
            <a:off x="3203640" y="2708280"/>
            <a:ext cx="2197080" cy="16113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84560" y="3429000"/>
            <a:ext cx="237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Employee satisfied ,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then customer satisfie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19880" y="2852640"/>
            <a:ext cx="114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企业核心价值观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80240" y="16286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外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91880" y="16286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内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2276640"/>
            <a:ext cx="2520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客户进行情感上的安抚，取得客户谅解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客户已经遭受的损失进行经济赔偿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必要时可以登报对客户表示诚挚歉意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为客户提供正式投诉渠道，并聘请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George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担任公司客户服务监督员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2276640"/>
            <a:ext cx="2520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建立新型“员工－客户－公司”的价值观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根据双因素理论加强对员工进行激励因素的刺激，如对一线员工进行一定程度的授权，可以对客户简单投诉直接进行处理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将客户拉入客户服务体系建设的团队中，一起设计新的客户服务流程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采用“目睹－感受－行动”的实施方案，对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Prest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公司的客户服务业务进行流程再造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3" name=""/>
          <p:cNvSpPr/>
          <p:nvPr/>
        </p:nvSpPr>
        <p:spPr>
          <a:xfrm>
            <a:off x="919080" y="1773360"/>
            <a:ext cx="1511280" cy="576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8280" y="1859040"/>
            <a:ext cx="45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目睹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9080" y="3355920"/>
            <a:ext cx="1511280" cy="5763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8280" y="3441600"/>
            <a:ext cx="45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感受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9080" y="4940280"/>
            <a:ext cx="1511280" cy="5763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8280" y="5025960"/>
            <a:ext cx="45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行动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  <a:endCxn id="317" idx="0"/>
          </p:cNvCxnSpPr>
          <p:nvPr/>
        </p:nvCxnSpPr>
        <p:spPr>
          <a:xfrm>
            <a:off x="1674360" y="3932280"/>
            <a:ext cx="1080" cy="10087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7" idx="2"/>
            <a:endCxn id="313" idx="0"/>
          </p:cNvCxnSpPr>
          <p:nvPr/>
        </p:nvCxnSpPr>
        <p:spPr>
          <a:xfrm flipH="1" flipV="1" rot="5400000">
            <a:off x="-197280" y="3643560"/>
            <a:ext cx="3744000" cy="2520"/>
          </a:xfrm>
          <a:prstGeom prst="bentConnector5">
            <a:avLst>
              <a:gd name="adj1" fmla="val -6106"/>
              <a:gd name="adj2" fmla="val -63400000"/>
              <a:gd name="adj3" fmla="val 106106"/>
            </a:avLst>
          </a:prstGeom>
          <a:ln w="936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3" idx="2"/>
            <a:endCxn id="315" idx="0"/>
          </p:cNvCxnSpPr>
          <p:nvPr/>
        </p:nvCxnSpPr>
        <p:spPr>
          <a:xfrm>
            <a:off x="1674360" y="2349360"/>
            <a:ext cx="1080" cy="100728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2519280" cy="1368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219640" y="1211400"/>
            <a:ext cx="358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将客户投诉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43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天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得不到解决的案例下发给公司每一位员工，让大家清楚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公司客服水平的现状，并就此展开大讨论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27280" y="2935440"/>
            <a:ext cx="612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门店、洗衣厂、客服部的员工进行轮岗，让他们相互体会各个环节存在哪些问题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成立项目改进领导小组，让热心客户参与到公司未来新的客服体系设计中来，让客户感受到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公司正在改进服务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7280" y="4308480"/>
            <a:ext cx="6121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客户参与下，设计出新的客户服务体系，并立刻就其中最容易导致客户投诉的一线门店进行试点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当店员在其授权范围内、成功化解客户不满情绪时，其结果将大大增强员工的成就感，并激励其他员工跟进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随着小成就的积累，组织上下将弥漫着成功的喜悦，并将进一步激发员工的热情为客户提供真诚、优质的服务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形成有效的管理流程后通过制度固定下来，并成立持续改进小组，随时发现问题并作出持续改进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755640" y="2133720"/>
          <a:ext cx="704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04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OD FOR THINKING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2492280"/>
            <a:ext cx="70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启示：通过对本案例的分析与决断，我们知道“人”的问题不仅是一个部门、一个企业所要解决的事情，对于社会乃至国家都应该是首要解决的问题！在市场经济乃至全球化热潮中，无论是个人、企业还是国家，唯有练好内功，才能在激烈的市场竞争中立于不败之地！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35920" y="2708280"/>
            <a:ext cx="3322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hank you!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273400" cy="1378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05092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Q&amp;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客户投诉是一般商业环境都会遭遇的问题，案例中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Presto Cleaner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公司总裁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Sewickley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也碰到了这个“麻烦”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4000" y="1268280"/>
            <a:ext cx="868320" cy="504360"/>
            <a:chOff x="324000" y="1268280"/>
            <a:chExt cx="868320" cy="504360"/>
          </a:xfrm>
        </p:grpSpPr>
        <p:sp>
          <p:nvSpPr>
            <p:cNvPr id="93" name=""/>
            <p:cNvSpPr/>
            <p:nvPr/>
          </p:nvSpPr>
          <p:spPr>
            <a:xfrm>
              <a:off x="327240" y="1276560"/>
              <a:ext cx="404640" cy="489960"/>
            </a:xfrm>
            <a:custGeom>
              <a:avLst/>
              <a:gdLst/>
              <a:ahLst/>
              <a:rect l="l" t="t" r="r" b="b"/>
              <a:pathLst>
                <a:path w="255" h="238">
                  <a:moveTo>
                    <a:pt x="2" y="0"/>
                  </a:moveTo>
                  <a:lnTo>
                    <a:pt x="8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3" y="7"/>
                  </a:lnTo>
                  <a:lnTo>
                    <a:pt x="31" y="10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3" y="26"/>
                  </a:lnTo>
                  <a:lnTo>
                    <a:pt x="77" y="34"/>
                  </a:lnTo>
                  <a:lnTo>
                    <a:pt x="94" y="43"/>
                  </a:lnTo>
                  <a:lnTo>
                    <a:pt x="111" y="51"/>
                  </a:lnTo>
                  <a:lnTo>
                    <a:pt x="130" y="61"/>
                  </a:lnTo>
                  <a:lnTo>
                    <a:pt x="151" y="73"/>
                  </a:lnTo>
                  <a:lnTo>
                    <a:pt x="175" y="84"/>
                  </a:lnTo>
                  <a:lnTo>
                    <a:pt x="200" y="98"/>
                  </a:lnTo>
                  <a:lnTo>
                    <a:pt x="227" y="113"/>
                  </a:lnTo>
                  <a:lnTo>
                    <a:pt x="255" y="127"/>
                  </a:lnTo>
                  <a:lnTo>
                    <a:pt x="254" y="127"/>
                  </a:lnTo>
                  <a:lnTo>
                    <a:pt x="37" y="236"/>
                  </a:lnTo>
                  <a:lnTo>
                    <a:pt x="0" y="23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1270440"/>
              <a:ext cx="414360" cy="498240"/>
            </a:xfrm>
            <a:custGeom>
              <a:avLst/>
              <a:gdLst/>
              <a:ahLst/>
              <a:rect l="l" t="t" r="r" b="b"/>
              <a:pathLst>
                <a:path w="261" h="242">
                  <a:moveTo>
                    <a:pt x="2" y="5"/>
                  </a:moveTo>
                  <a:lnTo>
                    <a:pt x="2" y="5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20" y="10"/>
                  </a:lnTo>
                  <a:lnTo>
                    <a:pt x="25" y="11"/>
                  </a:lnTo>
                  <a:lnTo>
                    <a:pt x="31" y="15"/>
                  </a:lnTo>
                  <a:lnTo>
                    <a:pt x="40" y="21"/>
                  </a:lnTo>
                  <a:lnTo>
                    <a:pt x="52" y="26"/>
                  </a:lnTo>
                  <a:lnTo>
                    <a:pt x="65" y="32"/>
                  </a:lnTo>
                  <a:lnTo>
                    <a:pt x="63" y="32"/>
                  </a:lnTo>
                  <a:lnTo>
                    <a:pt x="79" y="40"/>
                  </a:lnTo>
                  <a:lnTo>
                    <a:pt x="94" y="48"/>
                  </a:lnTo>
                  <a:lnTo>
                    <a:pt x="113" y="57"/>
                  </a:lnTo>
                  <a:lnTo>
                    <a:pt x="130" y="67"/>
                  </a:lnTo>
                  <a:lnTo>
                    <a:pt x="153" y="78"/>
                  </a:lnTo>
                  <a:lnTo>
                    <a:pt x="176" y="89"/>
                  </a:lnTo>
                  <a:lnTo>
                    <a:pt x="200" y="103"/>
                  </a:lnTo>
                  <a:lnTo>
                    <a:pt x="227" y="117"/>
                  </a:lnTo>
                  <a:lnTo>
                    <a:pt x="256" y="133"/>
                  </a:lnTo>
                  <a:lnTo>
                    <a:pt x="257" y="127"/>
                  </a:lnTo>
                  <a:lnTo>
                    <a:pt x="256" y="127"/>
                  </a:lnTo>
                  <a:lnTo>
                    <a:pt x="256" y="127"/>
                  </a:lnTo>
                  <a:lnTo>
                    <a:pt x="254" y="127"/>
                  </a:lnTo>
                  <a:lnTo>
                    <a:pt x="39" y="236"/>
                  </a:lnTo>
                  <a:lnTo>
                    <a:pt x="40" y="236"/>
                  </a:lnTo>
                  <a:lnTo>
                    <a:pt x="2" y="237"/>
                  </a:lnTo>
                  <a:lnTo>
                    <a:pt x="6" y="241"/>
                  </a:lnTo>
                  <a:lnTo>
                    <a:pt x="8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40" y="241"/>
                  </a:lnTo>
                  <a:lnTo>
                    <a:pt x="40" y="241"/>
                  </a:lnTo>
                  <a:lnTo>
                    <a:pt x="42" y="241"/>
                  </a:lnTo>
                  <a:lnTo>
                    <a:pt x="259" y="132"/>
                  </a:lnTo>
                  <a:lnTo>
                    <a:pt x="256" y="133"/>
                  </a:lnTo>
                  <a:lnTo>
                    <a:pt x="259" y="133"/>
                  </a:lnTo>
                  <a:lnTo>
                    <a:pt x="259" y="132"/>
                  </a:lnTo>
                  <a:lnTo>
                    <a:pt x="259" y="132"/>
                  </a:lnTo>
                  <a:lnTo>
                    <a:pt x="261" y="130"/>
                  </a:lnTo>
                  <a:lnTo>
                    <a:pt x="261" y="130"/>
                  </a:lnTo>
                  <a:lnTo>
                    <a:pt x="259" y="128"/>
                  </a:lnTo>
                  <a:lnTo>
                    <a:pt x="259" y="127"/>
                  </a:lnTo>
                  <a:lnTo>
                    <a:pt x="259" y="127"/>
                  </a:lnTo>
                  <a:lnTo>
                    <a:pt x="231" y="113"/>
                  </a:lnTo>
                  <a:lnTo>
                    <a:pt x="204" y="98"/>
                  </a:lnTo>
                  <a:lnTo>
                    <a:pt x="179" y="84"/>
                  </a:lnTo>
                  <a:lnTo>
                    <a:pt x="157" y="73"/>
                  </a:lnTo>
                  <a:lnTo>
                    <a:pt x="134" y="62"/>
                  </a:lnTo>
                  <a:lnTo>
                    <a:pt x="115" y="52"/>
                  </a:lnTo>
                  <a:lnTo>
                    <a:pt x="98" y="43"/>
                  </a:lnTo>
                  <a:lnTo>
                    <a:pt x="82" y="33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6" y="21"/>
                  </a:lnTo>
                  <a:lnTo>
                    <a:pt x="44" y="15"/>
                  </a:lnTo>
                  <a:lnTo>
                    <a:pt x="35" y="11"/>
                  </a:lnTo>
                  <a:lnTo>
                    <a:pt x="27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360" y="1270440"/>
              <a:ext cx="447840" cy="485640"/>
            </a:xfrm>
            <a:custGeom>
              <a:avLst/>
              <a:gdLst/>
              <a:ahLst/>
              <a:rect l="l" t="t" r="r" b="b"/>
              <a:pathLst>
                <a:path w="282" h="236">
                  <a:moveTo>
                    <a:pt x="282" y="0"/>
                  </a:moveTo>
                  <a:lnTo>
                    <a:pt x="276" y="2"/>
                  </a:lnTo>
                  <a:lnTo>
                    <a:pt x="270" y="3"/>
                  </a:lnTo>
                  <a:lnTo>
                    <a:pt x="269" y="5"/>
                  </a:lnTo>
                  <a:lnTo>
                    <a:pt x="265" y="7"/>
                  </a:lnTo>
                  <a:lnTo>
                    <a:pt x="257" y="8"/>
                  </a:lnTo>
                  <a:lnTo>
                    <a:pt x="250" y="13"/>
                  </a:lnTo>
                  <a:lnTo>
                    <a:pt x="240" y="16"/>
                  </a:lnTo>
                  <a:lnTo>
                    <a:pt x="229" y="22"/>
                  </a:lnTo>
                  <a:lnTo>
                    <a:pt x="215" y="29"/>
                  </a:lnTo>
                  <a:lnTo>
                    <a:pt x="198" y="37"/>
                  </a:lnTo>
                  <a:lnTo>
                    <a:pt x="181" y="45"/>
                  </a:lnTo>
                  <a:lnTo>
                    <a:pt x="162" y="54"/>
                  </a:lnTo>
                  <a:lnTo>
                    <a:pt x="139" y="64"/>
                  </a:lnTo>
                  <a:lnTo>
                    <a:pt x="116" y="76"/>
                  </a:lnTo>
                  <a:lnTo>
                    <a:pt x="90" y="87"/>
                  </a:lnTo>
                  <a:lnTo>
                    <a:pt x="63" y="100"/>
                  </a:lnTo>
                  <a:lnTo>
                    <a:pt x="33" y="11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40" y="236"/>
                  </a:lnTo>
                  <a:lnTo>
                    <a:pt x="278" y="23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5120" y="1268280"/>
              <a:ext cx="457200" cy="498240"/>
            </a:xfrm>
            <a:custGeom>
              <a:avLst/>
              <a:gdLst/>
              <a:ahLst/>
              <a:rect l="l" t="t" r="r" b="b"/>
              <a:pathLst>
                <a:path w="288" h="242">
                  <a:moveTo>
                    <a:pt x="288" y="1"/>
                  </a:moveTo>
                  <a:lnTo>
                    <a:pt x="286" y="1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1" y="1"/>
                  </a:lnTo>
                  <a:lnTo>
                    <a:pt x="271" y="3"/>
                  </a:lnTo>
                  <a:lnTo>
                    <a:pt x="269" y="4"/>
                  </a:lnTo>
                  <a:lnTo>
                    <a:pt x="269" y="3"/>
                  </a:lnTo>
                  <a:lnTo>
                    <a:pt x="265" y="4"/>
                  </a:lnTo>
                  <a:lnTo>
                    <a:pt x="257" y="8"/>
                  </a:lnTo>
                  <a:lnTo>
                    <a:pt x="250" y="11"/>
                  </a:lnTo>
                  <a:lnTo>
                    <a:pt x="240" y="14"/>
                  </a:lnTo>
                  <a:lnTo>
                    <a:pt x="229" y="20"/>
                  </a:lnTo>
                  <a:lnTo>
                    <a:pt x="215" y="27"/>
                  </a:lnTo>
                  <a:lnTo>
                    <a:pt x="198" y="34"/>
                  </a:lnTo>
                  <a:lnTo>
                    <a:pt x="181" y="42"/>
                  </a:lnTo>
                  <a:lnTo>
                    <a:pt x="162" y="52"/>
                  </a:lnTo>
                  <a:lnTo>
                    <a:pt x="116" y="74"/>
                  </a:lnTo>
                  <a:lnTo>
                    <a:pt x="90" y="85"/>
                  </a:lnTo>
                  <a:lnTo>
                    <a:pt x="63" y="99"/>
                  </a:lnTo>
                  <a:lnTo>
                    <a:pt x="33" y="114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2" y="126"/>
                  </a:lnTo>
                  <a:lnTo>
                    <a:pt x="0" y="128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42" y="240"/>
                  </a:lnTo>
                  <a:lnTo>
                    <a:pt x="242" y="240"/>
                  </a:lnTo>
                  <a:lnTo>
                    <a:pt x="242" y="242"/>
                  </a:lnTo>
                  <a:lnTo>
                    <a:pt x="278" y="240"/>
                  </a:lnTo>
                  <a:lnTo>
                    <a:pt x="280" y="238"/>
                  </a:lnTo>
                  <a:lnTo>
                    <a:pt x="280" y="238"/>
                  </a:lnTo>
                  <a:lnTo>
                    <a:pt x="282" y="238"/>
                  </a:lnTo>
                  <a:lnTo>
                    <a:pt x="282" y="238"/>
                  </a:lnTo>
                  <a:lnTo>
                    <a:pt x="282" y="237"/>
                  </a:lnTo>
                  <a:lnTo>
                    <a:pt x="288" y="1"/>
                  </a:lnTo>
                  <a:lnTo>
                    <a:pt x="280" y="1"/>
                  </a:lnTo>
                  <a:lnTo>
                    <a:pt x="276" y="237"/>
                  </a:lnTo>
                  <a:lnTo>
                    <a:pt x="278" y="234"/>
                  </a:lnTo>
                  <a:lnTo>
                    <a:pt x="242" y="235"/>
                  </a:lnTo>
                  <a:lnTo>
                    <a:pt x="244" y="235"/>
                  </a:lnTo>
                  <a:lnTo>
                    <a:pt x="4" y="128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6" y="133"/>
                  </a:lnTo>
                  <a:lnTo>
                    <a:pt x="36" y="118"/>
                  </a:lnTo>
                  <a:lnTo>
                    <a:pt x="67" y="104"/>
                  </a:lnTo>
                  <a:lnTo>
                    <a:pt x="94" y="90"/>
                  </a:lnTo>
                  <a:lnTo>
                    <a:pt x="120" y="79"/>
                  </a:lnTo>
                  <a:lnTo>
                    <a:pt x="166" y="57"/>
                  </a:lnTo>
                  <a:lnTo>
                    <a:pt x="185" y="49"/>
                  </a:lnTo>
                  <a:lnTo>
                    <a:pt x="202" y="39"/>
                  </a:lnTo>
                  <a:lnTo>
                    <a:pt x="219" y="31"/>
                  </a:lnTo>
                  <a:lnTo>
                    <a:pt x="233" y="25"/>
                  </a:lnTo>
                  <a:lnTo>
                    <a:pt x="244" y="20"/>
                  </a:lnTo>
                  <a:lnTo>
                    <a:pt x="244" y="20"/>
                  </a:lnTo>
                  <a:lnTo>
                    <a:pt x="253" y="16"/>
                  </a:lnTo>
                  <a:lnTo>
                    <a:pt x="261" y="12"/>
                  </a:lnTo>
                  <a:lnTo>
                    <a:pt x="269" y="11"/>
                  </a:lnTo>
                  <a:lnTo>
                    <a:pt x="272" y="9"/>
                  </a:lnTo>
                  <a:lnTo>
                    <a:pt x="272" y="8"/>
                  </a:lnTo>
                  <a:lnTo>
                    <a:pt x="280" y="6"/>
                  </a:lnTo>
                  <a:lnTo>
                    <a:pt x="284" y="4"/>
                  </a:lnTo>
                  <a:lnTo>
                    <a:pt x="280" y="1"/>
                  </a:lnTo>
                  <a:lnTo>
                    <a:pt x="28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0480" y="1532160"/>
              <a:ext cx="849240" cy="234360"/>
            </a:xfrm>
            <a:custGeom>
              <a:avLst/>
              <a:gdLst/>
              <a:ahLst/>
              <a:rect l="l" t="t" r="r" b="b"/>
              <a:pathLst>
                <a:path w="535" h="114">
                  <a:moveTo>
                    <a:pt x="0" y="114"/>
                  </a:moveTo>
                  <a:lnTo>
                    <a:pt x="29" y="101"/>
                  </a:lnTo>
                  <a:lnTo>
                    <a:pt x="54" y="90"/>
                  </a:lnTo>
                  <a:lnTo>
                    <a:pt x="80" y="79"/>
                  </a:lnTo>
                  <a:lnTo>
                    <a:pt x="101" y="68"/>
                  </a:lnTo>
                  <a:lnTo>
                    <a:pt x="124" y="58"/>
                  </a:lnTo>
                  <a:lnTo>
                    <a:pt x="143" y="49"/>
                  </a:lnTo>
                  <a:lnTo>
                    <a:pt x="160" y="41"/>
                  </a:lnTo>
                  <a:lnTo>
                    <a:pt x="177" y="33"/>
                  </a:lnTo>
                  <a:lnTo>
                    <a:pt x="191" y="28"/>
                  </a:lnTo>
                  <a:lnTo>
                    <a:pt x="204" y="22"/>
                  </a:lnTo>
                  <a:lnTo>
                    <a:pt x="215" y="16"/>
                  </a:lnTo>
                  <a:lnTo>
                    <a:pt x="225" y="12"/>
                  </a:lnTo>
                  <a:lnTo>
                    <a:pt x="232" y="9"/>
                  </a:lnTo>
                  <a:lnTo>
                    <a:pt x="236" y="6"/>
                  </a:lnTo>
                  <a:lnTo>
                    <a:pt x="242" y="5"/>
                  </a:lnTo>
                  <a:lnTo>
                    <a:pt x="244" y="3"/>
                  </a:lnTo>
                  <a:lnTo>
                    <a:pt x="248" y="1"/>
                  </a:lnTo>
                  <a:lnTo>
                    <a:pt x="252" y="1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5" y="1"/>
                  </a:lnTo>
                  <a:lnTo>
                    <a:pt x="271" y="3"/>
                  </a:lnTo>
                  <a:lnTo>
                    <a:pt x="272" y="3"/>
                  </a:lnTo>
                  <a:lnTo>
                    <a:pt x="276" y="5"/>
                  </a:lnTo>
                  <a:lnTo>
                    <a:pt x="282" y="8"/>
                  </a:lnTo>
                  <a:lnTo>
                    <a:pt x="290" y="11"/>
                  </a:lnTo>
                  <a:lnTo>
                    <a:pt x="299" y="14"/>
                  </a:lnTo>
                  <a:lnTo>
                    <a:pt x="311" y="19"/>
                  </a:lnTo>
                  <a:lnTo>
                    <a:pt x="324" y="25"/>
                  </a:lnTo>
                  <a:lnTo>
                    <a:pt x="341" y="31"/>
                  </a:lnTo>
                  <a:lnTo>
                    <a:pt x="358" y="39"/>
                  </a:lnTo>
                  <a:lnTo>
                    <a:pt x="377" y="46"/>
                  </a:lnTo>
                  <a:lnTo>
                    <a:pt x="400" y="55"/>
                  </a:lnTo>
                  <a:lnTo>
                    <a:pt x="421" y="65"/>
                  </a:lnTo>
                  <a:lnTo>
                    <a:pt x="448" y="74"/>
                  </a:lnTo>
                  <a:lnTo>
                    <a:pt x="476" y="85"/>
                  </a:lnTo>
                  <a:lnTo>
                    <a:pt x="505" y="98"/>
                  </a:lnTo>
                  <a:lnTo>
                    <a:pt x="535" y="110"/>
                  </a:lnTo>
                  <a:lnTo>
                    <a:pt x="535" y="11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1525320"/>
              <a:ext cx="862200" cy="247320"/>
            </a:xfrm>
            <a:custGeom>
              <a:avLst/>
              <a:gdLst/>
              <a:ahLst/>
              <a:rect l="l" t="t" r="r" b="b"/>
              <a:pathLst>
                <a:path w="543" h="120">
                  <a:moveTo>
                    <a:pt x="2" y="118"/>
                  </a:moveTo>
                  <a:lnTo>
                    <a:pt x="2" y="120"/>
                  </a:lnTo>
                  <a:lnTo>
                    <a:pt x="2" y="120"/>
                  </a:lnTo>
                  <a:lnTo>
                    <a:pt x="4" y="120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35" y="107"/>
                  </a:lnTo>
                  <a:lnTo>
                    <a:pt x="86" y="83"/>
                  </a:lnTo>
                  <a:lnTo>
                    <a:pt x="109" y="72"/>
                  </a:lnTo>
                  <a:lnTo>
                    <a:pt x="130" y="63"/>
                  </a:lnTo>
                  <a:lnTo>
                    <a:pt x="149" y="53"/>
                  </a:lnTo>
                  <a:lnTo>
                    <a:pt x="168" y="45"/>
                  </a:lnTo>
                  <a:lnTo>
                    <a:pt x="183" y="38"/>
                  </a:lnTo>
                  <a:lnTo>
                    <a:pt x="198" y="31"/>
                  </a:lnTo>
                  <a:lnTo>
                    <a:pt x="210" y="27"/>
                  </a:lnTo>
                  <a:lnTo>
                    <a:pt x="221" y="22"/>
                  </a:lnTo>
                  <a:lnTo>
                    <a:pt x="229" y="17"/>
                  </a:lnTo>
                  <a:lnTo>
                    <a:pt x="229" y="17"/>
                  </a:lnTo>
                  <a:lnTo>
                    <a:pt x="238" y="14"/>
                  </a:lnTo>
                  <a:lnTo>
                    <a:pt x="238" y="14"/>
                  </a:lnTo>
                  <a:lnTo>
                    <a:pt x="242" y="11"/>
                  </a:lnTo>
                  <a:lnTo>
                    <a:pt x="246" y="9"/>
                  </a:lnTo>
                  <a:lnTo>
                    <a:pt x="250" y="8"/>
                  </a:lnTo>
                  <a:lnTo>
                    <a:pt x="250" y="9"/>
                  </a:lnTo>
                  <a:lnTo>
                    <a:pt x="254" y="6"/>
                  </a:lnTo>
                  <a:lnTo>
                    <a:pt x="257" y="6"/>
                  </a:lnTo>
                  <a:lnTo>
                    <a:pt x="259" y="4"/>
                  </a:lnTo>
                  <a:lnTo>
                    <a:pt x="259" y="4"/>
                  </a:lnTo>
                  <a:lnTo>
                    <a:pt x="263" y="4"/>
                  </a:lnTo>
                  <a:lnTo>
                    <a:pt x="261" y="4"/>
                  </a:lnTo>
                  <a:lnTo>
                    <a:pt x="267" y="6"/>
                  </a:lnTo>
                  <a:lnTo>
                    <a:pt x="273" y="8"/>
                  </a:lnTo>
                  <a:lnTo>
                    <a:pt x="273" y="8"/>
                  </a:lnTo>
                  <a:lnTo>
                    <a:pt x="275" y="8"/>
                  </a:lnTo>
                  <a:lnTo>
                    <a:pt x="275" y="9"/>
                  </a:lnTo>
                  <a:lnTo>
                    <a:pt x="278" y="9"/>
                  </a:lnTo>
                  <a:lnTo>
                    <a:pt x="284" y="12"/>
                  </a:lnTo>
                  <a:lnTo>
                    <a:pt x="292" y="15"/>
                  </a:lnTo>
                  <a:lnTo>
                    <a:pt x="292" y="14"/>
                  </a:lnTo>
                  <a:lnTo>
                    <a:pt x="301" y="19"/>
                  </a:lnTo>
                  <a:lnTo>
                    <a:pt x="301" y="19"/>
                  </a:lnTo>
                  <a:lnTo>
                    <a:pt x="315" y="23"/>
                  </a:lnTo>
                  <a:lnTo>
                    <a:pt x="328" y="30"/>
                  </a:lnTo>
                  <a:lnTo>
                    <a:pt x="341" y="36"/>
                  </a:lnTo>
                  <a:lnTo>
                    <a:pt x="360" y="44"/>
                  </a:lnTo>
                  <a:lnTo>
                    <a:pt x="379" y="50"/>
                  </a:lnTo>
                  <a:lnTo>
                    <a:pt x="402" y="60"/>
                  </a:lnTo>
                  <a:lnTo>
                    <a:pt x="423" y="69"/>
                  </a:lnTo>
                  <a:lnTo>
                    <a:pt x="450" y="80"/>
                  </a:lnTo>
                  <a:lnTo>
                    <a:pt x="476" y="91"/>
                  </a:lnTo>
                  <a:lnTo>
                    <a:pt x="507" y="104"/>
                  </a:lnTo>
                  <a:lnTo>
                    <a:pt x="537" y="117"/>
                  </a:lnTo>
                  <a:lnTo>
                    <a:pt x="541" y="112"/>
                  </a:lnTo>
                  <a:lnTo>
                    <a:pt x="539" y="112"/>
                  </a:lnTo>
                  <a:lnTo>
                    <a:pt x="4" y="113"/>
                  </a:lnTo>
                  <a:lnTo>
                    <a:pt x="2" y="113"/>
                  </a:lnTo>
                  <a:lnTo>
                    <a:pt x="2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" y="118"/>
                  </a:lnTo>
                  <a:lnTo>
                    <a:pt x="8" y="115"/>
                  </a:lnTo>
                  <a:lnTo>
                    <a:pt x="6" y="115"/>
                  </a:lnTo>
                  <a:lnTo>
                    <a:pt x="4" y="118"/>
                  </a:lnTo>
                  <a:lnTo>
                    <a:pt x="539" y="117"/>
                  </a:lnTo>
                  <a:lnTo>
                    <a:pt x="541" y="117"/>
                  </a:lnTo>
                  <a:lnTo>
                    <a:pt x="541" y="117"/>
                  </a:lnTo>
                  <a:lnTo>
                    <a:pt x="543" y="115"/>
                  </a:lnTo>
                  <a:lnTo>
                    <a:pt x="543" y="115"/>
                  </a:lnTo>
                  <a:lnTo>
                    <a:pt x="543" y="113"/>
                  </a:lnTo>
                  <a:lnTo>
                    <a:pt x="543" y="113"/>
                  </a:lnTo>
                  <a:lnTo>
                    <a:pt x="541" y="113"/>
                  </a:lnTo>
                  <a:lnTo>
                    <a:pt x="543" y="112"/>
                  </a:lnTo>
                  <a:lnTo>
                    <a:pt x="541" y="112"/>
                  </a:lnTo>
                  <a:lnTo>
                    <a:pt x="511" y="98"/>
                  </a:lnTo>
                  <a:lnTo>
                    <a:pt x="482" y="87"/>
                  </a:lnTo>
                  <a:lnTo>
                    <a:pt x="453" y="76"/>
                  </a:lnTo>
                  <a:lnTo>
                    <a:pt x="427" y="64"/>
                  </a:lnTo>
                  <a:lnTo>
                    <a:pt x="406" y="53"/>
                  </a:lnTo>
                  <a:lnTo>
                    <a:pt x="383" y="47"/>
                  </a:lnTo>
                  <a:lnTo>
                    <a:pt x="364" y="38"/>
                  </a:lnTo>
                  <a:lnTo>
                    <a:pt x="345" y="30"/>
                  </a:lnTo>
                  <a:lnTo>
                    <a:pt x="330" y="25"/>
                  </a:lnTo>
                  <a:lnTo>
                    <a:pt x="318" y="19"/>
                  </a:lnTo>
                  <a:lnTo>
                    <a:pt x="316" y="19"/>
                  </a:lnTo>
                  <a:lnTo>
                    <a:pt x="305" y="14"/>
                  </a:lnTo>
                  <a:lnTo>
                    <a:pt x="305" y="14"/>
                  </a:lnTo>
                  <a:lnTo>
                    <a:pt x="295" y="11"/>
                  </a:lnTo>
                  <a:lnTo>
                    <a:pt x="288" y="8"/>
                  </a:lnTo>
                  <a:lnTo>
                    <a:pt x="282" y="4"/>
                  </a:lnTo>
                  <a:lnTo>
                    <a:pt x="278" y="3"/>
                  </a:lnTo>
                  <a:lnTo>
                    <a:pt x="278" y="3"/>
                  </a:lnTo>
                  <a:lnTo>
                    <a:pt x="276" y="3"/>
                  </a:lnTo>
                  <a:lnTo>
                    <a:pt x="276" y="1"/>
                  </a:lnTo>
                  <a:lnTo>
                    <a:pt x="269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7" y="0"/>
                  </a:lnTo>
                  <a:lnTo>
                    <a:pt x="256" y="0"/>
                  </a:lnTo>
                  <a:lnTo>
                    <a:pt x="250" y="1"/>
                  </a:lnTo>
                  <a:lnTo>
                    <a:pt x="246" y="3"/>
                  </a:lnTo>
                  <a:lnTo>
                    <a:pt x="246" y="3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40" y="6"/>
                  </a:lnTo>
                  <a:lnTo>
                    <a:pt x="240" y="6"/>
                  </a:lnTo>
                  <a:lnTo>
                    <a:pt x="233" y="8"/>
                  </a:lnTo>
                  <a:lnTo>
                    <a:pt x="225" y="11"/>
                  </a:lnTo>
                  <a:lnTo>
                    <a:pt x="216" y="17"/>
                  </a:lnTo>
                  <a:lnTo>
                    <a:pt x="206" y="22"/>
                  </a:lnTo>
                  <a:lnTo>
                    <a:pt x="195" y="28"/>
                  </a:lnTo>
                  <a:lnTo>
                    <a:pt x="179" y="33"/>
                  </a:lnTo>
                  <a:lnTo>
                    <a:pt x="164" y="41"/>
                  </a:lnTo>
                  <a:lnTo>
                    <a:pt x="145" y="49"/>
                  </a:lnTo>
                  <a:lnTo>
                    <a:pt x="126" y="58"/>
                  </a:lnTo>
                  <a:lnTo>
                    <a:pt x="103" y="68"/>
                  </a:lnTo>
                  <a:lnTo>
                    <a:pt x="82" y="79"/>
                  </a:lnTo>
                  <a:lnTo>
                    <a:pt x="31" y="102"/>
                  </a:lnTo>
                  <a:lnTo>
                    <a:pt x="2" y="115"/>
                  </a:lnTo>
                  <a:lnTo>
                    <a:pt x="8" y="11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0480" y="1270440"/>
              <a:ext cx="852480" cy="296280"/>
            </a:xfrm>
            <a:custGeom>
              <a:avLst/>
              <a:gdLst/>
              <a:ahLst/>
              <a:rect l="l" t="t" r="r" b="b"/>
              <a:pathLst>
                <a:path w="537" h="144">
                  <a:moveTo>
                    <a:pt x="0" y="0"/>
                  </a:moveTo>
                  <a:lnTo>
                    <a:pt x="257" y="144"/>
                  </a:lnTo>
                  <a:lnTo>
                    <a:pt x="5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240" y="1268280"/>
              <a:ext cx="861840" cy="304920"/>
            </a:xfrm>
            <a:custGeom>
              <a:avLst/>
              <a:gdLst/>
              <a:ahLst/>
              <a:rect l="l" t="t" r="r" b="b"/>
              <a:pathLst>
                <a:path w="543" h="14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61" y="148"/>
                  </a:lnTo>
                  <a:lnTo>
                    <a:pt x="261" y="148"/>
                  </a:lnTo>
                  <a:lnTo>
                    <a:pt x="263" y="148"/>
                  </a:lnTo>
                  <a:lnTo>
                    <a:pt x="541" y="4"/>
                  </a:lnTo>
                  <a:lnTo>
                    <a:pt x="543" y="3"/>
                  </a:lnTo>
                  <a:lnTo>
                    <a:pt x="543" y="3"/>
                  </a:lnTo>
                  <a:lnTo>
                    <a:pt x="543" y="1"/>
                  </a:lnTo>
                  <a:lnTo>
                    <a:pt x="543" y="1"/>
                  </a:lnTo>
                  <a:lnTo>
                    <a:pt x="543" y="0"/>
                  </a:lnTo>
                  <a:lnTo>
                    <a:pt x="541" y="0"/>
                  </a:lnTo>
                  <a:lnTo>
                    <a:pt x="541" y="0"/>
                  </a:lnTo>
                  <a:lnTo>
                    <a:pt x="539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539" y="4"/>
                  </a:lnTo>
                  <a:lnTo>
                    <a:pt x="537" y="0"/>
                  </a:lnTo>
                  <a:lnTo>
                    <a:pt x="259" y="144"/>
                  </a:lnTo>
                  <a:lnTo>
                    <a:pt x="263" y="144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778760" y="1413000"/>
            <a:ext cx="450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致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 Cleaner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总裁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Mr. Sewickley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一封信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1042920" y="2276640"/>
            <a:ext cx="2303640" cy="299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2987640" y="3141720"/>
            <a:ext cx="2303640" cy="299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076720" y="2276640"/>
            <a:ext cx="2303640" cy="299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92280"/>
            <a:ext cx="194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新系统的使用给我带来了很大的麻烦！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3429000"/>
            <a:ext cx="194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次投诉却一直得不到反馈，该死的留言电话，一直都是留言电话！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2565360"/>
            <a:ext cx="1944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果像我们这样的老客户，投诉都得不到令人满意的答复，我们将永远不再和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公司打交道！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22680" y="5589720"/>
            <a:ext cx="186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华文彩云"/>
              </a:rPr>
              <a:t>George Shel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236000" y="4869000"/>
            <a:ext cx="11048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842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新系统使用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天就发生错误，在客户等待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43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天时间里，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次查询、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次索取赔偿表格，衣服失而复得却没人说得清原因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36600" y="1224000"/>
          <a:ext cx="8338680" cy="4128840"/>
        </p:xfrm>
        <a:graphic>
          <a:graphicData uri="http://schemas.openxmlformats.org/drawingml/2006/table">
            <a:tbl>
              <a:tblPr/>
              <a:tblGrid>
                <a:gridCol w="416520"/>
                <a:gridCol w="417240"/>
                <a:gridCol w="416880"/>
                <a:gridCol w="416880"/>
                <a:gridCol w="416880"/>
                <a:gridCol w="417240"/>
                <a:gridCol w="416880"/>
                <a:gridCol w="416880"/>
                <a:gridCol w="417240"/>
                <a:gridCol w="416520"/>
                <a:gridCol w="416880"/>
                <a:gridCol w="417240"/>
                <a:gridCol w="416880"/>
                <a:gridCol w="416880"/>
                <a:gridCol w="417240"/>
                <a:gridCol w="416880"/>
                <a:gridCol w="416880"/>
                <a:gridCol w="417240"/>
                <a:gridCol w="416520"/>
                <a:gridCol w="416880"/>
              </a:tblGrid>
              <a:tr h="458640"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8640"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00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24000" y="2276640"/>
            <a:ext cx="574560" cy="371160"/>
          </a:xfrm>
          <a:custGeom>
            <a:avLst/>
            <a:gdLst>
              <a:gd name="textAreaLeft" fmla="*/ 0 w 574560"/>
              <a:gd name="textAreaRight" fmla="*/ 574920 w 57456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7" y="0"/>
                </a:lnTo>
                <a:lnTo>
                  <a:pt x="21600" y="10800"/>
                </a:lnTo>
                <a:lnTo>
                  <a:pt x="205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1c3c1"/>
          </a:solidFill>
          <a:ln w="0">
            <a:noFill/>
          </a:ln>
          <a:effectLst>
            <a:outerShdw dist="17819" dir="2700000" blurRad="0" rotWithShape="0">
              <a:srgbClr val="4d74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理优惠卡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2781360"/>
            <a:ext cx="863640" cy="371520"/>
          </a:xfrm>
          <a:custGeom>
            <a:avLst/>
            <a:gdLst>
              <a:gd name="textAreaLeft" fmla="*/ 0 w 863640"/>
              <a:gd name="textAreaRight" fmla="*/ 864000 w 8636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7" y="0"/>
                </a:lnTo>
                <a:lnTo>
                  <a:pt x="21600" y="10800"/>
                </a:lnTo>
                <a:lnTo>
                  <a:pt x="205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1c3c1"/>
          </a:solidFill>
          <a:ln w="0">
            <a:noFill/>
          </a:ln>
          <a:effectLst>
            <a:outerShdw dist="17819" dir="2700000" blurRad="0" rotWithShape="0">
              <a:srgbClr val="4d74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使用发生衣服丢失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718080"/>
            <a:ext cx="2089080" cy="3711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0" y="0"/>
                </a:lnTo>
                <a:lnTo>
                  <a:pt x="21600" y="10800"/>
                </a:lnTo>
                <a:lnTo>
                  <a:pt x="20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1c3c1"/>
          </a:solidFill>
          <a:ln w="0">
            <a:noFill/>
          </a:ln>
          <a:effectLst>
            <a:outerShdw dist="17819" dir="2700000" blurRad="0" rotWithShape="0">
              <a:srgbClr val="4d74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电话查询都没有结果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213000"/>
            <a:ext cx="1224000" cy="3715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7" y="0"/>
                </a:lnTo>
                <a:lnTo>
                  <a:pt x="21600" y="10800"/>
                </a:lnTo>
                <a:lnTo>
                  <a:pt x="205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1c3c1"/>
          </a:solidFill>
          <a:ln w="0">
            <a:noFill/>
          </a:ln>
          <a:effectLst>
            <a:outerShdw dist="17819" dir="2700000" blurRad="0" rotWithShape="0">
              <a:srgbClr val="4d74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去店里查询无功而返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4221000"/>
            <a:ext cx="1655640" cy="3715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7" y="0"/>
                </a:lnTo>
                <a:lnTo>
                  <a:pt x="21600" y="10800"/>
                </a:lnTo>
                <a:lnTo>
                  <a:pt x="205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1c3c1"/>
          </a:solidFill>
          <a:ln w="0">
            <a:noFill/>
          </a:ln>
          <a:effectLst>
            <a:outerShdw dist="17819" dir="2700000" blurRad="0" rotWithShape="0">
              <a:srgbClr val="4d74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投诉赔偿问题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索取表格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47640" y="5589720"/>
            <a:ext cx="338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544428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7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天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5800" y="5518080"/>
            <a:ext cx="287280" cy="2523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748720" y="1125360"/>
            <a:ext cx="0" cy="442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797360"/>
            <a:ext cx="1656000" cy="3715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7" y="0"/>
                </a:lnTo>
                <a:lnTo>
                  <a:pt x="21600" y="10800"/>
                </a:lnTo>
                <a:lnTo>
                  <a:pt x="205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1c3c1"/>
          </a:solidFill>
          <a:ln w="0">
            <a:noFill/>
          </a:ln>
          <a:effectLst>
            <a:outerShdw dist="17819" dir="2700000" blurRad="0" rotWithShape="0">
              <a:srgbClr val="4d74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服失而复得没人说的清原因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5589720"/>
            <a:ext cx="338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544428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2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天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58972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44428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天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1480" y="5854680"/>
            <a:ext cx="534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暴露出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公司在客户管理、服务体系、员工管理三个方面存在问题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4149720"/>
            <a:ext cx="3960720" cy="194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1052640"/>
            <a:ext cx="4752720" cy="194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存在问题一（客户管理）：缺乏必要的客户分类管理、对客户离去会带来的损失估计不足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338640"/>
            <a:ext cx="3240360" cy="0"/>
          </a:xfrm>
          <a:prstGeom prst="line">
            <a:avLst/>
          </a:prstGeom>
          <a:ln w="284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900000" y="1321920"/>
            <a:ext cx="0" cy="2016360"/>
          </a:xfrm>
          <a:prstGeom prst="line">
            <a:avLst/>
          </a:prstGeom>
          <a:ln w="284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259000"/>
            <a:ext cx="302436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393920"/>
            <a:ext cx="0" cy="19447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8560" y="341136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交易收益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1322280"/>
            <a:ext cx="647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交易次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5280" y="3267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高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33480" y="3267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4760" y="3051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少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6200" y="11066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多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6760" y="1538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黄金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58200" y="261936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流星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2560" y="1538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溪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2560" y="261936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负担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1844640"/>
            <a:ext cx="358920" cy="3603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8600" y="3573360"/>
            <a:ext cx="1251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图：客户收益分类矩阵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1268280"/>
            <a:ext cx="460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George Shelton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平均每周都会给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公司带来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$2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$3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营业额，在过去一年时间里给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rest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贡献了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$100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收入，显然其应该被视作公司的黄金客户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0" y="4149720"/>
          <a:ext cx="4103640" cy="187020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</a:tblGrid>
              <a:tr h="374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收益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维持成本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黄金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高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低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流星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高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高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小溪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低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低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负担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低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00"/>
                          </a:solidFill>
                          <a:latin typeface="Arial"/>
                          <a:ea typeface="华文细黑"/>
                        </a:rPr>
                        <a:t>高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4568040" y="42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类型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6200" y="413244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项目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292640"/>
            <a:ext cx="36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流失黄金类型客户，在减少自己的收益的同时，也增强了竞争对手的实力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蝴蝶效应”，使得客户流失会产生更为严重的后果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3320" y="3789360"/>
            <a:ext cx="26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表：各类客户收益、维持成本分析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58920" y="4510080"/>
            <a:ext cx="1512720" cy="18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Cloud"/>
          <p:cNvSpPr/>
          <p:nvPr/>
        </p:nvSpPr>
        <p:spPr>
          <a:xfrm rot="17013000">
            <a:off x="2509920" y="3115800"/>
            <a:ext cx="1587240" cy="1063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2494080"/>
            <a:ext cx="3313080" cy="2447640"/>
          </a:xfrm>
          <a:prstGeom prst="rect">
            <a:avLst/>
          </a:prstGeom>
          <a:noFill/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存在问题二（服务体系）：服务的组织网络设计不合理，缺乏正式的客户投诉渠道、缺乏对客户的情感关怀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11640" y="2997360"/>
            <a:ext cx="1872720" cy="1439640"/>
            <a:chOff x="4211640" y="2997360"/>
            <a:chExt cx="1872720" cy="1439640"/>
          </a:xfrm>
        </p:grpSpPr>
        <p:sp>
          <p:nvSpPr>
            <p:cNvPr id="157" name=""/>
            <p:cNvSpPr/>
            <p:nvPr/>
          </p:nvSpPr>
          <p:spPr>
            <a:xfrm>
              <a:off x="5003640" y="2997360"/>
              <a:ext cx="215640" cy="215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11640" y="3500640"/>
              <a:ext cx="215640" cy="215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8720" y="3500640"/>
              <a:ext cx="215640" cy="215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00360" y="4221360"/>
              <a:ext cx="215640" cy="215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5280" y="4221360"/>
              <a:ext cx="215640" cy="215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57" idx="3"/>
              <a:endCxn id="160" idx="0"/>
            </p:cNvCxnSpPr>
            <p:nvPr/>
          </p:nvCxnSpPr>
          <p:spPr>
            <a:xfrm flipH="1">
              <a:off x="4607640" y="3180960"/>
              <a:ext cx="427320" cy="104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57" idx="5"/>
              <a:endCxn id="161" idx="0"/>
            </p:cNvCxnSpPr>
            <p:nvPr/>
          </p:nvCxnSpPr>
          <p:spPr>
            <a:xfrm>
              <a:off x="5187240" y="3180960"/>
              <a:ext cx="356040" cy="104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57" idx="2"/>
              <a:endCxn id="158" idx="7"/>
            </p:cNvCxnSpPr>
            <p:nvPr/>
          </p:nvCxnSpPr>
          <p:spPr>
            <a:xfrm flipH="1">
              <a:off x="4395240" y="3105360"/>
              <a:ext cx="608400" cy="42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5" name=""/>
            <p:cNvCxnSpPr>
              <a:stCxn id="157" idx="6"/>
              <a:endCxn id="159" idx="0"/>
            </p:cNvCxnSpPr>
            <p:nvPr/>
          </p:nvCxnSpPr>
          <p:spPr>
            <a:xfrm>
              <a:off x="5219640" y="3105360"/>
              <a:ext cx="757440" cy="3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6" name=""/>
          <p:cNvSpPr/>
          <p:nvPr/>
        </p:nvSpPr>
        <p:spPr>
          <a:xfrm>
            <a:off x="1835280" y="3429000"/>
            <a:ext cx="35856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8280" y="343044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客户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64880" y="3718080"/>
            <a:ext cx="62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店员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800" y="4510080"/>
            <a:ext cx="61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店员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57160" y="4438800"/>
            <a:ext cx="86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工厂员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8800" y="371808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工厂员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95400" y="256536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客服部经理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36464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3718080"/>
            <a:ext cx="863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268360" y="307008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7" idx="0"/>
            <a:endCxn id="166" idx="0"/>
          </p:cNvCxnSpPr>
          <p:nvPr/>
        </p:nvCxnSpPr>
        <p:spPr>
          <a:xfrm rot="5400000">
            <a:off x="3346560" y="1663560"/>
            <a:ext cx="432360" cy="3097800"/>
          </a:xfrm>
          <a:prstGeom prst="bentConnector3">
            <a:avLst>
              <a:gd name="adj1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403280" y="4724280"/>
            <a:ext cx="1297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缺乏正式的客户投诉渠道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客户投诉流程宣传不够，使得投诉效率较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302600">
            <a:off x="2555640" y="4293720"/>
            <a:ext cx="47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73680" y="24908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投诉反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66200" y="341316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投诉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3357720"/>
            <a:ext cx="57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投诉渠道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3429000"/>
            <a:ext cx="576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投诉处理信息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07320" y="3716280"/>
            <a:ext cx="1912680" cy="2421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51680" y="3933720"/>
            <a:ext cx="162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轮式组织设计，使得信息高度集中在客服经理手中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客户无法获知投诉处理过程的信息，将大大降低其满意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管理者和执行者缺乏分工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3567200">
            <a:off x="6595200" y="3421440"/>
            <a:ext cx="4716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1052640"/>
            <a:ext cx="5040360" cy="115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125360"/>
            <a:ext cx="49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客户缺乏情感关怀，和客户的沟通给人以冷冰冰的“职业”感觉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忽略了马斯洛理论中人被尊重的需要，过于关注经济利益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错误的投诉处理方式，使得客户投诉后果越来越严重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8072400">
            <a:off x="2706840" y="1981800"/>
            <a:ext cx="4716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存在问题三（员工管理）：对员工缺乏必要的授权、员工对新业务流程没有有效掌握、对客户投诉存在错误的认知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0" name=""/>
          <p:cNvSpPr/>
          <p:nvPr/>
        </p:nvSpPr>
        <p:spPr>
          <a:xfrm>
            <a:off x="2016000" y="3068640"/>
            <a:ext cx="35892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84720" y="4100400"/>
            <a:ext cx="35856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52280" y="350028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客户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94080" y="453240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员工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7240" y="3068640"/>
            <a:ext cx="35856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58400" y="3500280"/>
            <a:ext cx="55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管理者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35800" y="3068640"/>
            <a:ext cx="35856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89360" y="350028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总裁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8000" y="342756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48000" y="3284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0" idx="0"/>
            <a:endCxn id="196" idx="0"/>
          </p:cNvCxnSpPr>
          <p:nvPr/>
        </p:nvCxnSpPr>
        <p:spPr>
          <a:xfrm flipH="1" rot="16200000">
            <a:off x="4454640" y="809280"/>
            <a:ext cx="2160" cy="4520160"/>
          </a:xfrm>
          <a:prstGeom prst="bentConnector3">
            <a:avLst>
              <a:gd name="adj1" fmla="val -46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302560" y="393228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事态较轻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0560" y="32846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事态升级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8520" y="2043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事态严重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4510080"/>
            <a:ext cx="1512720" cy="201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4724280"/>
            <a:ext cx="1297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新的业务流程和信息系统不熟练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没有得到充分授权，没有在事态较轻时解决客户抱怨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02600">
            <a:off x="2916000" y="4293720"/>
            <a:ext cx="47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4149720"/>
            <a:ext cx="1513080" cy="201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4363920"/>
            <a:ext cx="12967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客户投诉缺乏积极的认识，认为是给公司制造麻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未能在事态升级到管理层面前及时解决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104800">
            <a:off x="5298120" y="3853440"/>
            <a:ext cx="4716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19640" y="1054080"/>
            <a:ext cx="3960720" cy="862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1182600"/>
            <a:ext cx="381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事态严重恶化，投诉到公司最高层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客户要求赔偿，否则将永远不和公司打交道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8184600">
            <a:off x="3131640" y="1699920"/>
            <a:ext cx="4716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要破解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Prest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公司所面临的这类困境，仅从公司服务体系入手加以分析是不够的，需要从源头上清理问题的所在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4" name=""/>
          <p:cNvSpPr/>
          <p:nvPr/>
        </p:nvSpPr>
        <p:spPr>
          <a:xfrm>
            <a:off x="3818160" y="3068640"/>
            <a:ext cx="154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小组成员为此展开了一周的讨论…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612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问题的产生似乎是员工工作技能、服务态度和公司服务体系的问题，但根本原因却是“人”的因素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2851200"/>
            <a:ext cx="554508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1122480"/>
            <a:ext cx="2016000" cy="35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122480"/>
            <a:ext cx="201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2560" y="11318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表面原因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922480"/>
            <a:ext cx="2016000" cy="35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922480"/>
            <a:ext cx="2016000" cy="36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2560" y="29322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深层原因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554120"/>
            <a:ext cx="1944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新系统切换问题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员工态度问题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员工沟通技巧问题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服务流程问题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427560"/>
            <a:ext cx="194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只有员工发自内心的真诚服务才能让客户满意、得到尊重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企业首先要让员工满意、得到尊重，才能激发他们努力学习各种技能、对公司体制方面问题提出改进意见，从而为客户提供真诚的服务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93680" y="2660760"/>
            <a:ext cx="55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水平面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1555920"/>
            <a:ext cx="100800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1627200"/>
            <a:ext cx="72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系统切换问题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1555920"/>
            <a:ext cx="100944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1627200"/>
            <a:ext cx="72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员工态度傲慢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1555920"/>
            <a:ext cx="79200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1627200"/>
            <a:ext cx="57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沟通技巧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1555920"/>
            <a:ext cx="100980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1627200"/>
            <a:ext cx="86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服务流程问题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8200" y="1555920"/>
            <a:ext cx="1298880" cy="7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1627200"/>
            <a:ext cx="115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未进行客户分类管理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3139920"/>
            <a:ext cx="115272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3211560"/>
            <a:ext cx="1008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技能问题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3139920"/>
            <a:ext cx="115272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3211560"/>
            <a:ext cx="1008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态度问题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0000" y="3139920"/>
            <a:ext cx="115236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64360" y="3211560"/>
            <a:ext cx="100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体系问题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27" idx="2"/>
            <a:endCxn id="237" idx="0"/>
          </p:cNvCxnSpPr>
          <p:nvPr/>
        </p:nvCxnSpPr>
        <p:spPr>
          <a:xfrm>
            <a:off x="3131640" y="2276640"/>
            <a:ext cx="7236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9" idx="2"/>
            <a:endCxn id="239" idx="0"/>
          </p:cNvCxnSpPr>
          <p:nvPr/>
        </p:nvCxnSpPr>
        <p:spPr>
          <a:xfrm>
            <a:off x="4284360" y="2276640"/>
            <a:ext cx="115164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1" idx="2"/>
            <a:endCxn id="237" idx="0"/>
          </p:cNvCxnSpPr>
          <p:nvPr/>
        </p:nvCxnSpPr>
        <p:spPr>
          <a:xfrm flipH="1">
            <a:off x="3203280" y="2276640"/>
            <a:ext cx="212616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2"/>
            <a:endCxn id="241" idx="0"/>
          </p:cNvCxnSpPr>
          <p:nvPr/>
        </p:nvCxnSpPr>
        <p:spPr>
          <a:xfrm>
            <a:off x="6372360" y="2276640"/>
            <a:ext cx="122472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5" idx="2"/>
            <a:endCxn id="241" idx="0"/>
          </p:cNvCxnSpPr>
          <p:nvPr/>
        </p:nvCxnSpPr>
        <p:spPr>
          <a:xfrm flipH="1">
            <a:off x="7596000" y="2276640"/>
            <a:ext cx="7200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060720" y="5035680"/>
            <a:ext cx="35892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97000" y="546732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客户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5035680"/>
            <a:ext cx="358920" cy="3603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9000" y="546732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员工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0320" y="5035680"/>
            <a:ext cx="358920" cy="36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46960" y="546732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企业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635280" y="51800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82680" y="4886280"/>
            <a:ext cx="79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让客户满意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得到尊重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867280" y="51800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14680" y="4886280"/>
            <a:ext cx="79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让员工满意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得到尊重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203280" y="601992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5972040"/>
            <a:ext cx="144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传递企业价值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37" idx="2"/>
            <a:endCxn id="250" idx="1"/>
          </p:cNvCxnSpPr>
          <p:nvPr/>
        </p:nvCxnSpPr>
        <p:spPr>
          <a:xfrm>
            <a:off x="3203280" y="3571560"/>
            <a:ext cx="2142360" cy="15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2"/>
            <a:endCxn id="250" idx="0"/>
          </p:cNvCxnSpPr>
          <p:nvPr/>
        </p:nvCxnSpPr>
        <p:spPr>
          <a:xfrm>
            <a:off x="5435280" y="3571920"/>
            <a:ext cx="37080" cy="14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1" idx="2"/>
            <a:endCxn id="250" idx="7"/>
          </p:cNvCxnSpPr>
          <p:nvPr/>
        </p:nvCxnSpPr>
        <p:spPr>
          <a:xfrm flipH="1">
            <a:off x="5598720" y="3571560"/>
            <a:ext cx="1998000" cy="15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96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在分析案例中普通员工和客服部经理的行为表现后，我们发现无论哪类员工，其工作的积极性表现均不如人意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965480" y="3716280"/>
            <a:ext cx="3737160" cy="2649960"/>
            <a:chOff x="4965480" y="3716280"/>
            <a:chExt cx="3737160" cy="2649960"/>
          </a:xfrm>
        </p:grpSpPr>
        <p:sp>
          <p:nvSpPr>
            <p:cNvPr id="265" name=""/>
            <p:cNvSpPr/>
            <p:nvPr/>
          </p:nvSpPr>
          <p:spPr>
            <a:xfrm>
              <a:off x="5212800" y="3716280"/>
              <a:ext cx="3290400" cy="2343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06920" y="4887720"/>
              <a:ext cx="258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0040" y="4007880"/>
              <a:ext cx="0" cy="17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2360" y="3735360"/>
              <a:ext cx="505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积极性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2360" y="5747040"/>
              <a:ext cx="505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消极性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97560" y="4731480"/>
              <a:ext cx="505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建设性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65480" y="4731480"/>
              <a:ext cx="505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破坏性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01120" y="4230360"/>
              <a:ext cx="39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退出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01120" y="5298840"/>
              <a:ext cx="39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怠工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0880" y="4230360"/>
              <a:ext cx="39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建议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0880" y="5298840"/>
              <a:ext cx="39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忠诚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5080" y="6060600"/>
              <a:ext cx="1145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图：员工不满的表现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303640" y="1486080"/>
            <a:ext cx="1728720" cy="144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3640" y="1701720"/>
            <a:ext cx="1441440" cy="14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60720" y="1917720"/>
            <a:ext cx="1366560" cy="144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03640" y="2133720"/>
            <a:ext cx="1008000" cy="144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32000" y="2349360"/>
            <a:ext cx="1152720" cy="14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36720" y="2638440"/>
            <a:ext cx="1728720" cy="144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24000" y="2854440"/>
            <a:ext cx="1512720" cy="14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44720" y="3070080"/>
            <a:ext cx="719280" cy="14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60720" y="3286080"/>
            <a:ext cx="503280" cy="144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48000" y="134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3880" y="3573360"/>
            <a:ext cx="135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图：郝茨伯格双因素理论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74200" y="134136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成就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920" y="163044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认可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2360" y="18288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工作本身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55280" y="204480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责任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55280" y="226044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晋升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6760" y="249228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公司政策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440" y="276372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工作条件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73840" y="2979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薪水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89840" y="321300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安全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0120" y="10526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导致极端不满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13120" y="10526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导致极端满意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73" idx="1"/>
          </p:cNvCxnSpPr>
          <p:nvPr/>
        </p:nvCxnSpPr>
        <p:spPr>
          <a:xfrm flipH="1" rot="16200000">
            <a:off x="2713320" y="2333880"/>
            <a:ext cx="1591560" cy="464436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0" idx="3"/>
            <a:endCxn id="275" idx="3"/>
          </p:cNvCxnSpPr>
          <p:nvPr/>
        </p:nvCxnSpPr>
        <p:spPr>
          <a:xfrm>
            <a:off x="4425840" y="1981080"/>
            <a:ext cx="3355200" cy="3471120"/>
          </a:xfrm>
          <a:prstGeom prst="bentConnector3">
            <a:avLst>
              <a:gd name="adj1" fmla="val 1068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332000" y="4221000"/>
            <a:ext cx="3384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于普通员工而言，其不满可能源于保健因素没有得到满足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具体表现为消极怠工，听任事态越来越糟，工作建设性、积极性不够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00720" y="2060640"/>
            <a:ext cx="3384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对于客服部经理管理层员工而言，其不满可能来自激励因素刺激不够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具体表现为对企业很忠诚，极力维护企业利益，但是缺乏积极主动改善企业所面临的深层次问题的行动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02:30Z</dcterms:created>
  <dc:creator>gaozhi</dc:creator>
  <dc:description/>
  <dc:language>en-US</dc:language>
  <cp:lastModifiedBy>april.yuan</cp:lastModifiedBy>
  <dcterms:modified xsi:type="dcterms:W3CDTF">2005-12-09T06:11:50Z</dcterms:modified>
  <cp:revision>3066</cp:revision>
  <dc:subject/>
  <dc:title>幻灯片 1</dc:title>
</cp:coreProperties>
</file>