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6CB55-7225-4068-9B6E-0187C7D0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1480" y="1301760"/>
            <a:ext cx="867420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1480" y="3932280"/>
            <a:ext cx="867420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61E23-039C-49EF-BDA8-A9CF7017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1480" y="130176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130176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1480" y="393228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93228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7DAB4-DC56-4554-85EF-DB7E899F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1480" y="1301760"/>
            <a:ext cx="279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301760"/>
            <a:ext cx="279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7320" y="1301760"/>
            <a:ext cx="279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1480" y="3932280"/>
            <a:ext cx="279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32280"/>
            <a:ext cx="279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7320" y="3932280"/>
            <a:ext cx="279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B5F9A-516C-4C81-96EA-94B4AA84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B41DF-27E2-4BE2-9368-6B2CC041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1480" y="1301760"/>
            <a:ext cx="867420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536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5E6BE-8662-45FB-877E-E6B2D872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1480" y="1301760"/>
            <a:ext cx="8674200" cy="50356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AF22B-8165-4AB7-B949-E7AFA94A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1480" y="1301760"/>
            <a:ext cx="4232880" cy="50356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1301760"/>
            <a:ext cx="4232880" cy="50356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2503E-2DA7-467A-88E0-61E02DDE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B6A9A-2A09-4297-A328-A91FB43F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5000" y="217080"/>
            <a:ext cx="868068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1F41F-08EF-4793-8C2A-462C31DC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1480" y="130176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1301760"/>
            <a:ext cx="4232880" cy="50356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1480" y="393228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9A27C-ABF2-4E8E-A1B4-24A963A3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1480" y="1301760"/>
            <a:ext cx="867420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536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4A94D-8183-49C6-A267-352FC9F0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1480" y="1301760"/>
            <a:ext cx="4232880" cy="50356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130176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93228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99406-348F-4FB8-AA8A-980736DB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1480" y="130176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130176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1480" y="3932280"/>
            <a:ext cx="867420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54D11-DC0B-4F06-9008-BFD3B1A5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1480" y="1301760"/>
            <a:ext cx="867420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1480" y="3932280"/>
            <a:ext cx="867420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0E10C-F555-45FE-937C-83B382AC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1480" y="130176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130176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1480" y="393228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93228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A8857-D99B-4CAD-B5DB-D70E2FC2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1480" y="1301760"/>
            <a:ext cx="279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4400" y="1301760"/>
            <a:ext cx="279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7320" y="1301760"/>
            <a:ext cx="279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1480" y="3932280"/>
            <a:ext cx="279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4400" y="3932280"/>
            <a:ext cx="279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7320" y="3932280"/>
            <a:ext cx="279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009CE-CCD4-4BA7-8D77-7C01DA0E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D5A8D-7023-45F0-AECD-5F573283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31480" y="1301760"/>
            <a:ext cx="867420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536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183E9-7ACC-4C10-8C0C-4665D3A7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31480" y="1301760"/>
            <a:ext cx="8674200" cy="50356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2BC71-7238-453A-AF61-8E64D4AF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31480" y="1301760"/>
            <a:ext cx="4232880" cy="50356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1301760"/>
            <a:ext cx="4232880" cy="50356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C5780-0C1E-4A69-AAC3-74234A17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F24AC-071E-4B2D-BB1F-A36685B3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1480" y="1301760"/>
            <a:ext cx="8674200" cy="50356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C3644-6548-4627-AA31-7AF28092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5000" y="217080"/>
            <a:ext cx="868068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C7A30-CDD3-43B2-AF07-DC6767E8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31480" y="130176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1301760"/>
            <a:ext cx="4232880" cy="50356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31480" y="393228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EB70E-7C04-4CB9-A160-9B8163E6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31480" y="1301760"/>
            <a:ext cx="4232880" cy="50356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130176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93228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B347A-5701-49E1-8CCC-F9030500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31480" y="130176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130176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31480" y="3932280"/>
            <a:ext cx="867420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D6ED1-DC81-49CD-BEAB-CBB71F7B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1480" y="1301760"/>
            <a:ext cx="867420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31480" y="3932280"/>
            <a:ext cx="867420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A9546-F669-42DF-889F-B5D99258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1480" y="130176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130176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31480" y="393228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93228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17318-8D06-46CB-B2AD-AA598721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1480" y="1301760"/>
            <a:ext cx="279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4400" y="1301760"/>
            <a:ext cx="279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7320" y="1301760"/>
            <a:ext cx="279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31480" y="3932280"/>
            <a:ext cx="279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4400" y="3932280"/>
            <a:ext cx="279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7320" y="3932280"/>
            <a:ext cx="279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2E068-1F29-47D2-8BF5-0D16B202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1480" y="1301760"/>
            <a:ext cx="4232880" cy="50356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1301760"/>
            <a:ext cx="4232880" cy="50356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216FC-CC05-4599-8F3D-527D25D5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37DB3-F0A9-4D53-87A2-C7A85566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5000" y="217080"/>
            <a:ext cx="868068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D7C1B-2866-4778-810F-479DD150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1480" y="130176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1301760"/>
            <a:ext cx="4232880" cy="50356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1480" y="393228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CEC26-3980-43B2-9DFF-03A88719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1480" y="1301760"/>
            <a:ext cx="4232880" cy="50356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130176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93228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BEA78-F0FB-4305-8780-696E7501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1480" y="130176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1301760"/>
            <a:ext cx="423288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1480" y="3932280"/>
            <a:ext cx="8674200" cy="24019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E47D0-D714-47EE-8AC2-D6B8120A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31480" y="1301760"/>
            <a:ext cx="8674200" cy="50356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230040">
              <a:spcAft>
                <a:spcPts val="1250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231840" indent="239760">
              <a:spcAft>
                <a:spcPts val="1250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473040" indent="216000">
              <a:spcAft>
                <a:spcPts val="1250"/>
              </a:spcAft>
              <a:buClr>
                <a:srgbClr val="ffffff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3" marL="690480" indent="208080">
              <a:spcAft>
                <a:spcPts val="1250"/>
              </a:spcAft>
              <a:buClr>
                <a:srgbClr val="ffffff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4" marL="919080" indent="241560">
              <a:spcAft>
                <a:spcPts val="1250"/>
              </a:spcAft>
              <a:buClr>
                <a:srgbClr val="ffffff"/>
              </a:buClr>
              <a:buSzPct val="70000"/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5" marL="919080" indent="241560">
              <a:spcAft>
                <a:spcPts val="1250"/>
              </a:spcAft>
              <a:buClr>
                <a:srgbClr val="ffffff"/>
              </a:buClr>
              <a:buSzPct val="70000"/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6" marL="919080" indent="241560">
              <a:spcAft>
                <a:spcPts val="1250"/>
              </a:spcAft>
              <a:buClr>
                <a:srgbClr val="ffffff"/>
              </a:buClr>
              <a:buSzPct val="70000"/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 Hv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73160" y="6602400"/>
            <a:ext cx="109548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Futura L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Lt"/>
              </a:rPr>
              <a:t>&lt;footer&gt;</a:t>
            </a:r>
            <a:r>
              <a:rPr b="0" lang="en-US" sz="800" spc="-1" strike="noStrike">
                <a:solidFill>
                  <a:srgbClr val="000000"/>
                </a:solidFill>
                <a:latin typeface="Futura Lt"/>
              </a:rPr>
              <a:t>filename\location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92760" y="6602400"/>
            <a:ext cx="39204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Futura L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Lt"/>
              </a:rPr>
              <a:t>Page </a:t>
            </a:r>
            <a:fld id="{5778D1CF-EAF2-4307-943A-A07CA8DCF571}" type="slidenum">
              <a:rPr b="0" lang="en-US" sz="800" spc="-1" strike="noStrike">
                <a:solidFill>
                  <a:srgbClr val="000000"/>
                </a:solidFill>
                <a:latin typeface="Futura L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226800" y="6663240"/>
            <a:ext cx="48708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10000"/>
                </a:solidFill>
                <a:latin typeface="Futura L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20AB-545C-4E08-A522-3B42C7A37D82}" type="datetime3">
              <a:rPr b="0" lang="en-US" sz="800" spc="-1" strike="noStrike">
                <a:solidFill>
                  <a:srgbClr val="010000"/>
                </a:solidFill>
                <a:latin typeface="Futura Lt"/>
              </a:rPr>
              <a:t>July 31, 2026</a:t>
            </a:fld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4673160" y="6602400"/>
            <a:ext cx="109548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Futura L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Lt"/>
              </a:rPr>
              <a:t>&lt;footer&gt;</a:t>
            </a:r>
            <a:r>
              <a:rPr b="0" lang="en-US" sz="800" spc="-1" strike="noStrike">
                <a:solidFill>
                  <a:srgbClr val="000000"/>
                </a:solidFill>
                <a:latin typeface="Futura Lt"/>
              </a:rPr>
              <a:t>filename\location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8492760" y="6602400"/>
            <a:ext cx="39204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Futura L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Lt"/>
              </a:rPr>
              <a:t>Page </a:t>
            </a:r>
            <a:fld id="{2E7A7B3B-3392-45C9-9B99-3ED1873583CC}" type="slidenum">
              <a:rPr b="0" lang="en-US" sz="800" spc="-1" strike="noStrike">
                <a:solidFill>
                  <a:srgbClr val="000000"/>
                </a:solidFill>
                <a:latin typeface="Futura L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231840" y="228600"/>
            <a:ext cx="4224240" cy="63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 Hv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6"/>
          </p:nvPr>
        </p:nvSpPr>
        <p:spPr>
          <a:xfrm>
            <a:off x="226800" y="6663240"/>
            <a:ext cx="48708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10000"/>
                </a:solidFill>
                <a:latin typeface="Futura L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7DB1-B785-4EAE-914D-3D4BB4798FAB}" type="datetime3">
              <a:rPr b="0" lang="en-US" sz="800" spc="-1" strike="noStrike">
                <a:solidFill>
                  <a:srgbClr val="010000"/>
                </a:solidFill>
                <a:latin typeface="Futura Lt"/>
              </a:rPr>
              <a:t>July 31, 2026</a:t>
            </a:fld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457200" indent="-230040">
              <a:spcAft>
                <a:spcPts val="1250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687240" indent="-228600">
              <a:spcAft>
                <a:spcPts val="451"/>
              </a:spcAft>
              <a:buClr>
                <a:srgbClr val="ffffff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3" marL="907920" indent="-218880">
              <a:spcBef>
                <a:spcPts val="400"/>
              </a:spcBef>
              <a:buClr>
                <a:srgbClr val="ffffff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4" marL="1149480" indent="-230400">
              <a:spcBef>
                <a:spcPts val="349"/>
              </a:spcBef>
              <a:buClr>
                <a:srgbClr val="ffffff"/>
              </a:buClr>
              <a:buSzPct val="70000"/>
              <a:buFont typeface="Futura B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5" marL="1149480" indent="-230400">
              <a:spcBef>
                <a:spcPts val="349"/>
              </a:spcBef>
              <a:buClr>
                <a:srgbClr val="ffffff"/>
              </a:buClr>
              <a:buSzPct val="70000"/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6" marL="1149480" indent="-230400">
              <a:spcBef>
                <a:spcPts val="349"/>
              </a:spcBef>
              <a:buClr>
                <a:srgbClr val="ffffff"/>
              </a:buClr>
              <a:buSzPct val="70000"/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030D-EA40-4B9A-9E16-C2DE8E7623F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84F9-AF99-4E0F-BF37-DE9E4DE4A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34720" y="4076640"/>
            <a:ext cx="67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Futura Lt"/>
              </a:rPr>
              <a:t>L</a:t>
            </a:r>
            <a:r>
              <a:rPr b="1" lang="en-US" sz="3200" spc="-1" strike="noStrike">
                <a:solidFill>
                  <a:srgbClr val="ff6600"/>
                </a:solidFill>
                <a:latin typeface="Futura Lt"/>
              </a:rPr>
              <a:t>eading</a:t>
            </a:r>
            <a:r>
              <a:rPr b="1" lang="en-US" sz="3200" spc="-1" strike="noStrike">
                <a:solidFill>
                  <a:srgbClr val="ff9900"/>
                </a:solidFill>
                <a:latin typeface="Futura Lt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Futura Lt"/>
              </a:rPr>
              <a:t>M</a:t>
            </a:r>
            <a:r>
              <a:rPr b="1" lang="en-US" sz="3200" spc="-1" strike="noStrike">
                <a:solidFill>
                  <a:srgbClr val="ff6600"/>
                </a:solidFill>
                <a:latin typeface="Futura Lt"/>
              </a:rPr>
              <a:t>anagement </a:t>
            </a:r>
            <a:r>
              <a:rPr b="1" lang="en-US" sz="4000" spc="-1" strike="noStrike">
                <a:solidFill>
                  <a:srgbClr val="000066"/>
                </a:solidFill>
                <a:latin typeface="Futura Lt"/>
              </a:rPr>
              <a:t>C</a:t>
            </a:r>
            <a:r>
              <a:rPr b="1" lang="en-US" sz="3200" spc="-1" strike="noStrike">
                <a:solidFill>
                  <a:srgbClr val="ff6600"/>
                </a:solidFill>
                <a:latin typeface="Futura Lt"/>
              </a:rPr>
              <a:t>reating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1683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31840" y="228600"/>
            <a:ext cx="4224240" cy="63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Futura Hv"/>
                <a:ea typeface="幼圆"/>
              </a:rPr>
              <a:t>对此观点的评价</a:t>
            </a:r>
            <a:endParaRPr b="0" lang="en-US" sz="44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189000"/>
            <a:ext cx="432144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1" name=""/>
          <p:cNvSpPr/>
          <p:nvPr/>
        </p:nvSpPr>
        <p:spPr>
          <a:xfrm>
            <a:off x="4788000" y="765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utura Lt"/>
                <a:ea typeface="幼圆"/>
              </a:rPr>
              <a:t>这是典型的产品观念，与现代营销观念以市场和顾客为中心的观念相悖。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2" name=""/>
          <p:cNvSpPr/>
          <p:nvPr/>
        </p:nvSpPr>
        <p:spPr>
          <a:xfrm>
            <a:off x="4859280" y="41497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utura Lt"/>
                <a:ea typeface="幼圆"/>
              </a:rPr>
              <a:t>外部环境已经变化，但销售思想未能从产品观念上升为营销理念。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3" name=""/>
          <p:cNvSpPr/>
          <p:nvPr/>
        </p:nvSpPr>
        <p:spPr>
          <a:xfrm>
            <a:off x="4932360" y="2492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utura Lt"/>
                <a:ea typeface="幼圆"/>
              </a:rPr>
              <a:t>产品观念会导致“营销近视症”。影响企业长期发展战略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C42D7-A732-44AA-BE04-245C6F79DF08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2CAB0E7C-0050-4CEC-BD9A-DCA1F416143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28840" y="3255840"/>
            <a:ext cx="2743200" cy="1676520"/>
          </a:xfrm>
          <a:prstGeom prst="ellipse">
            <a:avLst/>
          </a:prstGeom>
          <a:solidFill>
            <a:srgbClr val="00008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5" name=""/>
          <p:cNvSpPr/>
          <p:nvPr/>
        </p:nvSpPr>
        <p:spPr>
          <a:xfrm>
            <a:off x="6048360" y="2874960"/>
            <a:ext cx="1905120" cy="990720"/>
          </a:xfrm>
          <a:prstGeom prst="ellipse">
            <a:avLst/>
          </a:prstGeom>
          <a:solidFill>
            <a:srgbClr val="ffcc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6" name=""/>
          <p:cNvSpPr/>
          <p:nvPr/>
        </p:nvSpPr>
        <p:spPr>
          <a:xfrm>
            <a:off x="1171440" y="2798640"/>
            <a:ext cx="1981440" cy="99072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7" name=""/>
          <p:cNvSpPr/>
          <p:nvPr/>
        </p:nvSpPr>
        <p:spPr>
          <a:xfrm>
            <a:off x="3610080" y="1731960"/>
            <a:ext cx="1981080" cy="990720"/>
          </a:xfrm>
          <a:prstGeom prst="ellipse">
            <a:avLst/>
          </a:prstGeom>
          <a:solidFill>
            <a:srgbClr val="75aad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4941720"/>
            <a:ext cx="1981440" cy="99072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9" name=""/>
          <p:cNvSpPr/>
          <p:nvPr/>
        </p:nvSpPr>
        <p:spPr>
          <a:xfrm>
            <a:off x="5435640" y="4869000"/>
            <a:ext cx="1981080" cy="990360"/>
          </a:xfrm>
          <a:prstGeom prst="ellipse">
            <a:avLst/>
          </a:prstGeom>
          <a:solidFill>
            <a:srgbClr val="66ff3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4333680" y="28368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1" name=""/>
          <p:cNvSpPr/>
          <p:nvPr/>
        </p:nvSpPr>
        <p:spPr>
          <a:xfrm rot="8755800">
            <a:off x="5756040" y="344916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2" name=""/>
          <p:cNvSpPr/>
          <p:nvPr/>
        </p:nvSpPr>
        <p:spPr>
          <a:xfrm rot="1923600">
            <a:off x="3087720" y="3362040"/>
            <a:ext cx="365040" cy="304560"/>
          </a:xfrm>
          <a:prstGeom prst="rightArrow">
            <a:avLst>
              <a:gd name="adj1" fmla="val 50000"/>
              <a:gd name="adj2" fmla="val 29965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3" name=""/>
          <p:cNvSpPr/>
          <p:nvPr/>
        </p:nvSpPr>
        <p:spPr>
          <a:xfrm rot="17953200">
            <a:off x="3343320" y="474156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4" name=""/>
          <p:cNvSpPr/>
          <p:nvPr/>
        </p:nvSpPr>
        <p:spPr>
          <a:xfrm rot="14367000">
            <a:off x="5379840" y="4746240"/>
            <a:ext cx="381240" cy="304920"/>
          </a:xfrm>
          <a:prstGeom prst="rightArrow">
            <a:avLst>
              <a:gd name="adj1" fmla="val 50000"/>
              <a:gd name="adj2" fmla="val 3125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5" name=""/>
          <p:cNvSpPr/>
          <p:nvPr/>
        </p:nvSpPr>
        <p:spPr>
          <a:xfrm>
            <a:off x="6443640" y="3141720"/>
            <a:ext cx="14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购 买 者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6" name=""/>
          <p:cNvSpPr/>
          <p:nvPr/>
        </p:nvSpPr>
        <p:spPr>
          <a:xfrm>
            <a:off x="3924360" y="37162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幼圆"/>
              </a:rPr>
              <a:t>企  业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7" name=""/>
          <p:cNvSpPr/>
          <p:nvPr/>
        </p:nvSpPr>
        <p:spPr>
          <a:xfrm>
            <a:off x="5580000" y="51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潜在竞争者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8" name=""/>
          <p:cNvSpPr/>
          <p:nvPr/>
        </p:nvSpPr>
        <p:spPr>
          <a:xfrm>
            <a:off x="1763640" y="5157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同行业竞争者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9" name=""/>
          <p:cNvSpPr/>
          <p:nvPr/>
        </p:nvSpPr>
        <p:spPr>
          <a:xfrm>
            <a:off x="1547640" y="3068640"/>
            <a:ext cx="12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供 应 商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0" name=""/>
          <p:cNvSpPr/>
          <p:nvPr/>
        </p:nvSpPr>
        <p:spPr>
          <a:xfrm>
            <a:off x="3924360" y="1989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替代产品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40464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Futura Lt"/>
                <a:ea typeface="幼圆"/>
              </a:rPr>
              <a:t>理由一：五力分析</a:t>
            </a:r>
            <a:endParaRPr b="0" lang="en-US" sz="4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46BEF-A50D-4DA1-95CB-EB0845BE6081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B72C1B-112F-44D8-BEF2-157075BD289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幼圆"/>
                <a:ea typeface="幼圆"/>
              </a:rPr>
              <a:t>理由二：</a:t>
            </a:r>
            <a:r>
              <a:rPr b="1" lang="zh-CN" sz="4000" spc="-1" strike="noStrike">
                <a:solidFill>
                  <a:srgbClr val="ffffff"/>
                </a:solidFill>
                <a:latin typeface="幼圆"/>
                <a:ea typeface="幼圆"/>
              </a:rPr>
              <a:t>竞争周期</a:t>
            </a:r>
            <a:endParaRPr b="0" lang="en-US" sz="4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900000" y="1600200"/>
            <a:ext cx="14400" cy="362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4" name=""/>
          <p:cNvSpPr/>
          <p:nvPr/>
        </p:nvSpPr>
        <p:spPr>
          <a:xfrm>
            <a:off x="8077320" y="1600200"/>
            <a:ext cx="23760" cy="362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5" name=""/>
          <p:cNvSpPr/>
          <p:nvPr/>
        </p:nvSpPr>
        <p:spPr>
          <a:xfrm>
            <a:off x="7380360" y="328464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6" name=""/>
          <p:cNvSpPr/>
          <p:nvPr/>
        </p:nvSpPr>
        <p:spPr>
          <a:xfrm>
            <a:off x="6156360" y="328464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7" name=""/>
          <p:cNvSpPr/>
          <p:nvPr/>
        </p:nvSpPr>
        <p:spPr>
          <a:xfrm>
            <a:off x="4643280" y="299736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5229360"/>
            <a:ext cx="720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9" name=""/>
          <p:cNvSpPr/>
          <p:nvPr/>
        </p:nvSpPr>
        <p:spPr>
          <a:xfrm>
            <a:off x="2627280" y="1700280"/>
            <a:ext cx="0" cy="3529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0" name=""/>
          <p:cNvSpPr/>
          <p:nvPr/>
        </p:nvSpPr>
        <p:spPr>
          <a:xfrm>
            <a:off x="900000" y="1700280"/>
            <a:ext cx="7162920" cy="1714320"/>
          </a:xfrm>
          <a:custGeom>
            <a:avLst/>
            <a:gdLst/>
            <a:ahLst/>
            <a:rect l="l" t="t" r="r" b="b"/>
            <a:pathLst>
              <a:path w="4512" h="1080">
                <a:moveTo>
                  <a:pt x="0" y="0"/>
                </a:moveTo>
                <a:cubicBezTo>
                  <a:pt x="404" y="4"/>
                  <a:pt x="808" y="8"/>
                  <a:pt x="1104" y="48"/>
                </a:cubicBezTo>
                <a:cubicBezTo>
                  <a:pt x="1400" y="88"/>
                  <a:pt x="1576" y="96"/>
                  <a:pt x="1776" y="240"/>
                </a:cubicBezTo>
                <a:cubicBezTo>
                  <a:pt x="1976" y="384"/>
                  <a:pt x="2032" y="776"/>
                  <a:pt x="2304" y="912"/>
                </a:cubicBezTo>
                <a:cubicBezTo>
                  <a:pt x="2576" y="1048"/>
                  <a:pt x="3040" y="1032"/>
                  <a:pt x="3408" y="1056"/>
                </a:cubicBezTo>
                <a:cubicBezTo>
                  <a:pt x="3776" y="1080"/>
                  <a:pt x="4144" y="1068"/>
                  <a:pt x="4512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202716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2" name=""/>
          <p:cNvSpPr/>
          <p:nvPr/>
        </p:nvSpPr>
        <p:spPr>
          <a:xfrm>
            <a:off x="2971800" y="2332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2637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294156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3246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6" name=""/>
          <p:cNvSpPr/>
          <p:nvPr/>
        </p:nvSpPr>
        <p:spPr>
          <a:xfrm>
            <a:off x="4495680" y="3551400"/>
            <a:ext cx="2667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7" name=""/>
          <p:cNvSpPr/>
          <p:nvPr/>
        </p:nvSpPr>
        <p:spPr>
          <a:xfrm>
            <a:off x="2971800" y="202716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2332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263700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294156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1" name=""/>
          <p:cNvSpPr/>
          <p:nvPr/>
        </p:nvSpPr>
        <p:spPr>
          <a:xfrm>
            <a:off x="4495680" y="32464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2" name=""/>
          <p:cNvSpPr/>
          <p:nvPr/>
        </p:nvSpPr>
        <p:spPr>
          <a:xfrm>
            <a:off x="900000" y="2997360"/>
            <a:ext cx="6477120" cy="1447560"/>
          </a:xfrm>
          <a:custGeom>
            <a:avLst/>
            <a:gdLst/>
            <a:ahLst/>
            <a:rect l="l" t="t" r="r" b="b"/>
            <a:pathLst>
              <a:path w="4080" h="912">
                <a:moveTo>
                  <a:pt x="0" y="0"/>
                </a:moveTo>
                <a:cubicBezTo>
                  <a:pt x="232" y="120"/>
                  <a:pt x="464" y="240"/>
                  <a:pt x="720" y="336"/>
                </a:cubicBezTo>
                <a:cubicBezTo>
                  <a:pt x="976" y="432"/>
                  <a:pt x="1224" y="504"/>
                  <a:pt x="1536" y="576"/>
                </a:cubicBezTo>
                <a:cubicBezTo>
                  <a:pt x="1848" y="648"/>
                  <a:pt x="2168" y="712"/>
                  <a:pt x="2592" y="768"/>
                </a:cubicBezTo>
                <a:cubicBezTo>
                  <a:pt x="3016" y="824"/>
                  <a:pt x="3848" y="880"/>
                  <a:pt x="4080" y="9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076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4076640"/>
            <a:ext cx="3276720" cy="1015920"/>
          </a:xfrm>
          <a:custGeom>
            <a:avLst/>
            <a:gdLst/>
            <a:ahLst/>
            <a:rect l="l" t="t" r="r" b="b"/>
            <a:pathLst>
              <a:path w="2064" h="640">
                <a:moveTo>
                  <a:pt x="0" y="0"/>
                </a:moveTo>
                <a:cubicBezTo>
                  <a:pt x="88" y="100"/>
                  <a:pt x="176" y="200"/>
                  <a:pt x="384" y="288"/>
                </a:cubicBezTo>
                <a:cubicBezTo>
                  <a:pt x="592" y="376"/>
                  <a:pt x="992" y="472"/>
                  <a:pt x="1248" y="528"/>
                </a:cubicBezTo>
                <a:cubicBezTo>
                  <a:pt x="1504" y="584"/>
                  <a:pt x="1784" y="608"/>
                  <a:pt x="1920" y="624"/>
                </a:cubicBezTo>
                <a:cubicBezTo>
                  <a:pt x="2056" y="640"/>
                  <a:pt x="2060" y="632"/>
                  <a:pt x="2064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5" name=""/>
          <p:cNvSpPr/>
          <p:nvPr/>
        </p:nvSpPr>
        <p:spPr>
          <a:xfrm>
            <a:off x="4924440" y="1628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幼圆"/>
              </a:rPr>
              <a:t>市场份额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6" name=""/>
          <p:cNvSpPr/>
          <p:nvPr/>
        </p:nvSpPr>
        <p:spPr>
          <a:xfrm>
            <a:off x="139536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幼圆"/>
              </a:rPr>
              <a:t>能力份额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7" name=""/>
          <p:cNvSpPr/>
          <p:nvPr/>
        </p:nvSpPr>
        <p:spPr>
          <a:xfrm>
            <a:off x="3027600" y="3017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幼圆"/>
              </a:rPr>
              <a:t>生产成本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8" name=""/>
          <p:cNvSpPr/>
          <p:nvPr/>
        </p:nvSpPr>
        <p:spPr>
          <a:xfrm>
            <a:off x="5468760" y="4292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幼圆"/>
              </a:rPr>
              <a:t>溢价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9" name=""/>
          <p:cNvSpPr/>
          <p:nvPr/>
        </p:nvSpPr>
        <p:spPr>
          <a:xfrm>
            <a:off x="1258920" y="530064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唯一的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供应者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0" name=""/>
          <p:cNvSpPr/>
          <p:nvPr/>
        </p:nvSpPr>
        <p:spPr>
          <a:xfrm>
            <a:off x="3203640" y="5300640"/>
            <a:ext cx="70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竞争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渗透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1" name=""/>
          <p:cNvSpPr/>
          <p:nvPr/>
        </p:nvSpPr>
        <p:spPr>
          <a:xfrm>
            <a:off x="5003640" y="5300640"/>
            <a:ext cx="95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市场份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额稳定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2" name=""/>
          <p:cNvSpPr/>
          <p:nvPr/>
        </p:nvSpPr>
        <p:spPr>
          <a:xfrm>
            <a:off x="6443640" y="5300640"/>
            <a:ext cx="70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商品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竞争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3" name=""/>
          <p:cNvSpPr/>
          <p:nvPr/>
        </p:nvSpPr>
        <p:spPr>
          <a:xfrm>
            <a:off x="7596360" y="5300640"/>
            <a:ext cx="44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退出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3850920" y="1916280"/>
            <a:ext cx="865080" cy="314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987640" y="335772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787640" y="4581360"/>
            <a:ext cx="5331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248436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D0B5-5464-4706-A0A1-B7020BEA8C2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05CB0B-FA41-499D-B856-1A057A4306B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28600" y="217440"/>
            <a:ext cx="8677440" cy="6400800"/>
          </a:xfrm>
          <a:prstGeom prst="roundRect">
            <a:avLst>
              <a:gd name="adj" fmla="val 30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幼圆"/>
                <a:ea typeface="幼圆"/>
              </a:rPr>
              <a:t>理由三：波士顿矩阵</a:t>
            </a:r>
            <a:endParaRPr b="0" lang="en-US" sz="4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50" name=""/>
          <p:cNvSpPr/>
          <p:nvPr/>
        </p:nvSpPr>
        <p:spPr>
          <a:xfrm>
            <a:off x="1619280" y="5157720"/>
            <a:ext cx="5975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Futura Lt"/>
                <a:ea typeface="幼圆"/>
              </a:rPr>
              <a:t>对于一个成熟的公司，更具长期竞争力的产品组合是：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Futura Lt"/>
                <a:ea typeface="幼圆"/>
              </a:rPr>
              <a:t>卖着“金牛”、推着“幼童”、搂着“明星”。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916360" y="1484280"/>
          <a:ext cx="3384360" cy="2952720"/>
        </p:xfrm>
        <a:graphic>
          <a:graphicData uri="http://schemas.openxmlformats.org/drawingml/2006/table">
            <a:tbl>
              <a:tblPr/>
              <a:tblGrid>
                <a:gridCol w="1692000"/>
                <a:gridCol w="1692360"/>
              </a:tblGrid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幼圆"/>
                          <a:ea typeface="幼圆"/>
                        </a:rPr>
                        <a:t>明星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5aa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幼圆"/>
                          <a:ea typeface="幼圆"/>
                        </a:rPr>
                        <a:t>幼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金牛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幼圆"/>
                          <a:ea typeface="幼圆"/>
                        </a:rPr>
                        <a:t>瘦狗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1822680" y="1268280"/>
            <a:ext cx="790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市场增长率％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3" name=""/>
          <p:cNvSpPr/>
          <p:nvPr/>
        </p:nvSpPr>
        <p:spPr>
          <a:xfrm>
            <a:off x="2484360" y="2781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45086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0.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5" name=""/>
          <p:cNvSpPr/>
          <p:nvPr/>
        </p:nvSpPr>
        <p:spPr>
          <a:xfrm>
            <a:off x="2843280" y="4581360"/>
            <a:ext cx="5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6" name=""/>
          <p:cNvSpPr/>
          <p:nvPr/>
        </p:nvSpPr>
        <p:spPr>
          <a:xfrm>
            <a:off x="255600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7" name=""/>
          <p:cNvSpPr/>
          <p:nvPr/>
        </p:nvSpPr>
        <p:spPr>
          <a:xfrm>
            <a:off x="3132000" y="3573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utura Lt"/>
                <a:ea typeface="幼圆"/>
              </a:rPr>
              <a:t>MV1.0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8" name=""/>
          <p:cNvSpPr/>
          <p:nvPr/>
        </p:nvSpPr>
        <p:spPr>
          <a:xfrm>
            <a:off x="4788000" y="20606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utura Lt"/>
                <a:ea typeface="幼圆"/>
              </a:rPr>
              <a:t>MV2.0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9" name=""/>
          <p:cNvSpPr/>
          <p:nvPr/>
        </p:nvSpPr>
        <p:spPr>
          <a:xfrm>
            <a:off x="3780000" y="450864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幼圆"/>
              </a:rPr>
              <a:t>相对市场份额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93935-4951-4752-ADA8-04896A3B4482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DCEF46-575E-4C9F-BCDB-41753691395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403280" y="1700280"/>
            <a:ext cx="6311880" cy="3865320"/>
          </a:xfrm>
          <a:custGeom>
            <a:avLst/>
            <a:gdLst/>
            <a:ahLst/>
            <a:rect l="l" t="t" r="r" b="b"/>
            <a:pathLst>
              <a:path w="4272" h="1744">
                <a:moveTo>
                  <a:pt x="0" y="0"/>
                </a:moveTo>
                <a:lnTo>
                  <a:pt x="0" y="1744"/>
                </a:lnTo>
                <a:lnTo>
                  <a:pt x="4272" y="17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1" name=""/>
          <p:cNvSpPr/>
          <p:nvPr/>
        </p:nvSpPr>
        <p:spPr>
          <a:xfrm>
            <a:off x="1619640" y="1773360"/>
            <a:ext cx="42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dec" pos="80496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利润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2" name=""/>
          <p:cNvSpPr/>
          <p:nvPr/>
        </p:nvSpPr>
        <p:spPr>
          <a:xfrm>
            <a:off x="7884000" y="5013360"/>
            <a:ext cx="42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dec" pos="80496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时间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3" name=""/>
          <p:cNvSpPr/>
          <p:nvPr/>
        </p:nvSpPr>
        <p:spPr>
          <a:xfrm>
            <a:off x="1562040" y="3344760"/>
            <a:ext cx="1600200" cy="8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幼圆"/>
              <a:buChar char="•"/>
              <a:tabLst>
                <a:tab algn="dec" pos="80496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第一层面：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幼圆"/>
              <a:buChar char="•"/>
              <a:tabLst>
                <a:tab algn="dec" pos="80496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拓展并确保核心事业运作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4" name=""/>
          <p:cNvSpPr/>
          <p:nvPr/>
        </p:nvSpPr>
        <p:spPr>
          <a:xfrm>
            <a:off x="3841920" y="2843280"/>
            <a:ext cx="16002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幼圆"/>
              <a:buChar char="•"/>
              <a:tabLst>
                <a:tab algn="dec" pos="80496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第二层面：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幼圆"/>
              <a:buChar char="•"/>
              <a:tabLst>
                <a:tab algn="dec" pos="80496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发展新业务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幼圆"/>
              <a:buChar char="•"/>
              <a:tabLst>
                <a:tab algn="dec" pos="80496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5" name=""/>
          <p:cNvSpPr/>
          <p:nvPr/>
        </p:nvSpPr>
        <p:spPr>
          <a:xfrm>
            <a:off x="6121440" y="2379600"/>
            <a:ext cx="160020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幼圆"/>
              <a:buChar char="•"/>
              <a:tabLst>
                <a:tab algn="dec" pos="80496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幼圆"/>
                <a:ea typeface="幼圆"/>
              </a:rPr>
              <a:t>第三层面：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幼圆"/>
              <a:buChar char="•"/>
              <a:tabLst>
                <a:tab algn="dec" pos="80496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幼圆"/>
                <a:ea typeface="幼圆"/>
              </a:rPr>
              <a:t>开创未来的事业机会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329120" y="2989440"/>
            <a:ext cx="4825440" cy="119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8912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89124"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54560" y="2506680"/>
            <a:ext cx="4825440" cy="119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8912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89124"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588280" y="2023920"/>
            <a:ext cx="4825440" cy="119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8912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89124"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9" name=""/>
          <p:cNvSpPr/>
          <p:nvPr/>
        </p:nvSpPr>
        <p:spPr>
          <a:xfrm>
            <a:off x="1619280" y="4508640"/>
            <a:ext cx="1104840" cy="965160"/>
          </a:xfrm>
          <a:prstGeom prst="rect">
            <a:avLst/>
          </a:prstGeom>
          <a:solidFill>
            <a:srgbClr val="bbe0e3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692360" y="4581360"/>
            <a:ext cx="944280" cy="809640"/>
            <a:chOff x="1692360" y="4581360"/>
            <a:chExt cx="944280" cy="809640"/>
          </a:xfrm>
        </p:grpSpPr>
        <p:sp>
          <p:nvSpPr>
            <p:cNvPr id="271" name=""/>
            <p:cNvSpPr/>
            <p:nvPr/>
          </p:nvSpPr>
          <p:spPr>
            <a:xfrm>
              <a:off x="1988280" y="4921560"/>
              <a:ext cx="227160" cy="469440"/>
            </a:xfrm>
            <a:custGeom>
              <a:avLst/>
              <a:gdLst/>
              <a:ahLst/>
              <a:rect l="l" t="t" r="r" b="b"/>
              <a:pathLst>
                <a:path w="1093" h="4183">
                  <a:moveTo>
                    <a:pt x="1045" y="4183"/>
                  </a:moveTo>
                  <a:lnTo>
                    <a:pt x="771" y="4022"/>
                  </a:lnTo>
                  <a:lnTo>
                    <a:pt x="643" y="3989"/>
                  </a:lnTo>
                  <a:lnTo>
                    <a:pt x="482" y="3844"/>
                  </a:lnTo>
                  <a:lnTo>
                    <a:pt x="354" y="3683"/>
                  </a:lnTo>
                  <a:lnTo>
                    <a:pt x="128" y="3636"/>
                  </a:lnTo>
                  <a:lnTo>
                    <a:pt x="0" y="3619"/>
                  </a:lnTo>
                  <a:lnTo>
                    <a:pt x="7" y="3597"/>
                  </a:lnTo>
                  <a:lnTo>
                    <a:pt x="15" y="3578"/>
                  </a:lnTo>
                  <a:lnTo>
                    <a:pt x="23" y="3558"/>
                  </a:lnTo>
                  <a:lnTo>
                    <a:pt x="33" y="3539"/>
                  </a:lnTo>
                  <a:lnTo>
                    <a:pt x="38" y="3520"/>
                  </a:lnTo>
                  <a:lnTo>
                    <a:pt x="48" y="3500"/>
                  </a:lnTo>
                  <a:lnTo>
                    <a:pt x="54" y="3481"/>
                  </a:lnTo>
                  <a:lnTo>
                    <a:pt x="64" y="3463"/>
                  </a:lnTo>
                  <a:lnTo>
                    <a:pt x="69" y="3444"/>
                  </a:lnTo>
                  <a:lnTo>
                    <a:pt x="75" y="3425"/>
                  </a:lnTo>
                  <a:lnTo>
                    <a:pt x="81" y="3405"/>
                  </a:lnTo>
                  <a:lnTo>
                    <a:pt x="89" y="3388"/>
                  </a:lnTo>
                  <a:lnTo>
                    <a:pt x="95" y="3368"/>
                  </a:lnTo>
                  <a:lnTo>
                    <a:pt x="102" y="3349"/>
                  </a:lnTo>
                  <a:lnTo>
                    <a:pt x="108" y="3332"/>
                  </a:lnTo>
                  <a:lnTo>
                    <a:pt x="116" y="3314"/>
                  </a:lnTo>
                  <a:lnTo>
                    <a:pt x="122" y="3295"/>
                  </a:lnTo>
                  <a:lnTo>
                    <a:pt x="128" y="3275"/>
                  </a:lnTo>
                  <a:lnTo>
                    <a:pt x="133" y="3256"/>
                  </a:lnTo>
                  <a:lnTo>
                    <a:pt x="139" y="3238"/>
                  </a:lnTo>
                  <a:lnTo>
                    <a:pt x="145" y="3219"/>
                  </a:lnTo>
                  <a:lnTo>
                    <a:pt x="151" y="3202"/>
                  </a:lnTo>
                  <a:lnTo>
                    <a:pt x="157" y="3184"/>
                  </a:lnTo>
                  <a:lnTo>
                    <a:pt x="162" y="3167"/>
                  </a:lnTo>
                  <a:lnTo>
                    <a:pt x="166" y="3147"/>
                  </a:lnTo>
                  <a:lnTo>
                    <a:pt x="172" y="3130"/>
                  </a:lnTo>
                  <a:lnTo>
                    <a:pt x="178" y="3112"/>
                  </a:lnTo>
                  <a:lnTo>
                    <a:pt x="184" y="3095"/>
                  </a:lnTo>
                  <a:lnTo>
                    <a:pt x="190" y="3076"/>
                  </a:lnTo>
                  <a:lnTo>
                    <a:pt x="195" y="3058"/>
                  </a:lnTo>
                  <a:lnTo>
                    <a:pt x="201" y="3041"/>
                  </a:lnTo>
                  <a:lnTo>
                    <a:pt x="209" y="3023"/>
                  </a:lnTo>
                  <a:lnTo>
                    <a:pt x="242" y="2944"/>
                  </a:lnTo>
                  <a:lnTo>
                    <a:pt x="250" y="2903"/>
                  </a:lnTo>
                  <a:lnTo>
                    <a:pt x="259" y="2864"/>
                  </a:lnTo>
                  <a:lnTo>
                    <a:pt x="269" y="2825"/>
                  </a:lnTo>
                  <a:lnTo>
                    <a:pt x="279" y="2787"/>
                  </a:lnTo>
                  <a:lnTo>
                    <a:pt x="287" y="2746"/>
                  </a:lnTo>
                  <a:lnTo>
                    <a:pt x="296" y="2707"/>
                  </a:lnTo>
                  <a:lnTo>
                    <a:pt x="306" y="2668"/>
                  </a:lnTo>
                  <a:lnTo>
                    <a:pt x="316" y="2629"/>
                  </a:lnTo>
                  <a:lnTo>
                    <a:pt x="323" y="2589"/>
                  </a:lnTo>
                  <a:lnTo>
                    <a:pt x="333" y="2550"/>
                  </a:lnTo>
                  <a:lnTo>
                    <a:pt x="341" y="2511"/>
                  </a:lnTo>
                  <a:lnTo>
                    <a:pt x="351" y="2472"/>
                  </a:lnTo>
                  <a:lnTo>
                    <a:pt x="358" y="2432"/>
                  </a:lnTo>
                  <a:lnTo>
                    <a:pt x="368" y="2393"/>
                  </a:lnTo>
                  <a:lnTo>
                    <a:pt x="378" y="2354"/>
                  </a:lnTo>
                  <a:lnTo>
                    <a:pt x="387" y="2317"/>
                  </a:lnTo>
                  <a:lnTo>
                    <a:pt x="395" y="2277"/>
                  </a:lnTo>
                  <a:lnTo>
                    <a:pt x="403" y="2238"/>
                  </a:lnTo>
                  <a:lnTo>
                    <a:pt x="411" y="2199"/>
                  </a:lnTo>
                  <a:lnTo>
                    <a:pt x="420" y="2162"/>
                  </a:lnTo>
                  <a:lnTo>
                    <a:pt x="426" y="2121"/>
                  </a:lnTo>
                  <a:lnTo>
                    <a:pt x="434" y="2083"/>
                  </a:lnTo>
                  <a:lnTo>
                    <a:pt x="442" y="2044"/>
                  </a:lnTo>
                  <a:lnTo>
                    <a:pt x="450" y="2007"/>
                  </a:lnTo>
                  <a:lnTo>
                    <a:pt x="455" y="1966"/>
                  </a:lnTo>
                  <a:lnTo>
                    <a:pt x="463" y="1929"/>
                  </a:lnTo>
                  <a:lnTo>
                    <a:pt x="469" y="1889"/>
                  </a:lnTo>
                  <a:lnTo>
                    <a:pt x="477" y="1852"/>
                  </a:lnTo>
                  <a:lnTo>
                    <a:pt x="482" y="1813"/>
                  </a:lnTo>
                  <a:lnTo>
                    <a:pt x="488" y="1774"/>
                  </a:lnTo>
                  <a:lnTo>
                    <a:pt x="494" y="1735"/>
                  </a:lnTo>
                  <a:lnTo>
                    <a:pt x="500" y="1699"/>
                  </a:lnTo>
                  <a:lnTo>
                    <a:pt x="504" y="1658"/>
                  </a:lnTo>
                  <a:lnTo>
                    <a:pt x="508" y="1621"/>
                  </a:lnTo>
                  <a:lnTo>
                    <a:pt x="512" y="1580"/>
                  </a:lnTo>
                  <a:lnTo>
                    <a:pt x="517" y="1543"/>
                  </a:lnTo>
                  <a:lnTo>
                    <a:pt x="519" y="1505"/>
                  </a:lnTo>
                  <a:lnTo>
                    <a:pt x="523" y="1466"/>
                  </a:lnTo>
                  <a:lnTo>
                    <a:pt x="527" y="1427"/>
                  </a:lnTo>
                  <a:lnTo>
                    <a:pt x="531" y="1390"/>
                  </a:lnTo>
                  <a:lnTo>
                    <a:pt x="531" y="1349"/>
                  </a:lnTo>
                  <a:lnTo>
                    <a:pt x="533" y="1313"/>
                  </a:lnTo>
                  <a:lnTo>
                    <a:pt x="535" y="1272"/>
                  </a:lnTo>
                  <a:lnTo>
                    <a:pt x="537" y="1235"/>
                  </a:lnTo>
                  <a:lnTo>
                    <a:pt x="537" y="1196"/>
                  </a:lnTo>
                  <a:lnTo>
                    <a:pt x="539" y="1157"/>
                  </a:lnTo>
                  <a:lnTo>
                    <a:pt x="539" y="1119"/>
                  </a:lnTo>
                  <a:lnTo>
                    <a:pt x="541" y="1082"/>
                  </a:lnTo>
                  <a:lnTo>
                    <a:pt x="539" y="1041"/>
                  </a:lnTo>
                  <a:lnTo>
                    <a:pt x="537" y="1004"/>
                  </a:lnTo>
                  <a:lnTo>
                    <a:pt x="535" y="964"/>
                  </a:lnTo>
                  <a:lnTo>
                    <a:pt x="535" y="927"/>
                  </a:lnTo>
                  <a:lnTo>
                    <a:pt x="531" y="888"/>
                  </a:lnTo>
                  <a:lnTo>
                    <a:pt x="529" y="849"/>
                  </a:lnTo>
                  <a:lnTo>
                    <a:pt x="527" y="810"/>
                  </a:lnTo>
                  <a:lnTo>
                    <a:pt x="525" y="773"/>
                  </a:lnTo>
                  <a:lnTo>
                    <a:pt x="519" y="733"/>
                  </a:lnTo>
                  <a:lnTo>
                    <a:pt x="515" y="696"/>
                  </a:lnTo>
                  <a:lnTo>
                    <a:pt x="510" y="655"/>
                  </a:lnTo>
                  <a:lnTo>
                    <a:pt x="506" y="618"/>
                  </a:lnTo>
                  <a:lnTo>
                    <a:pt x="500" y="580"/>
                  </a:lnTo>
                  <a:lnTo>
                    <a:pt x="494" y="543"/>
                  </a:lnTo>
                  <a:lnTo>
                    <a:pt x="488" y="504"/>
                  </a:lnTo>
                  <a:lnTo>
                    <a:pt x="482" y="467"/>
                  </a:lnTo>
                  <a:lnTo>
                    <a:pt x="595" y="0"/>
                  </a:lnTo>
                  <a:lnTo>
                    <a:pt x="692" y="145"/>
                  </a:lnTo>
                  <a:lnTo>
                    <a:pt x="707" y="178"/>
                  </a:lnTo>
                  <a:lnTo>
                    <a:pt x="771" y="322"/>
                  </a:lnTo>
                  <a:lnTo>
                    <a:pt x="771" y="355"/>
                  </a:lnTo>
                  <a:lnTo>
                    <a:pt x="773" y="366"/>
                  </a:lnTo>
                  <a:lnTo>
                    <a:pt x="779" y="380"/>
                  </a:lnTo>
                  <a:lnTo>
                    <a:pt x="781" y="393"/>
                  </a:lnTo>
                  <a:lnTo>
                    <a:pt x="787" y="407"/>
                  </a:lnTo>
                  <a:lnTo>
                    <a:pt x="789" y="419"/>
                  </a:lnTo>
                  <a:lnTo>
                    <a:pt x="795" y="432"/>
                  </a:lnTo>
                  <a:lnTo>
                    <a:pt x="797" y="446"/>
                  </a:lnTo>
                  <a:lnTo>
                    <a:pt x="802" y="459"/>
                  </a:lnTo>
                  <a:lnTo>
                    <a:pt x="804" y="471"/>
                  </a:lnTo>
                  <a:lnTo>
                    <a:pt x="808" y="485"/>
                  </a:lnTo>
                  <a:lnTo>
                    <a:pt x="812" y="496"/>
                  </a:lnTo>
                  <a:lnTo>
                    <a:pt x="816" y="510"/>
                  </a:lnTo>
                  <a:lnTo>
                    <a:pt x="818" y="521"/>
                  </a:lnTo>
                  <a:lnTo>
                    <a:pt x="822" y="535"/>
                  </a:lnTo>
                  <a:lnTo>
                    <a:pt x="824" y="549"/>
                  </a:lnTo>
                  <a:lnTo>
                    <a:pt x="828" y="562"/>
                  </a:lnTo>
                  <a:lnTo>
                    <a:pt x="828" y="574"/>
                  </a:lnTo>
                  <a:lnTo>
                    <a:pt x="830" y="585"/>
                  </a:lnTo>
                  <a:lnTo>
                    <a:pt x="832" y="599"/>
                  </a:lnTo>
                  <a:lnTo>
                    <a:pt x="834" y="613"/>
                  </a:lnTo>
                  <a:lnTo>
                    <a:pt x="834" y="624"/>
                  </a:lnTo>
                  <a:lnTo>
                    <a:pt x="835" y="638"/>
                  </a:lnTo>
                  <a:lnTo>
                    <a:pt x="835" y="651"/>
                  </a:lnTo>
                  <a:lnTo>
                    <a:pt x="837" y="665"/>
                  </a:lnTo>
                  <a:lnTo>
                    <a:pt x="837" y="677"/>
                  </a:lnTo>
                  <a:lnTo>
                    <a:pt x="837" y="690"/>
                  </a:lnTo>
                  <a:lnTo>
                    <a:pt x="837" y="704"/>
                  </a:lnTo>
                  <a:lnTo>
                    <a:pt x="837" y="717"/>
                  </a:lnTo>
                  <a:lnTo>
                    <a:pt x="835" y="729"/>
                  </a:lnTo>
                  <a:lnTo>
                    <a:pt x="835" y="742"/>
                  </a:lnTo>
                  <a:lnTo>
                    <a:pt x="835" y="756"/>
                  </a:lnTo>
                  <a:lnTo>
                    <a:pt x="835" y="772"/>
                  </a:lnTo>
                  <a:lnTo>
                    <a:pt x="835" y="950"/>
                  </a:lnTo>
                  <a:lnTo>
                    <a:pt x="822" y="969"/>
                  </a:lnTo>
                  <a:lnTo>
                    <a:pt x="808" y="991"/>
                  </a:lnTo>
                  <a:lnTo>
                    <a:pt x="802" y="1000"/>
                  </a:lnTo>
                  <a:lnTo>
                    <a:pt x="797" y="1012"/>
                  </a:lnTo>
                  <a:lnTo>
                    <a:pt x="791" y="1022"/>
                  </a:lnTo>
                  <a:lnTo>
                    <a:pt x="785" y="1033"/>
                  </a:lnTo>
                  <a:lnTo>
                    <a:pt x="771" y="1053"/>
                  </a:lnTo>
                  <a:lnTo>
                    <a:pt x="760" y="1074"/>
                  </a:lnTo>
                  <a:lnTo>
                    <a:pt x="754" y="1084"/>
                  </a:lnTo>
                  <a:lnTo>
                    <a:pt x="748" y="1095"/>
                  </a:lnTo>
                  <a:lnTo>
                    <a:pt x="742" y="1105"/>
                  </a:lnTo>
                  <a:lnTo>
                    <a:pt x="737" y="1117"/>
                  </a:lnTo>
                  <a:lnTo>
                    <a:pt x="725" y="1136"/>
                  </a:lnTo>
                  <a:lnTo>
                    <a:pt x="713" y="1157"/>
                  </a:lnTo>
                  <a:lnTo>
                    <a:pt x="707" y="1167"/>
                  </a:lnTo>
                  <a:lnTo>
                    <a:pt x="702" y="1179"/>
                  </a:lnTo>
                  <a:lnTo>
                    <a:pt x="696" y="1189"/>
                  </a:lnTo>
                  <a:lnTo>
                    <a:pt x="692" y="1200"/>
                  </a:lnTo>
                  <a:lnTo>
                    <a:pt x="686" y="1210"/>
                  </a:lnTo>
                  <a:lnTo>
                    <a:pt x="682" y="1220"/>
                  </a:lnTo>
                  <a:lnTo>
                    <a:pt x="678" y="1231"/>
                  </a:lnTo>
                  <a:lnTo>
                    <a:pt x="674" y="1243"/>
                  </a:lnTo>
                  <a:lnTo>
                    <a:pt x="669" y="1253"/>
                  </a:lnTo>
                  <a:lnTo>
                    <a:pt x="667" y="1262"/>
                  </a:lnTo>
                  <a:lnTo>
                    <a:pt x="663" y="1274"/>
                  </a:lnTo>
                  <a:lnTo>
                    <a:pt x="661" y="1285"/>
                  </a:lnTo>
                  <a:lnTo>
                    <a:pt x="653" y="1305"/>
                  </a:lnTo>
                  <a:lnTo>
                    <a:pt x="647" y="1326"/>
                  </a:lnTo>
                  <a:lnTo>
                    <a:pt x="642" y="1346"/>
                  </a:lnTo>
                  <a:lnTo>
                    <a:pt x="638" y="1367"/>
                  </a:lnTo>
                  <a:lnTo>
                    <a:pt x="634" y="1386"/>
                  </a:lnTo>
                  <a:lnTo>
                    <a:pt x="632" y="1408"/>
                  </a:lnTo>
                  <a:lnTo>
                    <a:pt x="632" y="1427"/>
                  </a:lnTo>
                  <a:lnTo>
                    <a:pt x="634" y="1448"/>
                  </a:lnTo>
                  <a:lnTo>
                    <a:pt x="634" y="1468"/>
                  </a:lnTo>
                  <a:lnTo>
                    <a:pt x="638" y="1487"/>
                  </a:lnTo>
                  <a:lnTo>
                    <a:pt x="642" y="1507"/>
                  </a:lnTo>
                  <a:lnTo>
                    <a:pt x="649" y="1528"/>
                  </a:lnTo>
                  <a:lnTo>
                    <a:pt x="655" y="1547"/>
                  </a:lnTo>
                  <a:lnTo>
                    <a:pt x="667" y="1569"/>
                  </a:lnTo>
                  <a:lnTo>
                    <a:pt x="676" y="1588"/>
                  </a:lnTo>
                  <a:lnTo>
                    <a:pt x="692" y="1609"/>
                  </a:lnTo>
                  <a:lnTo>
                    <a:pt x="707" y="1673"/>
                  </a:lnTo>
                  <a:lnTo>
                    <a:pt x="717" y="1701"/>
                  </a:lnTo>
                  <a:lnTo>
                    <a:pt x="727" y="1730"/>
                  </a:lnTo>
                  <a:lnTo>
                    <a:pt x="735" y="1757"/>
                  </a:lnTo>
                  <a:lnTo>
                    <a:pt x="744" y="1786"/>
                  </a:lnTo>
                  <a:lnTo>
                    <a:pt x="750" y="1813"/>
                  </a:lnTo>
                  <a:lnTo>
                    <a:pt x="756" y="1842"/>
                  </a:lnTo>
                  <a:lnTo>
                    <a:pt x="762" y="1871"/>
                  </a:lnTo>
                  <a:lnTo>
                    <a:pt x="768" y="1900"/>
                  </a:lnTo>
                  <a:lnTo>
                    <a:pt x="770" y="1927"/>
                  </a:lnTo>
                  <a:lnTo>
                    <a:pt x="773" y="1957"/>
                  </a:lnTo>
                  <a:lnTo>
                    <a:pt x="775" y="1986"/>
                  </a:lnTo>
                  <a:lnTo>
                    <a:pt x="777" y="2015"/>
                  </a:lnTo>
                  <a:lnTo>
                    <a:pt x="775" y="2044"/>
                  </a:lnTo>
                  <a:lnTo>
                    <a:pt x="775" y="2073"/>
                  </a:lnTo>
                  <a:lnTo>
                    <a:pt x="775" y="2102"/>
                  </a:lnTo>
                  <a:lnTo>
                    <a:pt x="775" y="2131"/>
                  </a:lnTo>
                  <a:lnTo>
                    <a:pt x="771" y="2158"/>
                  </a:lnTo>
                  <a:lnTo>
                    <a:pt x="770" y="2187"/>
                  </a:lnTo>
                  <a:lnTo>
                    <a:pt x="766" y="2214"/>
                  </a:lnTo>
                  <a:lnTo>
                    <a:pt x="764" y="2244"/>
                  </a:lnTo>
                  <a:lnTo>
                    <a:pt x="758" y="2271"/>
                  </a:lnTo>
                  <a:lnTo>
                    <a:pt x="754" y="2300"/>
                  </a:lnTo>
                  <a:lnTo>
                    <a:pt x="750" y="2329"/>
                  </a:lnTo>
                  <a:lnTo>
                    <a:pt x="746" y="2358"/>
                  </a:lnTo>
                  <a:lnTo>
                    <a:pt x="740" y="2385"/>
                  </a:lnTo>
                  <a:lnTo>
                    <a:pt x="735" y="2414"/>
                  </a:lnTo>
                  <a:lnTo>
                    <a:pt x="729" y="2443"/>
                  </a:lnTo>
                  <a:lnTo>
                    <a:pt x="723" y="2472"/>
                  </a:lnTo>
                  <a:lnTo>
                    <a:pt x="717" y="2501"/>
                  </a:lnTo>
                  <a:lnTo>
                    <a:pt x="711" y="2531"/>
                  </a:lnTo>
                  <a:lnTo>
                    <a:pt x="706" y="2560"/>
                  </a:lnTo>
                  <a:lnTo>
                    <a:pt x="700" y="2589"/>
                  </a:lnTo>
                  <a:lnTo>
                    <a:pt x="692" y="2616"/>
                  </a:lnTo>
                  <a:lnTo>
                    <a:pt x="686" y="2645"/>
                  </a:lnTo>
                  <a:lnTo>
                    <a:pt x="678" y="2672"/>
                  </a:lnTo>
                  <a:lnTo>
                    <a:pt x="673" y="2701"/>
                  </a:lnTo>
                  <a:lnTo>
                    <a:pt x="667" y="2730"/>
                  </a:lnTo>
                  <a:lnTo>
                    <a:pt x="661" y="2759"/>
                  </a:lnTo>
                  <a:lnTo>
                    <a:pt x="655" y="2789"/>
                  </a:lnTo>
                  <a:lnTo>
                    <a:pt x="649" y="2818"/>
                  </a:lnTo>
                  <a:lnTo>
                    <a:pt x="643" y="2845"/>
                  </a:lnTo>
                  <a:lnTo>
                    <a:pt x="638" y="2874"/>
                  </a:lnTo>
                  <a:lnTo>
                    <a:pt x="634" y="2901"/>
                  </a:lnTo>
                  <a:lnTo>
                    <a:pt x="630" y="2930"/>
                  </a:lnTo>
                  <a:lnTo>
                    <a:pt x="626" y="2959"/>
                  </a:lnTo>
                  <a:lnTo>
                    <a:pt x="624" y="2988"/>
                  </a:lnTo>
                  <a:lnTo>
                    <a:pt x="620" y="3017"/>
                  </a:lnTo>
                  <a:lnTo>
                    <a:pt x="620" y="3046"/>
                  </a:lnTo>
                  <a:lnTo>
                    <a:pt x="616" y="3074"/>
                  </a:lnTo>
                  <a:lnTo>
                    <a:pt x="616" y="3103"/>
                  </a:lnTo>
                  <a:lnTo>
                    <a:pt x="616" y="3132"/>
                  </a:lnTo>
                  <a:lnTo>
                    <a:pt x="616" y="3161"/>
                  </a:lnTo>
                  <a:lnTo>
                    <a:pt x="616" y="3188"/>
                  </a:lnTo>
                  <a:lnTo>
                    <a:pt x="618" y="3217"/>
                  </a:lnTo>
                  <a:lnTo>
                    <a:pt x="620" y="3246"/>
                  </a:lnTo>
                  <a:lnTo>
                    <a:pt x="626" y="3275"/>
                  </a:lnTo>
                  <a:lnTo>
                    <a:pt x="630" y="3302"/>
                  </a:lnTo>
                  <a:lnTo>
                    <a:pt x="636" y="3332"/>
                  </a:lnTo>
                  <a:lnTo>
                    <a:pt x="642" y="3361"/>
                  </a:lnTo>
                  <a:lnTo>
                    <a:pt x="649" y="3390"/>
                  </a:lnTo>
                  <a:lnTo>
                    <a:pt x="657" y="3419"/>
                  </a:lnTo>
                  <a:lnTo>
                    <a:pt x="667" y="3448"/>
                  </a:lnTo>
                  <a:lnTo>
                    <a:pt x="678" y="3477"/>
                  </a:lnTo>
                  <a:lnTo>
                    <a:pt x="692" y="3506"/>
                  </a:lnTo>
                  <a:lnTo>
                    <a:pt x="707" y="3539"/>
                  </a:lnTo>
                  <a:lnTo>
                    <a:pt x="771" y="3636"/>
                  </a:lnTo>
                  <a:lnTo>
                    <a:pt x="804" y="3667"/>
                  </a:lnTo>
                  <a:lnTo>
                    <a:pt x="820" y="3683"/>
                  </a:lnTo>
                  <a:lnTo>
                    <a:pt x="835" y="3749"/>
                  </a:lnTo>
                  <a:lnTo>
                    <a:pt x="824" y="3743"/>
                  </a:lnTo>
                  <a:lnTo>
                    <a:pt x="812" y="3737"/>
                  </a:lnTo>
                  <a:lnTo>
                    <a:pt x="802" y="3733"/>
                  </a:lnTo>
                  <a:lnTo>
                    <a:pt x="793" y="3731"/>
                  </a:lnTo>
                  <a:lnTo>
                    <a:pt x="781" y="3725"/>
                  </a:lnTo>
                  <a:lnTo>
                    <a:pt x="770" y="3723"/>
                  </a:lnTo>
                  <a:lnTo>
                    <a:pt x="760" y="3719"/>
                  </a:lnTo>
                  <a:lnTo>
                    <a:pt x="750" y="3719"/>
                  </a:lnTo>
                  <a:lnTo>
                    <a:pt x="729" y="3714"/>
                  </a:lnTo>
                  <a:lnTo>
                    <a:pt x="709" y="3712"/>
                  </a:lnTo>
                  <a:lnTo>
                    <a:pt x="688" y="3710"/>
                  </a:lnTo>
                  <a:lnTo>
                    <a:pt x="669" y="3710"/>
                  </a:lnTo>
                  <a:lnTo>
                    <a:pt x="647" y="3708"/>
                  </a:lnTo>
                  <a:lnTo>
                    <a:pt x="628" y="3708"/>
                  </a:lnTo>
                  <a:lnTo>
                    <a:pt x="607" y="3710"/>
                  </a:lnTo>
                  <a:lnTo>
                    <a:pt x="587" y="3714"/>
                  </a:lnTo>
                  <a:lnTo>
                    <a:pt x="568" y="3716"/>
                  </a:lnTo>
                  <a:lnTo>
                    <a:pt x="548" y="3719"/>
                  </a:lnTo>
                  <a:lnTo>
                    <a:pt x="531" y="3725"/>
                  </a:lnTo>
                  <a:lnTo>
                    <a:pt x="514" y="3731"/>
                  </a:lnTo>
                  <a:lnTo>
                    <a:pt x="498" y="3749"/>
                  </a:lnTo>
                  <a:lnTo>
                    <a:pt x="659" y="3731"/>
                  </a:lnTo>
                  <a:lnTo>
                    <a:pt x="853" y="3797"/>
                  </a:lnTo>
                  <a:lnTo>
                    <a:pt x="901" y="3925"/>
                  </a:lnTo>
                  <a:lnTo>
                    <a:pt x="740" y="3925"/>
                  </a:lnTo>
                  <a:lnTo>
                    <a:pt x="723" y="3925"/>
                  </a:lnTo>
                  <a:lnTo>
                    <a:pt x="723" y="3973"/>
                  </a:lnTo>
                  <a:lnTo>
                    <a:pt x="901" y="3956"/>
                  </a:lnTo>
                  <a:lnTo>
                    <a:pt x="1078" y="4117"/>
                  </a:lnTo>
                  <a:lnTo>
                    <a:pt x="1093" y="4183"/>
                  </a:lnTo>
                  <a:lnTo>
                    <a:pt x="1045" y="4183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85560" y="5334840"/>
              <a:ext cx="145080" cy="38160"/>
            </a:xfrm>
            <a:custGeom>
              <a:avLst/>
              <a:gdLst/>
              <a:ahLst/>
              <a:rect l="l" t="t" r="r" b="b"/>
              <a:pathLst>
                <a:path w="692" h="339">
                  <a:moveTo>
                    <a:pt x="580" y="322"/>
                  </a:moveTo>
                  <a:lnTo>
                    <a:pt x="0" y="161"/>
                  </a:lnTo>
                  <a:lnTo>
                    <a:pt x="48" y="97"/>
                  </a:lnTo>
                  <a:lnTo>
                    <a:pt x="62" y="79"/>
                  </a:lnTo>
                  <a:lnTo>
                    <a:pt x="78" y="67"/>
                  </a:lnTo>
                  <a:lnTo>
                    <a:pt x="91" y="56"/>
                  </a:lnTo>
                  <a:lnTo>
                    <a:pt x="109" y="46"/>
                  </a:lnTo>
                  <a:lnTo>
                    <a:pt x="122" y="36"/>
                  </a:lnTo>
                  <a:lnTo>
                    <a:pt x="138" y="29"/>
                  </a:lnTo>
                  <a:lnTo>
                    <a:pt x="151" y="23"/>
                  </a:lnTo>
                  <a:lnTo>
                    <a:pt x="169" y="17"/>
                  </a:lnTo>
                  <a:lnTo>
                    <a:pt x="182" y="11"/>
                  </a:lnTo>
                  <a:lnTo>
                    <a:pt x="198" y="7"/>
                  </a:lnTo>
                  <a:lnTo>
                    <a:pt x="213" y="3"/>
                  </a:lnTo>
                  <a:lnTo>
                    <a:pt x="229" y="2"/>
                  </a:lnTo>
                  <a:lnTo>
                    <a:pt x="242" y="0"/>
                  </a:lnTo>
                  <a:lnTo>
                    <a:pt x="260" y="0"/>
                  </a:lnTo>
                  <a:lnTo>
                    <a:pt x="273" y="0"/>
                  </a:lnTo>
                  <a:lnTo>
                    <a:pt x="291" y="0"/>
                  </a:lnTo>
                  <a:lnTo>
                    <a:pt x="403" y="66"/>
                  </a:lnTo>
                  <a:lnTo>
                    <a:pt x="419" y="81"/>
                  </a:lnTo>
                  <a:lnTo>
                    <a:pt x="419" y="114"/>
                  </a:lnTo>
                  <a:lnTo>
                    <a:pt x="386" y="130"/>
                  </a:lnTo>
                  <a:lnTo>
                    <a:pt x="355" y="145"/>
                  </a:lnTo>
                  <a:lnTo>
                    <a:pt x="273" y="226"/>
                  </a:lnTo>
                  <a:lnTo>
                    <a:pt x="306" y="226"/>
                  </a:lnTo>
                  <a:lnTo>
                    <a:pt x="419" y="145"/>
                  </a:lnTo>
                  <a:lnTo>
                    <a:pt x="498" y="161"/>
                  </a:lnTo>
                  <a:lnTo>
                    <a:pt x="516" y="194"/>
                  </a:lnTo>
                  <a:lnTo>
                    <a:pt x="564" y="242"/>
                  </a:lnTo>
                  <a:lnTo>
                    <a:pt x="692" y="339"/>
                  </a:lnTo>
                  <a:lnTo>
                    <a:pt x="580" y="322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46800" y="4954320"/>
              <a:ext cx="247320" cy="393480"/>
            </a:xfrm>
            <a:custGeom>
              <a:avLst/>
              <a:gdLst/>
              <a:ahLst/>
              <a:rect l="l" t="t" r="r" b="b"/>
              <a:pathLst>
                <a:path w="1189" h="3506">
                  <a:moveTo>
                    <a:pt x="0" y="3506"/>
                  </a:moveTo>
                  <a:lnTo>
                    <a:pt x="15" y="3458"/>
                  </a:lnTo>
                  <a:lnTo>
                    <a:pt x="161" y="3345"/>
                  </a:lnTo>
                  <a:lnTo>
                    <a:pt x="174" y="3337"/>
                  </a:lnTo>
                  <a:lnTo>
                    <a:pt x="188" y="3330"/>
                  </a:lnTo>
                  <a:lnTo>
                    <a:pt x="201" y="3322"/>
                  </a:lnTo>
                  <a:lnTo>
                    <a:pt x="215" y="3316"/>
                  </a:lnTo>
                  <a:lnTo>
                    <a:pt x="227" y="3306"/>
                  </a:lnTo>
                  <a:lnTo>
                    <a:pt x="238" y="3298"/>
                  </a:lnTo>
                  <a:lnTo>
                    <a:pt x="250" y="3289"/>
                  </a:lnTo>
                  <a:lnTo>
                    <a:pt x="263" y="3281"/>
                  </a:lnTo>
                  <a:lnTo>
                    <a:pt x="275" y="3269"/>
                  </a:lnTo>
                  <a:lnTo>
                    <a:pt x="287" y="3260"/>
                  </a:lnTo>
                  <a:lnTo>
                    <a:pt x="300" y="3248"/>
                  </a:lnTo>
                  <a:lnTo>
                    <a:pt x="314" y="3236"/>
                  </a:lnTo>
                  <a:lnTo>
                    <a:pt x="325" y="3223"/>
                  </a:lnTo>
                  <a:lnTo>
                    <a:pt x="339" y="3211"/>
                  </a:lnTo>
                  <a:lnTo>
                    <a:pt x="353" y="3198"/>
                  </a:lnTo>
                  <a:lnTo>
                    <a:pt x="370" y="3184"/>
                  </a:lnTo>
                  <a:lnTo>
                    <a:pt x="434" y="3184"/>
                  </a:lnTo>
                  <a:lnTo>
                    <a:pt x="562" y="3248"/>
                  </a:lnTo>
                  <a:lnTo>
                    <a:pt x="552" y="3229"/>
                  </a:lnTo>
                  <a:lnTo>
                    <a:pt x="539" y="3215"/>
                  </a:lnTo>
                  <a:lnTo>
                    <a:pt x="521" y="3203"/>
                  </a:lnTo>
                  <a:lnTo>
                    <a:pt x="504" y="3194"/>
                  </a:lnTo>
                  <a:lnTo>
                    <a:pt x="483" y="3182"/>
                  </a:lnTo>
                  <a:lnTo>
                    <a:pt x="463" y="3172"/>
                  </a:lnTo>
                  <a:lnTo>
                    <a:pt x="446" y="3161"/>
                  </a:lnTo>
                  <a:lnTo>
                    <a:pt x="434" y="3151"/>
                  </a:lnTo>
                  <a:lnTo>
                    <a:pt x="578" y="3039"/>
                  </a:lnTo>
                  <a:lnTo>
                    <a:pt x="562" y="3072"/>
                  </a:lnTo>
                  <a:lnTo>
                    <a:pt x="644" y="3039"/>
                  </a:lnTo>
                  <a:lnTo>
                    <a:pt x="649" y="3015"/>
                  </a:lnTo>
                  <a:lnTo>
                    <a:pt x="657" y="2992"/>
                  </a:lnTo>
                  <a:lnTo>
                    <a:pt x="665" y="2969"/>
                  </a:lnTo>
                  <a:lnTo>
                    <a:pt x="673" y="2946"/>
                  </a:lnTo>
                  <a:lnTo>
                    <a:pt x="678" y="2922"/>
                  </a:lnTo>
                  <a:lnTo>
                    <a:pt x="686" y="2901"/>
                  </a:lnTo>
                  <a:lnTo>
                    <a:pt x="694" y="2878"/>
                  </a:lnTo>
                  <a:lnTo>
                    <a:pt x="702" y="2856"/>
                  </a:lnTo>
                  <a:lnTo>
                    <a:pt x="708" y="2833"/>
                  </a:lnTo>
                  <a:lnTo>
                    <a:pt x="715" y="2810"/>
                  </a:lnTo>
                  <a:lnTo>
                    <a:pt x="723" y="2786"/>
                  </a:lnTo>
                  <a:lnTo>
                    <a:pt x="733" y="2765"/>
                  </a:lnTo>
                  <a:lnTo>
                    <a:pt x="739" y="2742"/>
                  </a:lnTo>
                  <a:lnTo>
                    <a:pt x="746" y="2721"/>
                  </a:lnTo>
                  <a:lnTo>
                    <a:pt x="754" y="2697"/>
                  </a:lnTo>
                  <a:lnTo>
                    <a:pt x="764" y="2676"/>
                  </a:lnTo>
                  <a:lnTo>
                    <a:pt x="770" y="2653"/>
                  </a:lnTo>
                  <a:lnTo>
                    <a:pt x="777" y="2629"/>
                  </a:lnTo>
                  <a:lnTo>
                    <a:pt x="783" y="2606"/>
                  </a:lnTo>
                  <a:lnTo>
                    <a:pt x="791" y="2583"/>
                  </a:lnTo>
                  <a:lnTo>
                    <a:pt x="797" y="2560"/>
                  </a:lnTo>
                  <a:lnTo>
                    <a:pt x="805" y="2538"/>
                  </a:lnTo>
                  <a:lnTo>
                    <a:pt x="812" y="2515"/>
                  </a:lnTo>
                  <a:lnTo>
                    <a:pt x="820" y="2494"/>
                  </a:lnTo>
                  <a:lnTo>
                    <a:pt x="826" y="2470"/>
                  </a:lnTo>
                  <a:lnTo>
                    <a:pt x="834" y="2447"/>
                  </a:lnTo>
                  <a:lnTo>
                    <a:pt x="841" y="2424"/>
                  </a:lnTo>
                  <a:lnTo>
                    <a:pt x="849" y="2402"/>
                  </a:lnTo>
                  <a:lnTo>
                    <a:pt x="855" y="2379"/>
                  </a:lnTo>
                  <a:lnTo>
                    <a:pt x="863" y="2358"/>
                  </a:lnTo>
                  <a:lnTo>
                    <a:pt x="870" y="2335"/>
                  </a:lnTo>
                  <a:lnTo>
                    <a:pt x="878" y="2313"/>
                  </a:lnTo>
                  <a:lnTo>
                    <a:pt x="884" y="2290"/>
                  </a:lnTo>
                  <a:lnTo>
                    <a:pt x="890" y="2267"/>
                  </a:lnTo>
                  <a:lnTo>
                    <a:pt x="896" y="2243"/>
                  </a:lnTo>
                  <a:lnTo>
                    <a:pt x="903" y="2222"/>
                  </a:lnTo>
                  <a:lnTo>
                    <a:pt x="909" y="2199"/>
                  </a:lnTo>
                  <a:lnTo>
                    <a:pt x="915" y="2178"/>
                  </a:lnTo>
                  <a:lnTo>
                    <a:pt x="921" y="2154"/>
                  </a:lnTo>
                  <a:lnTo>
                    <a:pt x="929" y="2133"/>
                  </a:lnTo>
                  <a:lnTo>
                    <a:pt x="934" y="2110"/>
                  </a:lnTo>
                  <a:lnTo>
                    <a:pt x="940" y="2086"/>
                  </a:lnTo>
                  <a:lnTo>
                    <a:pt x="946" y="2063"/>
                  </a:lnTo>
                  <a:lnTo>
                    <a:pt x="952" y="2042"/>
                  </a:lnTo>
                  <a:lnTo>
                    <a:pt x="958" y="2018"/>
                  </a:lnTo>
                  <a:lnTo>
                    <a:pt x="964" y="1997"/>
                  </a:lnTo>
                  <a:lnTo>
                    <a:pt x="969" y="1974"/>
                  </a:lnTo>
                  <a:lnTo>
                    <a:pt x="975" y="1953"/>
                  </a:lnTo>
                  <a:lnTo>
                    <a:pt x="979" y="1929"/>
                  </a:lnTo>
                  <a:lnTo>
                    <a:pt x="985" y="1906"/>
                  </a:lnTo>
                  <a:lnTo>
                    <a:pt x="989" y="1883"/>
                  </a:lnTo>
                  <a:lnTo>
                    <a:pt x="995" y="1861"/>
                  </a:lnTo>
                  <a:lnTo>
                    <a:pt x="998" y="1838"/>
                  </a:lnTo>
                  <a:lnTo>
                    <a:pt x="1004" y="1817"/>
                  </a:lnTo>
                  <a:lnTo>
                    <a:pt x="1008" y="1794"/>
                  </a:lnTo>
                  <a:lnTo>
                    <a:pt x="1014" y="1772"/>
                  </a:lnTo>
                  <a:lnTo>
                    <a:pt x="1016" y="1749"/>
                  </a:lnTo>
                  <a:lnTo>
                    <a:pt x="1022" y="1726"/>
                  </a:lnTo>
                  <a:lnTo>
                    <a:pt x="1024" y="1702"/>
                  </a:lnTo>
                  <a:lnTo>
                    <a:pt x="1029" y="1681"/>
                  </a:lnTo>
                  <a:lnTo>
                    <a:pt x="1031" y="1658"/>
                  </a:lnTo>
                  <a:lnTo>
                    <a:pt x="1037" y="1636"/>
                  </a:lnTo>
                  <a:lnTo>
                    <a:pt x="1039" y="1613"/>
                  </a:lnTo>
                  <a:lnTo>
                    <a:pt x="1045" y="1592"/>
                  </a:lnTo>
                  <a:lnTo>
                    <a:pt x="1076" y="932"/>
                  </a:lnTo>
                  <a:lnTo>
                    <a:pt x="1070" y="919"/>
                  </a:lnTo>
                  <a:lnTo>
                    <a:pt x="1064" y="905"/>
                  </a:lnTo>
                  <a:lnTo>
                    <a:pt x="1061" y="892"/>
                  </a:lnTo>
                  <a:lnTo>
                    <a:pt x="1059" y="880"/>
                  </a:lnTo>
                  <a:lnTo>
                    <a:pt x="1055" y="866"/>
                  </a:lnTo>
                  <a:lnTo>
                    <a:pt x="1053" y="853"/>
                  </a:lnTo>
                  <a:lnTo>
                    <a:pt x="1049" y="841"/>
                  </a:lnTo>
                  <a:lnTo>
                    <a:pt x="1049" y="830"/>
                  </a:lnTo>
                  <a:lnTo>
                    <a:pt x="1045" y="816"/>
                  </a:lnTo>
                  <a:lnTo>
                    <a:pt x="1043" y="804"/>
                  </a:lnTo>
                  <a:lnTo>
                    <a:pt x="1041" y="791"/>
                  </a:lnTo>
                  <a:lnTo>
                    <a:pt x="1041" y="779"/>
                  </a:lnTo>
                  <a:lnTo>
                    <a:pt x="1041" y="766"/>
                  </a:lnTo>
                  <a:lnTo>
                    <a:pt x="1041" y="754"/>
                  </a:lnTo>
                  <a:lnTo>
                    <a:pt x="1041" y="742"/>
                  </a:lnTo>
                  <a:lnTo>
                    <a:pt x="1041" y="731"/>
                  </a:lnTo>
                  <a:lnTo>
                    <a:pt x="1039" y="717"/>
                  </a:lnTo>
                  <a:lnTo>
                    <a:pt x="1039" y="706"/>
                  </a:lnTo>
                  <a:lnTo>
                    <a:pt x="1039" y="692"/>
                  </a:lnTo>
                  <a:lnTo>
                    <a:pt x="1039" y="680"/>
                  </a:lnTo>
                  <a:lnTo>
                    <a:pt x="1039" y="667"/>
                  </a:lnTo>
                  <a:lnTo>
                    <a:pt x="1041" y="655"/>
                  </a:lnTo>
                  <a:lnTo>
                    <a:pt x="1041" y="643"/>
                  </a:lnTo>
                  <a:lnTo>
                    <a:pt x="1043" y="632"/>
                  </a:lnTo>
                  <a:lnTo>
                    <a:pt x="1043" y="618"/>
                  </a:lnTo>
                  <a:lnTo>
                    <a:pt x="1045" y="607"/>
                  </a:lnTo>
                  <a:lnTo>
                    <a:pt x="1047" y="595"/>
                  </a:lnTo>
                  <a:lnTo>
                    <a:pt x="1049" y="583"/>
                  </a:lnTo>
                  <a:lnTo>
                    <a:pt x="1049" y="572"/>
                  </a:lnTo>
                  <a:lnTo>
                    <a:pt x="1051" y="560"/>
                  </a:lnTo>
                  <a:lnTo>
                    <a:pt x="1053" y="548"/>
                  </a:lnTo>
                  <a:lnTo>
                    <a:pt x="1055" y="537"/>
                  </a:lnTo>
                  <a:lnTo>
                    <a:pt x="1055" y="523"/>
                  </a:lnTo>
                  <a:lnTo>
                    <a:pt x="1055" y="512"/>
                  </a:lnTo>
                  <a:lnTo>
                    <a:pt x="1057" y="498"/>
                  </a:lnTo>
                  <a:lnTo>
                    <a:pt x="1059" y="486"/>
                  </a:lnTo>
                  <a:lnTo>
                    <a:pt x="1059" y="475"/>
                  </a:lnTo>
                  <a:lnTo>
                    <a:pt x="1059" y="463"/>
                  </a:lnTo>
                  <a:lnTo>
                    <a:pt x="1061" y="451"/>
                  </a:lnTo>
                  <a:lnTo>
                    <a:pt x="1062" y="440"/>
                  </a:lnTo>
                  <a:lnTo>
                    <a:pt x="1062" y="426"/>
                  </a:lnTo>
                  <a:lnTo>
                    <a:pt x="1064" y="415"/>
                  </a:lnTo>
                  <a:lnTo>
                    <a:pt x="1064" y="401"/>
                  </a:lnTo>
                  <a:lnTo>
                    <a:pt x="1066" y="389"/>
                  </a:lnTo>
                  <a:lnTo>
                    <a:pt x="1066" y="378"/>
                  </a:lnTo>
                  <a:lnTo>
                    <a:pt x="1066" y="366"/>
                  </a:lnTo>
                  <a:lnTo>
                    <a:pt x="1066" y="354"/>
                  </a:lnTo>
                  <a:lnTo>
                    <a:pt x="1068" y="343"/>
                  </a:lnTo>
                  <a:lnTo>
                    <a:pt x="1066" y="329"/>
                  </a:lnTo>
                  <a:lnTo>
                    <a:pt x="1066" y="318"/>
                  </a:lnTo>
                  <a:lnTo>
                    <a:pt x="1066" y="304"/>
                  </a:lnTo>
                  <a:lnTo>
                    <a:pt x="1066" y="292"/>
                  </a:lnTo>
                  <a:lnTo>
                    <a:pt x="1064" y="279"/>
                  </a:lnTo>
                  <a:lnTo>
                    <a:pt x="1064" y="267"/>
                  </a:lnTo>
                  <a:lnTo>
                    <a:pt x="1064" y="254"/>
                  </a:lnTo>
                  <a:lnTo>
                    <a:pt x="1064" y="242"/>
                  </a:lnTo>
                  <a:lnTo>
                    <a:pt x="1061" y="228"/>
                  </a:lnTo>
                  <a:lnTo>
                    <a:pt x="1061" y="217"/>
                  </a:lnTo>
                  <a:lnTo>
                    <a:pt x="1057" y="203"/>
                  </a:lnTo>
                  <a:lnTo>
                    <a:pt x="1057" y="192"/>
                  </a:lnTo>
                  <a:lnTo>
                    <a:pt x="1053" y="178"/>
                  </a:lnTo>
                  <a:lnTo>
                    <a:pt x="1051" y="166"/>
                  </a:lnTo>
                  <a:lnTo>
                    <a:pt x="1047" y="155"/>
                  </a:lnTo>
                  <a:lnTo>
                    <a:pt x="1045" y="143"/>
                  </a:lnTo>
                  <a:lnTo>
                    <a:pt x="1061" y="95"/>
                  </a:lnTo>
                  <a:lnTo>
                    <a:pt x="1029" y="95"/>
                  </a:lnTo>
                  <a:lnTo>
                    <a:pt x="1061" y="0"/>
                  </a:lnTo>
                  <a:lnTo>
                    <a:pt x="1076" y="48"/>
                  </a:lnTo>
                  <a:lnTo>
                    <a:pt x="1093" y="143"/>
                  </a:lnTo>
                  <a:lnTo>
                    <a:pt x="1109" y="176"/>
                  </a:lnTo>
                  <a:lnTo>
                    <a:pt x="1125" y="207"/>
                  </a:lnTo>
                  <a:lnTo>
                    <a:pt x="1132" y="254"/>
                  </a:lnTo>
                  <a:lnTo>
                    <a:pt x="1140" y="302"/>
                  </a:lnTo>
                  <a:lnTo>
                    <a:pt x="1146" y="351"/>
                  </a:lnTo>
                  <a:lnTo>
                    <a:pt x="1154" y="399"/>
                  </a:lnTo>
                  <a:lnTo>
                    <a:pt x="1159" y="446"/>
                  </a:lnTo>
                  <a:lnTo>
                    <a:pt x="1165" y="494"/>
                  </a:lnTo>
                  <a:lnTo>
                    <a:pt x="1169" y="543"/>
                  </a:lnTo>
                  <a:lnTo>
                    <a:pt x="1175" y="591"/>
                  </a:lnTo>
                  <a:lnTo>
                    <a:pt x="1177" y="638"/>
                  </a:lnTo>
                  <a:lnTo>
                    <a:pt x="1181" y="688"/>
                  </a:lnTo>
                  <a:lnTo>
                    <a:pt x="1183" y="735"/>
                  </a:lnTo>
                  <a:lnTo>
                    <a:pt x="1187" y="785"/>
                  </a:lnTo>
                  <a:lnTo>
                    <a:pt x="1187" y="834"/>
                  </a:lnTo>
                  <a:lnTo>
                    <a:pt x="1187" y="882"/>
                  </a:lnTo>
                  <a:lnTo>
                    <a:pt x="1187" y="930"/>
                  </a:lnTo>
                  <a:lnTo>
                    <a:pt x="1189" y="981"/>
                  </a:lnTo>
                  <a:lnTo>
                    <a:pt x="1187" y="1027"/>
                  </a:lnTo>
                  <a:lnTo>
                    <a:pt x="1185" y="1076"/>
                  </a:lnTo>
                  <a:lnTo>
                    <a:pt x="1183" y="1124"/>
                  </a:lnTo>
                  <a:lnTo>
                    <a:pt x="1181" y="1173"/>
                  </a:lnTo>
                  <a:lnTo>
                    <a:pt x="1177" y="1221"/>
                  </a:lnTo>
                  <a:lnTo>
                    <a:pt x="1173" y="1270"/>
                  </a:lnTo>
                  <a:lnTo>
                    <a:pt x="1169" y="1318"/>
                  </a:lnTo>
                  <a:lnTo>
                    <a:pt x="1165" y="1369"/>
                  </a:lnTo>
                  <a:lnTo>
                    <a:pt x="1159" y="1415"/>
                  </a:lnTo>
                  <a:lnTo>
                    <a:pt x="1154" y="1466"/>
                  </a:lnTo>
                  <a:lnTo>
                    <a:pt x="1148" y="1512"/>
                  </a:lnTo>
                  <a:lnTo>
                    <a:pt x="1142" y="1563"/>
                  </a:lnTo>
                  <a:lnTo>
                    <a:pt x="1134" y="1611"/>
                  </a:lnTo>
                  <a:lnTo>
                    <a:pt x="1126" y="1660"/>
                  </a:lnTo>
                  <a:lnTo>
                    <a:pt x="1119" y="1708"/>
                  </a:lnTo>
                  <a:lnTo>
                    <a:pt x="1113" y="1759"/>
                  </a:lnTo>
                  <a:lnTo>
                    <a:pt x="1103" y="1805"/>
                  </a:lnTo>
                  <a:lnTo>
                    <a:pt x="1093" y="1854"/>
                  </a:lnTo>
                  <a:lnTo>
                    <a:pt x="1082" y="1902"/>
                  </a:lnTo>
                  <a:lnTo>
                    <a:pt x="1072" y="1953"/>
                  </a:lnTo>
                  <a:lnTo>
                    <a:pt x="1061" y="1999"/>
                  </a:lnTo>
                  <a:lnTo>
                    <a:pt x="1049" y="2048"/>
                  </a:lnTo>
                  <a:lnTo>
                    <a:pt x="1037" y="2096"/>
                  </a:lnTo>
                  <a:lnTo>
                    <a:pt x="1028" y="2146"/>
                  </a:lnTo>
                  <a:lnTo>
                    <a:pt x="1014" y="2193"/>
                  </a:lnTo>
                  <a:lnTo>
                    <a:pt x="1002" y="2243"/>
                  </a:lnTo>
                  <a:lnTo>
                    <a:pt x="989" y="2290"/>
                  </a:lnTo>
                  <a:lnTo>
                    <a:pt x="977" y="2340"/>
                  </a:lnTo>
                  <a:lnTo>
                    <a:pt x="962" y="2389"/>
                  </a:lnTo>
                  <a:lnTo>
                    <a:pt x="948" y="2437"/>
                  </a:lnTo>
                  <a:lnTo>
                    <a:pt x="934" y="2486"/>
                  </a:lnTo>
                  <a:lnTo>
                    <a:pt x="921" y="2536"/>
                  </a:lnTo>
                  <a:lnTo>
                    <a:pt x="903" y="2583"/>
                  </a:lnTo>
                  <a:lnTo>
                    <a:pt x="888" y="2631"/>
                  </a:lnTo>
                  <a:lnTo>
                    <a:pt x="872" y="2680"/>
                  </a:lnTo>
                  <a:lnTo>
                    <a:pt x="857" y="2728"/>
                  </a:lnTo>
                  <a:lnTo>
                    <a:pt x="839" y="2777"/>
                  </a:lnTo>
                  <a:lnTo>
                    <a:pt x="824" y="2825"/>
                  </a:lnTo>
                  <a:lnTo>
                    <a:pt x="806" y="2874"/>
                  </a:lnTo>
                  <a:lnTo>
                    <a:pt x="791" y="2924"/>
                  </a:lnTo>
                  <a:lnTo>
                    <a:pt x="772" y="2971"/>
                  </a:lnTo>
                  <a:lnTo>
                    <a:pt x="754" y="3019"/>
                  </a:lnTo>
                  <a:lnTo>
                    <a:pt x="735" y="3068"/>
                  </a:lnTo>
                  <a:lnTo>
                    <a:pt x="717" y="3116"/>
                  </a:lnTo>
                  <a:lnTo>
                    <a:pt x="698" y="3165"/>
                  </a:lnTo>
                  <a:lnTo>
                    <a:pt x="680" y="3213"/>
                  </a:lnTo>
                  <a:lnTo>
                    <a:pt x="661" y="3262"/>
                  </a:lnTo>
                  <a:lnTo>
                    <a:pt x="644" y="3312"/>
                  </a:lnTo>
                  <a:lnTo>
                    <a:pt x="562" y="3328"/>
                  </a:lnTo>
                  <a:lnTo>
                    <a:pt x="545" y="3333"/>
                  </a:lnTo>
                  <a:lnTo>
                    <a:pt x="527" y="3339"/>
                  </a:lnTo>
                  <a:lnTo>
                    <a:pt x="510" y="3345"/>
                  </a:lnTo>
                  <a:lnTo>
                    <a:pt x="492" y="3351"/>
                  </a:lnTo>
                  <a:lnTo>
                    <a:pt x="475" y="3357"/>
                  </a:lnTo>
                  <a:lnTo>
                    <a:pt x="457" y="3364"/>
                  </a:lnTo>
                  <a:lnTo>
                    <a:pt x="440" y="3372"/>
                  </a:lnTo>
                  <a:lnTo>
                    <a:pt x="424" y="3380"/>
                  </a:lnTo>
                  <a:lnTo>
                    <a:pt x="407" y="3386"/>
                  </a:lnTo>
                  <a:lnTo>
                    <a:pt x="389" y="3394"/>
                  </a:lnTo>
                  <a:lnTo>
                    <a:pt x="372" y="3401"/>
                  </a:lnTo>
                  <a:lnTo>
                    <a:pt x="357" y="3409"/>
                  </a:lnTo>
                  <a:lnTo>
                    <a:pt x="339" y="3417"/>
                  </a:lnTo>
                  <a:lnTo>
                    <a:pt x="322" y="3425"/>
                  </a:lnTo>
                  <a:lnTo>
                    <a:pt x="304" y="3432"/>
                  </a:lnTo>
                  <a:lnTo>
                    <a:pt x="289" y="3440"/>
                  </a:lnTo>
                  <a:lnTo>
                    <a:pt x="271" y="3446"/>
                  </a:lnTo>
                  <a:lnTo>
                    <a:pt x="254" y="3452"/>
                  </a:lnTo>
                  <a:lnTo>
                    <a:pt x="236" y="3458"/>
                  </a:lnTo>
                  <a:lnTo>
                    <a:pt x="219" y="3465"/>
                  </a:lnTo>
                  <a:lnTo>
                    <a:pt x="201" y="3469"/>
                  </a:lnTo>
                  <a:lnTo>
                    <a:pt x="184" y="3475"/>
                  </a:lnTo>
                  <a:lnTo>
                    <a:pt x="166" y="3481"/>
                  </a:lnTo>
                  <a:lnTo>
                    <a:pt x="149" y="3487"/>
                  </a:lnTo>
                  <a:lnTo>
                    <a:pt x="132" y="3489"/>
                  </a:lnTo>
                  <a:lnTo>
                    <a:pt x="114" y="3492"/>
                  </a:lnTo>
                  <a:lnTo>
                    <a:pt x="97" y="3496"/>
                  </a:lnTo>
                  <a:lnTo>
                    <a:pt x="79" y="3500"/>
                  </a:lnTo>
                  <a:lnTo>
                    <a:pt x="62" y="3502"/>
                  </a:lnTo>
                  <a:lnTo>
                    <a:pt x="46" y="3504"/>
                  </a:lnTo>
                  <a:lnTo>
                    <a:pt x="31" y="3504"/>
                  </a:lnTo>
                  <a:lnTo>
                    <a:pt x="15" y="3506"/>
                  </a:lnTo>
                  <a:lnTo>
                    <a:pt x="0" y="3506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24360" y="4903200"/>
              <a:ext cx="115200" cy="442440"/>
            </a:xfrm>
            <a:custGeom>
              <a:avLst/>
              <a:gdLst/>
              <a:ahLst/>
              <a:rect l="l" t="t" r="r" b="b"/>
              <a:pathLst>
                <a:path w="551" h="3941">
                  <a:moveTo>
                    <a:pt x="262" y="3941"/>
                  </a:moveTo>
                  <a:lnTo>
                    <a:pt x="68" y="3636"/>
                  </a:lnTo>
                  <a:lnTo>
                    <a:pt x="37" y="3588"/>
                  </a:lnTo>
                  <a:lnTo>
                    <a:pt x="4" y="3539"/>
                  </a:lnTo>
                  <a:lnTo>
                    <a:pt x="2" y="3512"/>
                  </a:lnTo>
                  <a:lnTo>
                    <a:pt x="0" y="3487"/>
                  </a:lnTo>
                  <a:lnTo>
                    <a:pt x="0" y="3460"/>
                  </a:lnTo>
                  <a:lnTo>
                    <a:pt x="0" y="3434"/>
                  </a:lnTo>
                  <a:lnTo>
                    <a:pt x="0" y="3407"/>
                  </a:lnTo>
                  <a:lnTo>
                    <a:pt x="0" y="3384"/>
                  </a:lnTo>
                  <a:lnTo>
                    <a:pt x="0" y="3357"/>
                  </a:lnTo>
                  <a:lnTo>
                    <a:pt x="2" y="3334"/>
                  </a:lnTo>
                  <a:lnTo>
                    <a:pt x="2" y="3306"/>
                  </a:lnTo>
                  <a:lnTo>
                    <a:pt x="4" y="3281"/>
                  </a:lnTo>
                  <a:lnTo>
                    <a:pt x="6" y="3256"/>
                  </a:lnTo>
                  <a:lnTo>
                    <a:pt x="8" y="3231"/>
                  </a:lnTo>
                  <a:lnTo>
                    <a:pt x="10" y="3204"/>
                  </a:lnTo>
                  <a:lnTo>
                    <a:pt x="14" y="3180"/>
                  </a:lnTo>
                  <a:lnTo>
                    <a:pt x="16" y="3153"/>
                  </a:lnTo>
                  <a:lnTo>
                    <a:pt x="19" y="3130"/>
                  </a:lnTo>
                  <a:lnTo>
                    <a:pt x="21" y="3103"/>
                  </a:lnTo>
                  <a:lnTo>
                    <a:pt x="25" y="3078"/>
                  </a:lnTo>
                  <a:lnTo>
                    <a:pt x="27" y="3052"/>
                  </a:lnTo>
                  <a:lnTo>
                    <a:pt x="31" y="3027"/>
                  </a:lnTo>
                  <a:lnTo>
                    <a:pt x="33" y="3002"/>
                  </a:lnTo>
                  <a:lnTo>
                    <a:pt x="39" y="2977"/>
                  </a:lnTo>
                  <a:lnTo>
                    <a:pt x="41" y="2951"/>
                  </a:lnTo>
                  <a:lnTo>
                    <a:pt x="47" y="2928"/>
                  </a:lnTo>
                  <a:lnTo>
                    <a:pt x="51" y="2901"/>
                  </a:lnTo>
                  <a:lnTo>
                    <a:pt x="54" y="2876"/>
                  </a:lnTo>
                  <a:lnTo>
                    <a:pt x="58" y="2851"/>
                  </a:lnTo>
                  <a:lnTo>
                    <a:pt x="64" y="2825"/>
                  </a:lnTo>
                  <a:lnTo>
                    <a:pt x="68" y="2800"/>
                  </a:lnTo>
                  <a:lnTo>
                    <a:pt x="72" y="2775"/>
                  </a:lnTo>
                  <a:lnTo>
                    <a:pt x="76" y="2750"/>
                  </a:lnTo>
                  <a:lnTo>
                    <a:pt x="82" y="2726"/>
                  </a:lnTo>
                  <a:lnTo>
                    <a:pt x="83" y="2699"/>
                  </a:lnTo>
                  <a:lnTo>
                    <a:pt x="89" y="2674"/>
                  </a:lnTo>
                  <a:lnTo>
                    <a:pt x="91" y="2649"/>
                  </a:lnTo>
                  <a:lnTo>
                    <a:pt x="97" y="2624"/>
                  </a:lnTo>
                  <a:lnTo>
                    <a:pt x="101" y="2597"/>
                  </a:lnTo>
                  <a:lnTo>
                    <a:pt x="105" y="2573"/>
                  </a:lnTo>
                  <a:lnTo>
                    <a:pt x="109" y="2546"/>
                  </a:lnTo>
                  <a:lnTo>
                    <a:pt x="115" y="2523"/>
                  </a:lnTo>
                  <a:lnTo>
                    <a:pt x="116" y="2496"/>
                  </a:lnTo>
                  <a:lnTo>
                    <a:pt x="120" y="2470"/>
                  </a:lnTo>
                  <a:lnTo>
                    <a:pt x="124" y="2445"/>
                  </a:lnTo>
                  <a:lnTo>
                    <a:pt x="128" y="2422"/>
                  </a:lnTo>
                  <a:lnTo>
                    <a:pt x="130" y="2395"/>
                  </a:lnTo>
                  <a:lnTo>
                    <a:pt x="134" y="2370"/>
                  </a:lnTo>
                  <a:lnTo>
                    <a:pt x="138" y="2344"/>
                  </a:lnTo>
                  <a:lnTo>
                    <a:pt x="142" y="2321"/>
                  </a:lnTo>
                  <a:lnTo>
                    <a:pt x="142" y="2294"/>
                  </a:lnTo>
                  <a:lnTo>
                    <a:pt x="146" y="2269"/>
                  </a:lnTo>
                  <a:lnTo>
                    <a:pt x="146" y="2244"/>
                  </a:lnTo>
                  <a:lnTo>
                    <a:pt x="149" y="2218"/>
                  </a:lnTo>
                  <a:lnTo>
                    <a:pt x="149" y="2191"/>
                  </a:lnTo>
                  <a:lnTo>
                    <a:pt x="151" y="2168"/>
                  </a:lnTo>
                  <a:lnTo>
                    <a:pt x="151" y="2141"/>
                  </a:lnTo>
                  <a:lnTo>
                    <a:pt x="153" y="2118"/>
                  </a:lnTo>
                  <a:lnTo>
                    <a:pt x="153" y="2090"/>
                  </a:lnTo>
                  <a:lnTo>
                    <a:pt x="153" y="2065"/>
                  </a:lnTo>
                  <a:lnTo>
                    <a:pt x="153" y="2040"/>
                  </a:lnTo>
                  <a:lnTo>
                    <a:pt x="153" y="2015"/>
                  </a:lnTo>
                  <a:lnTo>
                    <a:pt x="151" y="1988"/>
                  </a:lnTo>
                  <a:lnTo>
                    <a:pt x="151" y="1964"/>
                  </a:lnTo>
                  <a:lnTo>
                    <a:pt x="149" y="1937"/>
                  </a:lnTo>
                  <a:lnTo>
                    <a:pt x="149" y="1914"/>
                  </a:lnTo>
                  <a:lnTo>
                    <a:pt x="52" y="1737"/>
                  </a:lnTo>
                  <a:lnTo>
                    <a:pt x="19" y="1609"/>
                  </a:lnTo>
                  <a:lnTo>
                    <a:pt x="19" y="1590"/>
                  </a:lnTo>
                  <a:lnTo>
                    <a:pt x="19" y="1571"/>
                  </a:lnTo>
                  <a:lnTo>
                    <a:pt x="19" y="1549"/>
                  </a:lnTo>
                  <a:lnTo>
                    <a:pt x="23" y="1530"/>
                  </a:lnTo>
                  <a:lnTo>
                    <a:pt x="23" y="1518"/>
                  </a:lnTo>
                  <a:lnTo>
                    <a:pt x="23" y="1509"/>
                  </a:lnTo>
                  <a:lnTo>
                    <a:pt x="25" y="1497"/>
                  </a:lnTo>
                  <a:lnTo>
                    <a:pt x="29" y="1487"/>
                  </a:lnTo>
                  <a:lnTo>
                    <a:pt x="33" y="1466"/>
                  </a:lnTo>
                  <a:lnTo>
                    <a:pt x="41" y="1446"/>
                  </a:lnTo>
                  <a:lnTo>
                    <a:pt x="43" y="1435"/>
                  </a:lnTo>
                  <a:lnTo>
                    <a:pt x="47" y="1423"/>
                  </a:lnTo>
                  <a:lnTo>
                    <a:pt x="51" y="1412"/>
                  </a:lnTo>
                  <a:lnTo>
                    <a:pt x="56" y="1402"/>
                  </a:lnTo>
                  <a:lnTo>
                    <a:pt x="60" y="1390"/>
                  </a:lnTo>
                  <a:lnTo>
                    <a:pt x="66" y="1379"/>
                  </a:lnTo>
                  <a:lnTo>
                    <a:pt x="72" y="1367"/>
                  </a:lnTo>
                  <a:lnTo>
                    <a:pt x="80" y="1357"/>
                  </a:lnTo>
                  <a:lnTo>
                    <a:pt x="85" y="1346"/>
                  </a:lnTo>
                  <a:lnTo>
                    <a:pt x="93" y="1334"/>
                  </a:lnTo>
                  <a:lnTo>
                    <a:pt x="101" y="1322"/>
                  </a:lnTo>
                  <a:lnTo>
                    <a:pt x="111" y="1313"/>
                  </a:lnTo>
                  <a:lnTo>
                    <a:pt x="118" y="1301"/>
                  </a:lnTo>
                  <a:lnTo>
                    <a:pt x="128" y="1291"/>
                  </a:lnTo>
                  <a:lnTo>
                    <a:pt x="138" y="1282"/>
                  </a:lnTo>
                  <a:lnTo>
                    <a:pt x="149" y="1272"/>
                  </a:lnTo>
                  <a:lnTo>
                    <a:pt x="165" y="1254"/>
                  </a:lnTo>
                  <a:lnTo>
                    <a:pt x="167" y="1243"/>
                  </a:lnTo>
                  <a:lnTo>
                    <a:pt x="171" y="1231"/>
                  </a:lnTo>
                  <a:lnTo>
                    <a:pt x="173" y="1220"/>
                  </a:lnTo>
                  <a:lnTo>
                    <a:pt x="177" y="1208"/>
                  </a:lnTo>
                  <a:lnTo>
                    <a:pt x="179" y="1196"/>
                  </a:lnTo>
                  <a:lnTo>
                    <a:pt x="182" y="1185"/>
                  </a:lnTo>
                  <a:lnTo>
                    <a:pt x="184" y="1173"/>
                  </a:lnTo>
                  <a:lnTo>
                    <a:pt x="188" y="1163"/>
                  </a:lnTo>
                  <a:lnTo>
                    <a:pt x="188" y="1152"/>
                  </a:lnTo>
                  <a:lnTo>
                    <a:pt x="192" y="1140"/>
                  </a:lnTo>
                  <a:lnTo>
                    <a:pt x="192" y="1128"/>
                  </a:lnTo>
                  <a:lnTo>
                    <a:pt x="196" y="1117"/>
                  </a:lnTo>
                  <a:lnTo>
                    <a:pt x="196" y="1105"/>
                  </a:lnTo>
                  <a:lnTo>
                    <a:pt x="200" y="1094"/>
                  </a:lnTo>
                  <a:lnTo>
                    <a:pt x="200" y="1082"/>
                  </a:lnTo>
                  <a:lnTo>
                    <a:pt x="204" y="1072"/>
                  </a:lnTo>
                  <a:lnTo>
                    <a:pt x="204" y="1061"/>
                  </a:lnTo>
                  <a:lnTo>
                    <a:pt x="204" y="1049"/>
                  </a:lnTo>
                  <a:lnTo>
                    <a:pt x="204" y="1037"/>
                  </a:lnTo>
                  <a:lnTo>
                    <a:pt x="206" y="1026"/>
                  </a:lnTo>
                  <a:lnTo>
                    <a:pt x="206" y="1014"/>
                  </a:lnTo>
                  <a:lnTo>
                    <a:pt x="208" y="1002"/>
                  </a:lnTo>
                  <a:lnTo>
                    <a:pt x="208" y="991"/>
                  </a:lnTo>
                  <a:lnTo>
                    <a:pt x="210" y="981"/>
                  </a:lnTo>
                  <a:lnTo>
                    <a:pt x="210" y="969"/>
                  </a:lnTo>
                  <a:lnTo>
                    <a:pt x="210" y="958"/>
                  </a:lnTo>
                  <a:lnTo>
                    <a:pt x="210" y="946"/>
                  </a:lnTo>
                  <a:lnTo>
                    <a:pt x="210" y="936"/>
                  </a:lnTo>
                  <a:lnTo>
                    <a:pt x="210" y="925"/>
                  </a:lnTo>
                  <a:lnTo>
                    <a:pt x="210" y="913"/>
                  </a:lnTo>
                  <a:lnTo>
                    <a:pt x="210" y="902"/>
                  </a:lnTo>
                  <a:lnTo>
                    <a:pt x="210" y="892"/>
                  </a:lnTo>
                  <a:lnTo>
                    <a:pt x="208" y="880"/>
                  </a:lnTo>
                  <a:lnTo>
                    <a:pt x="208" y="869"/>
                  </a:lnTo>
                  <a:lnTo>
                    <a:pt x="206" y="857"/>
                  </a:lnTo>
                  <a:lnTo>
                    <a:pt x="206" y="845"/>
                  </a:lnTo>
                  <a:lnTo>
                    <a:pt x="204" y="834"/>
                  </a:lnTo>
                  <a:lnTo>
                    <a:pt x="204" y="822"/>
                  </a:lnTo>
                  <a:lnTo>
                    <a:pt x="204" y="810"/>
                  </a:lnTo>
                  <a:lnTo>
                    <a:pt x="204" y="801"/>
                  </a:lnTo>
                  <a:lnTo>
                    <a:pt x="202" y="789"/>
                  </a:lnTo>
                  <a:lnTo>
                    <a:pt x="200" y="777"/>
                  </a:lnTo>
                  <a:lnTo>
                    <a:pt x="200" y="766"/>
                  </a:lnTo>
                  <a:lnTo>
                    <a:pt x="200" y="756"/>
                  </a:lnTo>
                  <a:lnTo>
                    <a:pt x="198" y="744"/>
                  </a:lnTo>
                  <a:lnTo>
                    <a:pt x="196" y="733"/>
                  </a:lnTo>
                  <a:lnTo>
                    <a:pt x="196" y="721"/>
                  </a:lnTo>
                  <a:lnTo>
                    <a:pt x="196" y="711"/>
                  </a:lnTo>
                  <a:lnTo>
                    <a:pt x="194" y="700"/>
                  </a:lnTo>
                  <a:lnTo>
                    <a:pt x="192" y="688"/>
                  </a:lnTo>
                  <a:lnTo>
                    <a:pt x="190" y="677"/>
                  </a:lnTo>
                  <a:lnTo>
                    <a:pt x="190" y="665"/>
                  </a:lnTo>
                  <a:lnTo>
                    <a:pt x="188" y="653"/>
                  </a:lnTo>
                  <a:lnTo>
                    <a:pt x="188" y="642"/>
                  </a:lnTo>
                  <a:lnTo>
                    <a:pt x="186" y="630"/>
                  </a:lnTo>
                  <a:lnTo>
                    <a:pt x="186" y="620"/>
                  </a:lnTo>
                  <a:lnTo>
                    <a:pt x="184" y="609"/>
                  </a:lnTo>
                  <a:lnTo>
                    <a:pt x="184" y="597"/>
                  </a:lnTo>
                  <a:lnTo>
                    <a:pt x="182" y="585"/>
                  </a:lnTo>
                  <a:lnTo>
                    <a:pt x="182" y="576"/>
                  </a:lnTo>
                  <a:lnTo>
                    <a:pt x="180" y="564"/>
                  </a:lnTo>
                  <a:lnTo>
                    <a:pt x="180" y="552"/>
                  </a:lnTo>
                  <a:lnTo>
                    <a:pt x="180" y="541"/>
                  </a:lnTo>
                  <a:lnTo>
                    <a:pt x="180" y="531"/>
                  </a:lnTo>
                  <a:lnTo>
                    <a:pt x="438" y="0"/>
                  </a:lnTo>
                  <a:lnTo>
                    <a:pt x="502" y="81"/>
                  </a:lnTo>
                  <a:lnTo>
                    <a:pt x="489" y="104"/>
                  </a:lnTo>
                  <a:lnTo>
                    <a:pt x="477" y="128"/>
                  </a:lnTo>
                  <a:lnTo>
                    <a:pt x="466" y="151"/>
                  </a:lnTo>
                  <a:lnTo>
                    <a:pt x="456" y="176"/>
                  </a:lnTo>
                  <a:lnTo>
                    <a:pt x="444" y="199"/>
                  </a:lnTo>
                  <a:lnTo>
                    <a:pt x="436" y="223"/>
                  </a:lnTo>
                  <a:lnTo>
                    <a:pt x="427" y="246"/>
                  </a:lnTo>
                  <a:lnTo>
                    <a:pt x="419" y="271"/>
                  </a:lnTo>
                  <a:lnTo>
                    <a:pt x="409" y="294"/>
                  </a:lnTo>
                  <a:lnTo>
                    <a:pt x="402" y="318"/>
                  </a:lnTo>
                  <a:lnTo>
                    <a:pt x="394" y="341"/>
                  </a:lnTo>
                  <a:lnTo>
                    <a:pt x="388" y="364"/>
                  </a:lnTo>
                  <a:lnTo>
                    <a:pt x="380" y="388"/>
                  </a:lnTo>
                  <a:lnTo>
                    <a:pt x="374" y="411"/>
                  </a:lnTo>
                  <a:lnTo>
                    <a:pt x="369" y="434"/>
                  </a:lnTo>
                  <a:lnTo>
                    <a:pt x="365" y="459"/>
                  </a:lnTo>
                  <a:lnTo>
                    <a:pt x="359" y="483"/>
                  </a:lnTo>
                  <a:lnTo>
                    <a:pt x="353" y="506"/>
                  </a:lnTo>
                  <a:lnTo>
                    <a:pt x="347" y="529"/>
                  </a:lnTo>
                  <a:lnTo>
                    <a:pt x="343" y="552"/>
                  </a:lnTo>
                  <a:lnTo>
                    <a:pt x="338" y="576"/>
                  </a:lnTo>
                  <a:lnTo>
                    <a:pt x="336" y="599"/>
                  </a:lnTo>
                  <a:lnTo>
                    <a:pt x="332" y="622"/>
                  </a:lnTo>
                  <a:lnTo>
                    <a:pt x="330" y="646"/>
                  </a:lnTo>
                  <a:lnTo>
                    <a:pt x="326" y="669"/>
                  </a:lnTo>
                  <a:lnTo>
                    <a:pt x="324" y="692"/>
                  </a:lnTo>
                  <a:lnTo>
                    <a:pt x="320" y="715"/>
                  </a:lnTo>
                  <a:lnTo>
                    <a:pt x="320" y="739"/>
                  </a:lnTo>
                  <a:lnTo>
                    <a:pt x="318" y="762"/>
                  </a:lnTo>
                  <a:lnTo>
                    <a:pt x="316" y="785"/>
                  </a:lnTo>
                  <a:lnTo>
                    <a:pt x="316" y="808"/>
                  </a:lnTo>
                  <a:lnTo>
                    <a:pt x="316" y="834"/>
                  </a:lnTo>
                  <a:lnTo>
                    <a:pt x="314" y="855"/>
                  </a:lnTo>
                  <a:lnTo>
                    <a:pt x="312" y="878"/>
                  </a:lnTo>
                  <a:lnTo>
                    <a:pt x="312" y="902"/>
                  </a:lnTo>
                  <a:lnTo>
                    <a:pt x="312" y="925"/>
                  </a:lnTo>
                  <a:lnTo>
                    <a:pt x="312" y="948"/>
                  </a:lnTo>
                  <a:lnTo>
                    <a:pt x="312" y="971"/>
                  </a:lnTo>
                  <a:lnTo>
                    <a:pt x="312" y="995"/>
                  </a:lnTo>
                  <a:lnTo>
                    <a:pt x="314" y="1018"/>
                  </a:lnTo>
                  <a:lnTo>
                    <a:pt x="314" y="1041"/>
                  </a:lnTo>
                  <a:lnTo>
                    <a:pt x="314" y="1064"/>
                  </a:lnTo>
                  <a:lnTo>
                    <a:pt x="314" y="1088"/>
                  </a:lnTo>
                  <a:lnTo>
                    <a:pt x="316" y="1111"/>
                  </a:lnTo>
                  <a:lnTo>
                    <a:pt x="316" y="1134"/>
                  </a:lnTo>
                  <a:lnTo>
                    <a:pt x="318" y="1158"/>
                  </a:lnTo>
                  <a:lnTo>
                    <a:pt x="320" y="1181"/>
                  </a:lnTo>
                  <a:lnTo>
                    <a:pt x="324" y="1204"/>
                  </a:lnTo>
                  <a:lnTo>
                    <a:pt x="324" y="1225"/>
                  </a:lnTo>
                  <a:lnTo>
                    <a:pt x="326" y="1249"/>
                  </a:lnTo>
                  <a:lnTo>
                    <a:pt x="328" y="1272"/>
                  </a:lnTo>
                  <a:lnTo>
                    <a:pt x="330" y="1295"/>
                  </a:lnTo>
                  <a:lnTo>
                    <a:pt x="330" y="1318"/>
                  </a:lnTo>
                  <a:lnTo>
                    <a:pt x="332" y="1342"/>
                  </a:lnTo>
                  <a:lnTo>
                    <a:pt x="334" y="1365"/>
                  </a:lnTo>
                  <a:lnTo>
                    <a:pt x="338" y="1388"/>
                  </a:lnTo>
                  <a:lnTo>
                    <a:pt x="339" y="1412"/>
                  </a:lnTo>
                  <a:lnTo>
                    <a:pt x="341" y="1435"/>
                  </a:lnTo>
                  <a:lnTo>
                    <a:pt x="343" y="1458"/>
                  </a:lnTo>
                  <a:lnTo>
                    <a:pt x="347" y="1481"/>
                  </a:lnTo>
                  <a:lnTo>
                    <a:pt x="349" y="1505"/>
                  </a:lnTo>
                  <a:lnTo>
                    <a:pt x="353" y="1528"/>
                  </a:lnTo>
                  <a:lnTo>
                    <a:pt x="355" y="1551"/>
                  </a:lnTo>
                  <a:lnTo>
                    <a:pt x="359" y="1576"/>
                  </a:lnTo>
                  <a:lnTo>
                    <a:pt x="347" y="1604"/>
                  </a:lnTo>
                  <a:lnTo>
                    <a:pt x="339" y="1631"/>
                  </a:lnTo>
                  <a:lnTo>
                    <a:pt x="330" y="1658"/>
                  </a:lnTo>
                  <a:lnTo>
                    <a:pt x="324" y="1687"/>
                  </a:lnTo>
                  <a:lnTo>
                    <a:pt x="316" y="1714"/>
                  </a:lnTo>
                  <a:lnTo>
                    <a:pt x="308" y="1741"/>
                  </a:lnTo>
                  <a:lnTo>
                    <a:pt x="303" y="1768"/>
                  </a:lnTo>
                  <a:lnTo>
                    <a:pt x="297" y="1798"/>
                  </a:lnTo>
                  <a:lnTo>
                    <a:pt x="289" y="1825"/>
                  </a:lnTo>
                  <a:lnTo>
                    <a:pt x="283" y="1852"/>
                  </a:lnTo>
                  <a:lnTo>
                    <a:pt x="277" y="1879"/>
                  </a:lnTo>
                  <a:lnTo>
                    <a:pt x="274" y="1908"/>
                  </a:lnTo>
                  <a:lnTo>
                    <a:pt x="268" y="1935"/>
                  </a:lnTo>
                  <a:lnTo>
                    <a:pt x="262" y="1962"/>
                  </a:lnTo>
                  <a:lnTo>
                    <a:pt x="258" y="1990"/>
                  </a:lnTo>
                  <a:lnTo>
                    <a:pt x="256" y="2019"/>
                  </a:lnTo>
                  <a:lnTo>
                    <a:pt x="250" y="2046"/>
                  </a:lnTo>
                  <a:lnTo>
                    <a:pt x="248" y="2073"/>
                  </a:lnTo>
                  <a:lnTo>
                    <a:pt x="244" y="2100"/>
                  </a:lnTo>
                  <a:lnTo>
                    <a:pt x="243" y="2127"/>
                  </a:lnTo>
                  <a:lnTo>
                    <a:pt x="239" y="2154"/>
                  </a:lnTo>
                  <a:lnTo>
                    <a:pt x="237" y="2182"/>
                  </a:lnTo>
                  <a:lnTo>
                    <a:pt x="235" y="2209"/>
                  </a:lnTo>
                  <a:lnTo>
                    <a:pt x="235" y="2238"/>
                  </a:lnTo>
                  <a:lnTo>
                    <a:pt x="233" y="2265"/>
                  </a:lnTo>
                  <a:lnTo>
                    <a:pt x="231" y="2292"/>
                  </a:lnTo>
                  <a:lnTo>
                    <a:pt x="229" y="2319"/>
                  </a:lnTo>
                  <a:lnTo>
                    <a:pt x="229" y="2348"/>
                  </a:lnTo>
                  <a:lnTo>
                    <a:pt x="229" y="2375"/>
                  </a:lnTo>
                  <a:lnTo>
                    <a:pt x="229" y="2403"/>
                  </a:lnTo>
                  <a:lnTo>
                    <a:pt x="229" y="2430"/>
                  </a:lnTo>
                  <a:lnTo>
                    <a:pt x="231" y="2459"/>
                  </a:lnTo>
                  <a:lnTo>
                    <a:pt x="231" y="2484"/>
                  </a:lnTo>
                  <a:lnTo>
                    <a:pt x="231" y="2511"/>
                  </a:lnTo>
                  <a:lnTo>
                    <a:pt x="231" y="2538"/>
                  </a:lnTo>
                  <a:lnTo>
                    <a:pt x="231" y="2567"/>
                  </a:lnTo>
                  <a:lnTo>
                    <a:pt x="231" y="2593"/>
                  </a:lnTo>
                  <a:lnTo>
                    <a:pt x="233" y="2620"/>
                  </a:lnTo>
                  <a:lnTo>
                    <a:pt x="235" y="2647"/>
                  </a:lnTo>
                  <a:lnTo>
                    <a:pt x="237" y="2676"/>
                  </a:lnTo>
                  <a:lnTo>
                    <a:pt x="237" y="2701"/>
                  </a:lnTo>
                  <a:lnTo>
                    <a:pt x="239" y="2728"/>
                  </a:lnTo>
                  <a:lnTo>
                    <a:pt x="241" y="2756"/>
                  </a:lnTo>
                  <a:lnTo>
                    <a:pt x="244" y="2785"/>
                  </a:lnTo>
                  <a:lnTo>
                    <a:pt x="246" y="2810"/>
                  </a:lnTo>
                  <a:lnTo>
                    <a:pt x="250" y="2837"/>
                  </a:lnTo>
                  <a:lnTo>
                    <a:pt x="252" y="2864"/>
                  </a:lnTo>
                  <a:lnTo>
                    <a:pt x="256" y="2893"/>
                  </a:lnTo>
                  <a:lnTo>
                    <a:pt x="256" y="2918"/>
                  </a:lnTo>
                  <a:lnTo>
                    <a:pt x="260" y="2946"/>
                  </a:lnTo>
                  <a:lnTo>
                    <a:pt x="262" y="2973"/>
                  </a:lnTo>
                  <a:lnTo>
                    <a:pt x="266" y="3002"/>
                  </a:lnTo>
                  <a:lnTo>
                    <a:pt x="268" y="3027"/>
                  </a:lnTo>
                  <a:lnTo>
                    <a:pt x="272" y="3054"/>
                  </a:lnTo>
                  <a:lnTo>
                    <a:pt x="274" y="3081"/>
                  </a:lnTo>
                  <a:lnTo>
                    <a:pt x="279" y="3110"/>
                  </a:lnTo>
                  <a:lnTo>
                    <a:pt x="281" y="3136"/>
                  </a:lnTo>
                  <a:lnTo>
                    <a:pt x="285" y="3165"/>
                  </a:lnTo>
                  <a:lnTo>
                    <a:pt x="289" y="3190"/>
                  </a:lnTo>
                  <a:lnTo>
                    <a:pt x="293" y="3219"/>
                  </a:lnTo>
                  <a:lnTo>
                    <a:pt x="297" y="3246"/>
                  </a:lnTo>
                  <a:lnTo>
                    <a:pt x="301" y="3273"/>
                  </a:lnTo>
                  <a:lnTo>
                    <a:pt x="305" y="3301"/>
                  </a:lnTo>
                  <a:lnTo>
                    <a:pt x="310" y="3330"/>
                  </a:lnTo>
                  <a:lnTo>
                    <a:pt x="326" y="3378"/>
                  </a:lnTo>
                  <a:lnTo>
                    <a:pt x="423" y="3603"/>
                  </a:lnTo>
                  <a:lnTo>
                    <a:pt x="502" y="3716"/>
                  </a:lnTo>
                  <a:lnTo>
                    <a:pt x="535" y="3780"/>
                  </a:lnTo>
                  <a:lnTo>
                    <a:pt x="551" y="3797"/>
                  </a:lnTo>
                  <a:lnTo>
                    <a:pt x="359" y="3877"/>
                  </a:lnTo>
                  <a:lnTo>
                    <a:pt x="326" y="3925"/>
                  </a:lnTo>
                  <a:lnTo>
                    <a:pt x="262" y="3941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52880" y="5318640"/>
              <a:ext cx="29880" cy="360"/>
            </a:xfrm>
            <a:custGeom>
              <a:avLst/>
              <a:gdLst/>
              <a:ahLst/>
              <a:rect l="l" t="t" r="r" b="b"/>
              <a:pathLst>
                <a:path w="145" h="0">
                  <a:moveTo>
                    <a:pt x="97" y="0"/>
                  </a:moveTo>
                  <a:lnTo>
                    <a:pt x="0" y="0"/>
                  </a:lnTo>
                  <a:lnTo>
                    <a:pt x="145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80160" y="4912200"/>
              <a:ext cx="109800" cy="374040"/>
            </a:xfrm>
            <a:custGeom>
              <a:avLst/>
              <a:gdLst/>
              <a:ahLst/>
              <a:rect l="l" t="t" r="r" b="b"/>
              <a:pathLst>
                <a:path w="529" h="3330">
                  <a:moveTo>
                    <a:pt x="112" y="3330"/>
                  </a:moveTo>
                  <a:lnTo>
                    <a:pt x="107" y="3318"/>
                  </a:lnTo>
                  <a:lnTo>
                    <a:pt x="103" y="3307"/>
                  </a:lnTo>
                  <a:lnTo>
                    <a:pt x="99" y="3295"/>
                  </a:lnTo>
                  <a:lnTo>
                    <a:pt x="95" y="3285"/>
                  </a:lnTo>
                  <a:lnTo>
                    <a:pt x="91" y="3274"/>
                  </a:lnTo>
                  <a:lnTo>
                    <a:pt x="89" y="3264"/>
                  </a:lnTo>
                  <a:lnTo>
                    <a:pt x="85" y="3253"/>
                  </a:lnTo>
                  <a:lnTo>
                    <a:pt x="83" y="3243"/>
                  </a:lnTo>
                  <a:lnTo>
                    <a:pt x="77" y="3221"/>
                  </a:lnTo>
                  <a:lnTo>
                    <a:pt x="72" y="3202"/>
                  </a:lnTo>
                  <a:lnTo>
                    <a:pt x="68" y="3181"/>
                  </a:lnTo>
                  <a:lnTo>
                    <a:pt x="64" y="3161"/>
                  </a:lnTo>
                  <a:lnTo>
                    <a:pt x="60" y="3150"/>
                  </a:lnTo>
                  <a:lnTo>
                    <a:pt x="58" y="3138"/>
                  </a:lnTo>
                  <a:lnTo>
                    <a:pt x="56" y="3128"/>
                  </a:lnTo>
                  <a:lnTo>
                    <a:pt x="54" y="3119"/>
                  </a:lnTo>
                  <a:lnTo>
                    <a:pt x="50" y="3097"/>
                  </a:lnTo>
                  <a:lnTo>
                    <a:pt x="46" y="3078"/>
                  </a:lnTo>
                  <a:lnTo>
                    <a:pt x="43" y="3057"/>
                  </a:lnTo>
                  <a:lnTo>
                    <a:pt x="41" y="3037"/>
                  </a:lnTo>
                  <a:lnTo>
                    <a:pt x="37" y="3016"/>
                  </a:lnTo>
                  <a:lnTo>
                    <a:pt x="37" y="2997"/>
                  </a:lnTo>
                  <a:lnTo>
                    <a:pt x="35" y="2985"/>
                  </a:lnTo>
                  <a:lnTo>
                    <a:pt x="33" y="2973"/>
                  </a:lnTo>
                  <a:lnTo>
                    <a:pt x="31" y="2964"/>
                  </a:lnTo>
                  <a:lnTo>
                    <a:pt x="31" y="2954"/>
                  </a:lnTo>
                  <a:lnTo>
                    <a:pt x="29" y="2942"/>
                  </a:lnTo>
                  <a:lnTo>
                    <a:pt x="27" y="2931"/>
                  </a:lnTo>
                  <a:lnTo>
                    <a:pt x="25" y="2921"/>
                  </a:lnTo>
                  <a:lnTo>
                    <a:pt x="25" y="2911"/>
                  </a:lnTo>
                  <a:lnTo>
                    <a:pt x="23" y="2900"/>
                  </a:lnTo>
                  <a:lnTo>
                    <a:pt x="21" y="2890"/>
                  </a:lnTo>
                  <a:lnTo>
                    <a:pt x="21" y="2878"/>
                  </a:lnTo>
                  <a:lnTo>
                    <a:pt x="21" y="2869"/>
                  </a:lnTo>
                  <a:lnTo>
                    <a:pt x="17" y="2847"/>
                  </a:lnTo>
                  <a:lnTo>
                    <a:pt x="17" y="2828"/>
                  </a:lnTo>
                  <a:lnTo>
                    <a:pt x="15" y="2816"/>
                  </a:lnTo>
                  <a:lnTo>
                    <a:pt x="13" y="2805"/>
                  </a:lnTo>
                  <a:lnTo>
                    <a:pt x="13" y="2793"/>
                  </a:lnTo>
                  <a:lnTo>
                    <a:pt x="13" y="2783"/>
                  </a:lnTo>
                  <a:lnTo>
                    <a:pt x="12" y="2772"/>
                  </a:lnTo>
                  <a:lnTo>
                    <a:pt x="10" y="2762"/>
                  </a:lnTo>
                  <a:lnTo>
                    <a:pt x="10" y="2750"/>
                  </a:lnTo>
                  <a:lnTo>
                    <a:pt x="10" y="2741"/>
                  </a:lnTo>
                  <a:lnTo>
                    <a:pt x="8" y="2729"/>
                  </a:lnTo>
                  <a:lnTo>
                    <a:pt x="6" y="2717"/>
                  </a:lnTo>
                  <a:lnTo>
                    <a:pt x="4" y="2706"/>
                  </a:lnTo>
                  <a:lnTo>
                    <a:pt x="4" y="2696"/>
                  </a:lnTo>
                  <a:lnTo>
                    <a:pt x="2" y="2684"/>
                  </a:lnTo>
                  <a:lnTo>
                    <a:pt x="2" y="2675"/>
                  </a:lnTo>
                  <a:lnTo>
                    <a:pt x="0" y="2663"/>
                  </a:lnTo>
                  <a:lnTo>
                    <a:pt x="0" y="2653"/>
                  </a:lnTo>
                  <a:lnTo>
                    <a:pt x="0" y="2605"/>
                  </a:lnTo>
                  <a:lnTo>
                    <a:pt x="0" y="2219"/>
                  </a:lnTo>
                  <a:lnTo>
                    <a:pt x="0" y="2139"/>
                  </a:lnTo>
                  <a:lnTo>
                    <a:pt x="31" y="1817"/>
                  </a:lnTo>
                  <a:lnTo>
                    <a:pt x="43" y="1796"/>
                  </a:lnTo>
                  <a:lnTo>
                    <a:pt x="54" y="1777"/>
                  </a:lnTo>
                  <a:lnTo>
                    <a:pt x="64" y="1757"/>
                  </a:lnTo>
                  <a:lnTo>
                    <a:pt x="74" y="1738"/>
                  </a:lnTo>
                  <a:lnTo>
                    <a:pt x="81" y="1717"/>
                  </a:lnTo>
                  <a:lnTo>
                    <a:pt x="89" y="1699"/>
                  </a:lnTo>
                  <a:lnTo>
                    <a:pt x="95" y="1678"/>
                  </a:lnTo>
                  <a:lnTo>
                    <a:pt x="103" y="1660"/>
                  </a:lnTo>
                  <a:lnTo>
                    <a:pt x="107" y="1639"/>
                  </a:lnTo>
                  <a:lnTo>
                    <a:pt x="110" y="1620"/>
                  </a:lnTo>
                  <a:lnTo>
                    <a:pt x="114" y="1600"/>
                  </a:lnTo>
                  <a:lnTo>
                    <a:pt x="118" y="1581"/>
                  </a:lnTo>
                  <a:lnTo>
                    <a:pt x="120" y="1561"/>
                  </a:lnTo>
                  <a:lnTo>
                    <a:pt x="122" y="1542"/>
                  </a:lnTo>
                  <a:lnTo>
                    <a:pt x="122" y="1523"/>
                  </a:lnTo>
                  <a:lnTo>
                    <a:pt x="124" y="1505"/>
                  </a:lnTo>
                  <a:lnTo>
                    <a:pt x="122" y="1484"/>
                  </a:lnTo>
                  <a:lnTo>
                    <a:pt x="122" y="1464"/>
                  </a:lnTo>
                  <a:lnTo>
                    <a:pt x="120" y="1445"/>
                  </a:lnTo>
                  <a:lnTo>
                    <a:pt x="120" y="1428"/>
                  </a:lnTo>
                  <a:lnTo>
                    <a:pt x="116" y="1408"/>
                  </a:lnTo>
                  <a:lnTo>
                    <a:pt x="116" y="1389"/>
                  </a:lnTo>
                  <a:lnTo>
                    <a:pt x="112" y="1369"/>
                  </a:lnTo>
                  <a:lnTo>
                    <a:pt x="112" y="1352"/>
                  </a:lnTo>
                  <a:lnTo>
                    <a:pt x="109" y="1333"/>
                  </a:lnTo>
                  <a:lnTo>
                    <a:pt x="107" y="1313"/>
                  </a:lnTo>
                  <a:lnTo>
                    <a:pt x="105" y="1294"/>
                  </a:lnTo>
                  <a:lnTo>
                    <a:pt x="103" y="1276"/>
                  </a:lnTo>
                  <a:lnTo>
                    <a:pt x="101" y="1259"/>
                  </a:lnTo>
                  <a:lnTo>
                    <a:pt x="99" y="1241"/>
                  </a:lnTo>
                  <a:lnTo>
                    <a:pt x="97" y="1224"/>
                  </a:lnTo>
                  <a:lnTo>
                    <a:pt x="97" y="1206"/>
                  </a:lnTo>
                  <a:lnTo>
                    <a:pt x="95" y="1187"/>
                  </a:lnTo>
                  <a:lnTo>
                    <a:pt x="93" y="1170"/>
                  </a:lnTo>
                  <a:lnTo>
                    <a:pt x="91" y="1150"/>
                  </a:lnTo>
                  <a:lnTo>
                    <a:pt x="91" y="1133"/>
                  </a:lnTo>
                  <a:lnTo>
                    <a:pt x="89" y="1113"/>
                  </a:lnTo>
                  <a:lnTo>
                    <a:pt x="89" y="1096"/>
                  </a:lnTo>
                  <a:lnTo>
                    <a:pt x="89" y="1078"/>
                  </a:lnTo>
                  <a:lnTo>
                    <a:pt x="89" y="1061"/>
                  </a:lnTo>
                  <a:lnTo>
                    <a:pt x="87" y="1042"/>
                  </a:lnTo>
                  <a:lnTo>
                    <a:pt x="87" y="1024"/>
                  </a:lnTo>
                  <a:lnTo>
                    <a:pt x="87" y="1005"/>
                  </a:lnTo>
                  <a:lnTo>
                    <a:pt x="87" y="987"/>
                  </a:lnTo>
                  <a:lnTo>
                    <a:pt x="87" y="970"/>
                  </a:lnTo>
                  <a:lnTo>
                    <a:pt x="87" y="952"/>
                  </a:lnTo>
                  <a:lnTo>
                    <a:pt x="87" y="935"/>
                  </a:lnTo>
                  <a:lnTo>
                    <a:pt x="87" y="917"/>
                  </a:lnTo>
                  <a:lnTo>
                    <a:pt x="85" y="898"/>
                  </a:lnTo>
                  <a:lnTo>
                    <a:pt x="85" y="881"/>
                  </a:lnTo>
                  <a:lnTo>
                    <a:pt x="85" y="863"/>
                  </a:lnTo>
                  <a:lnTo>
                    <a:pt x="85" y="846"/>
                  </a:lnTo>
                  <a:lnTo>
                    <a:pt x="85" y="828"/>
                  </a:lnTo>
                  <a:lnTo>
                    <a:pt x="85" y="811"/>
                  </a:lnTo>
                  <a:lnTo>
                    <a:pt x="85" y="793"/>
                  </a:lnTo>
                  <a:lnTo>
                    <a:pt x="87" y="776"/>
                  </a:lnTo>
                  <a:lnTo>
                    <a:pt x="87" y="758"/>
                  </a:lnTo>
                  <a:lnTo>
                    <a:pt x="89" y="741"/>
                  </a:lnTo>
                  <a:lnTo>
                    <a:pt x="91" y="724"/>
                  </a:lnTo>
                  <a:lnTo>
                    <a:pt x="93" y="706"/>
                  </a:lnTo>
                  <a:lnTo>
                    <a:pt x="93" y="689"/>
                  </a:lnTo>
                  <a:lnTo>
                    <a:pt x="95" y="671"/>
                  </a:lnTo>
                  <a:lnTo>
                    <a:pt x="97" y="654"/>
                  </a:lnTo>
                  <a:lnTo>
                    <a:pt x="101" y="636"/>
                  </a:lnTo>
                  <a:lnTo>
                    <a:pt x="101" y="619"/>
                  </a:lnTo>
                  <a:lnTo>
                    <a:pt x="105" y="601"/>
                  </a:lnTo>
                  <a:lnTo>
                    <a:pt x="105" y="584"/>
                  </a:lnTo>
                  <a:lnTo>
                    <a:pt x="109" y="566"/>
                  </a:lnTo>
                  <a:lnTo>
                    <a:pt x="110" y="549"/>
                  </a:lnTo>
                  <a:lnTo>
                    <a:pt x="114" y="532"/>
                  </a:lnTo>
                  <a:lnTo>
                    <a:pt x="116" y="514"/>
                  </a:lnTo>
                  <a:lnTo>
                    <a:pt x="122" y="497"/>
                  </a:lnTo>
                  <a:lnTo>
                    <a:pt x="124" y="479"/>
                  </a:lnTo>
                  <a:lnTo>
                    <a:pt x="128" y="462"/>
                  </a:lnTo>
                  <a:lnTo>
                    <a:pt x="132" y="444"/>
                  </a:lnTo>
                  <a:lnTo>
                    <a:pt x="138" y="427"/>
                  </a:lnTo>
                  <a:lnTo>
                    <a:pt x="143" y="409"/>
                  </a:lnTo>
                  <a:lnTo>
                    <a:pt x="149" y="392"/>
                  </a:lnTo>
                  <a:lnTo>
                    <a:pt x="155" y="374"/>
                  </a:lnTo>
                  <a:lnTo>
                    <a:pt x="161" y="357"/>
                  </a:lnTo>
                  <a:lnTo>
                    <a:pt x="165" y="340"/>
                  </a:lnTo>
                  <a:lnTo>
                    <a:pt x="171" y="322"/>
                  </a:lnTo>
                  <a:lnTo>
                    <a:pt x="176" y="305"/>
                  </a:lnTo>
                  <a:lnTo>
                    <a:pt x="184" y="287"/>
                  </a:lnTo>
                  <a:lnTo>
                    <a:pt x="190" y="270"/>
                  </a:lnTo>
                  <a:lnTo>
                    <a:pt x="196" y="252"/>
                  </a:lnTo>
                  <a:lnTo>
                    <a:pt x="204" y="235"/>
                  </a:lnTo>
                  <a:lnTo>
                    <a:pt x="213" y="217"/>
                  </a:lnTo>
                  <a:lnTo>
                    <a:pt x="219" y="200"/>
                  </a:lnTo>
                  <a:lnTo>
                    <a:pt x="229" y="182"/>
                  </a:lnTo>
                  <a:lnTo>
                    <a:pt x="237" y="165"/>
                  </a:lnTo>
                  <a:lnTo>
                    <a:pt x="248" y="148"/>
                  </a:lnTo>
                  <a:lnTo>
                    <a:pt x="256" y="130"/>
                  </a:lnTo>
                  <a:lnTo>
                    <a:pt x="266" y="113"/>
                  </a:lnTo>
                  <a:lnTo>
                    <a:pt x="277" y="95"/>
                  </a:lnTo>
                  <a:lnTo>
                    <a:pt x="289" y="80"/>
                  </a:lnTo>
                  <a:lnTo>
                    <a:pt x="337" y="80"/>
                  </a:lnTo>
                  <a:lnTo>
                    <a:pt x="370" y="0"/>
                  </a:lnTo>
                  <a:lnTo>
                    <a:pt x="225" y="627"/>
                  </a:lnTo>
                  <a:lnTo>
                    <a:pt x="258" y="627"/>
                  </a:lnTo>
                  <a:lnTo>
                    <a:pt x="273" y="615"/>
                  </a:lnTo>
                  <a:lnTo>
                    <a:pt x="289" y="605"/>
                  </a:lnTo>
                  <a:lnTo>
                    <a:pt x="302" y="596"/>
                  </a:lnTo>
                  <a:lnTo>
                    <a:pt x="316" y="586"/>
                  </a:lnTo>
                  <a:lnTo>
                    <a:pt x="326" y="574"/>
                  </a:lnTo>
                  <a:lnTo>
                    <a:pt x="337" y="563"/>
                  </a:lnTo>
                  <a:lnTo>
                    <a:pt x="347" y="551"/>
                  </a:lnTo>
                  <a:lnTo>
                    <a:pt x="357" y="541"/>
                  </a:lnTo>
                  <a:lnTo>
                    <a:pt x="365" y="528"/>
                  </a:lnTo>
                  <a:lnTo>
                    <a:pt x="374" y="516"/>
                  </a:lnTo>
                  <a:lnTo>
                    <a:pt x="382" y="502"/>
                  </a:lnTo>
                  <a:lnTo>
                    <a:pt x="392" y="491"/>
                  </a:lnTo>
                  <a:lnTo>
                    <a:pt x="399" y="475"/>
                  </a:lnTo>
                  <a:lnTo>
                    <a:pt x="409" y="462"/>
                  </a:lnTo>
                  <a:lnTo>
                    <a:pt x="421" y="448"/>
                  </a:lnTo>
                  <a:lnTo>
                    <a:pt x="434" y="435"/>
                  </a:lnTo>
                  <a:lnTo>
                    <a:pt x="529" y="596"/>
                  </a:lnTo>
                  <a:lnTo>
                    <a:pt x="529" y="611"/>
                  </a:lnTo>
                  <a:lnTo>
                    <a:pt x="504" y="646"/>
                  </a:lnTo>
                  <a:lnTo>
                    <a:pt x="481" y="685"/>
                  </a:lnTo>
                  <a:lnTo>
                    <a:pt x="460" y="722"/>
                  </a:lnTo>
                  <a:lnTo>
                    <a:pt x="440" y="760"/>
                  </a:lnTo>
                  <a:lnTo>
                    <a:pt x="421" y="795"/>
                  </a:lnTo>
                  <a:lnTo>
                    <a:pt x="403" y="834"/>
                  </a:lnTo>
                  <a:lnTo>
                    <a:pt x="386" y="871"/>
                  </a:lnTo>
                  <a:lnTo>
                    <a:pt x="370" y="910"/>
                  </a:lnTo>
                  <a:lnTo>
                    <a:pt x="353" y="947"/>
                  </a:lnTo>
                  <a:lnTo>
                    <a:pt x="339" y="983"/>
                  </a:lnTo>
                  <a:lnTo>
                    <a:pt x="324" y="1020"/>
                  </a:lnTo>
                  <a:lnTo>
                    <a:pt x="312" y="1059"/>
                  </a:lnTo>
                  <a:lnTo>
                    <a:pt x="299" y="1096"/>
                  </a:lnTo>
                  <a:lnTo>
                    <a:pt x="287" y="1135"/>
                  </a:lnTo>
                  <a:lnTo>
                    <a:pt x="277" y="1172"/>
                  </a:lnTo>
                  <a:lnTo>
                    <a:pt x="268" y="1210"/>
                  </a:lnTo>
                  <a:lnTo>
                    <a:pt x="256" y="1245"/>
                  </a:lnTo>
                  <a:lnTo>
                    <a:pt x="248" y="1284"/>
                  </a:lnTo>
                  <a:lnTo>
                    <a:pt x="238" y="1321"/>
                  </a:lnTo>
                  <a:lnTo>
                    <a:pt x="231" y="1360"/>
                  </a:lnTo>
                  <a:lnTo>
                    <a:pt x="223" y="1395"/>
                  </a:lnTo>
                  <a:lnTo>
                    <a:pt x="217" y="1433"/>
                  </a:lnTo>
                  <a:lnTo>
                    <a:pt x="211" y="1470"/>
                  </a:lnTo>
                  <a:lnTo>
                    <a:pt x="205" y="1509"/>
                  </a:lnTo>
                  <a:lnTo>
                    <a:pt x="200" y="1546"/>
                  </a:lnTo>
                  <a:lnTo>
                    <a:pt x="194" y="1583"/>
                  </a:lnTo>
                  <a:lnTo>
                    <a:pt x="188" y="1620"/>
                  </a:lnTo>
                  <a:lnTo>
                    <a:pt x="186" y="1658"/>
                  </a:lnTo>
                  <a:lnTo>
                    <a:pt x="180" y="1695"/>
                  </a:lnTo>
                  <a:lnTo>
                    <a:pt x="178" y="1734"/>
                  </a:lnTo>
                  <a:lnTo>
                    <a:pt x="174" y="1771"/>
                  </a:lnTo>
                  <a:lnTo>
                    <a:pt x="174" y="1810"/>
                  </a:lnTo>
                  <a:lnTo>
                    <a:pt x="171" y="1845"/>
                  </a:lnTo>
                  <a:lnTo>
                    <a:pt x="169" y="1883"/>
                  </a:lnTo>
                  <a:lnTo>
                    <a:pt x="165" y="1918"/>
                  </a:lnTo>
                  <a:lnTo>
                    <a:pt x="165" y="1957"/>
                  </a:lnTo>
                  <a:lnTo>
                    <a:pt x="163" y="1994"/>
                  </a:lnTo>
                  <a:lnTo>
                    <a:pt x="161" y="2031"/>
                  </a:lnTo>
                  <a:lnTo>
                    <a:pt x="161" y="2068"/>
                  </a:lnTo>
                  <a:lnTo>
                    <a:pt x="161" y="2106"/>
                  </a:lnTo>
                  <a:lnTo>
                    <a:pt x="159" y="2141"/>
                  </a:lnTo>
                  <a:lnTo>
                    <a:pt x="157" y="2180"/>
                  </a:lnTo>
                  <a:lnTo>
                    <a:pt x="155" y="2217"/>
                  </a:lnTo>
                  <a:lnTo>
                    <a:pt x="155" y="2256"/>
                  </a:lnTo>
                  <a:lnTo>
                    <a:pt x="153" y="2291"/>
                  </a:lnTo>
                  <a:lnTo>
                    <a:pt x="153" y="2329"/>
                  </a:lnTo>
                  <a:lnTo>
                    <a:pt x="153" y="2366"/>
                  </a:lnTo>
                  <a:lnTo>
                    <a:pt x="153" y="2405"/>
                  </a:lnTo>
                  <a:lnTo>
                    <a:pt x="151" y="2440"/>
                  </a:lnTo>
                  <a:lnTo>
                    <a:pt x="149" y="2479"/>
                  </a:lnTo>
                  <a:lnTo>
                    <a:pt x="147" y="2516"/>
                  </a:lnTo>
                  <a:lnTo>
                    <a:pt x="147" y="2554"/>
                  </a:lnTo>
                  <a:lnTo>
                    <a:pt x="145" y="2591"/>
                  </a:lnTo>
                  <a:lnTo>
                    <a:pt x="143" y="2630"/>
                  </a:lnTo>
                  <a:lnTo>
                    <a:pt x="141" y="2667"/>
                  </a:lnTo>
                  <a:lnTo>
                    <a:pt x="141" y="2706"/>
                  </a:lnTo>
                  <a:lnTo>
                    <a:pt x="138" y="2742"/>
                  </a:lnTo>
                  <a:lnTo>
                    <a:pt x="134" y="2781"/>
                  </a:lnTo>
                  <a:lnTo>
                    <a:pt x="130" y="2818"/>
                  </a:lnTo>
                  <a:lnTo>
                    <a:pt x="128" y="2857"/>
                  </a:lnTo>
                  <a:lnTo>
                    <a:pt x="124" y="2894"/>
                  </a:lnTo>
                  <a:lnTo>
                    <a:pt x="120" y="2933"/>
                  </a:lnTo>
                  <a:lnTo>
                    <a:pt x="116" y="2969"/>
                  </a:lnTo>
                  <a:lnTo>
                    <a:pt x="112" y="3008"/>
                  </a:lnTo>
                  <a:lnTo>
                    <a:pt x="112" y="3330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48480" y="5056920"/>
              <a:ext cx="33480" cy="42840"/>
            </a:xfrm>
            <a:custGeom>
              <a:avLst/>
              <a:gdLst/>
              <a:ahLst/>
              <a:rect l="l" t="t" r="r" b="b"/>
              <a:pathLst>
                <a:path w="156" h="386">
                  <a:moveTo>
                    <a:pt x="49" y="386"/>
                  </a:moveTo>
                  <a:lnTo>
                    <a:pt x="16" y="386"/>
                  </a:lnTo>
                  <a:lnTo>
                    <a:pt x="0" y="355"/>
                  </a:lnTo>
                  <a:lnTo>
                    <a:pt x="16" y="48"/>
                  </a:lnTo>
                  <a:lnTo>
                    <a:pt x="64" y="0"/>
                  </a:lnTo>
                  <a:lnTo>
                    <a:pt x="130" y="33"/>
                  </a:lnTo>
                  <a:lnTo>
                    <a:pt x="136" y="52"/>
                  </a:lnTo>
                  <a:lnTo>
                    <a:pt x="144" y="74"/>
                  </a:lnTo>
                  <a:lnTo>
                    <a:pt x="146" y="83"/>
                  </a:lnTo>
                  <a:lnTo>
                    <a:pt x="148" y="95"/>
                  </a:lnTo>
                  <a:lnTo>
                    <a:pt x="150" y="105"/>
                  </a:lnTo>
                  <a:lnTo>
                    <a:pt x="154" y="116"/>
                  </a:lnTo>
                  <a:lnTo>
                    <a:pt x="154" y="136"/>
                  </a:lnTo>
                  <a:lnTo>
                    <a:pt x="156" y="157"/>
                  </a:lnTo>
                  <a:lnTo>
                    <a:pt x="156" y="167"/>
                  </a:lnTo>
                  <a:lnTo>
                    <a:pt x="156" y="178"/>
                  </a:lnTo>
                  <a:lnTo>
                    <a:pt x="156" y="188"/>
                  </a:lnTo>
                  <a:lnTo>
                    <a:pt x="156" y="200"/>
                  </a:lnTo>
                  <a:lnTo>
                    <a:pt x="152" y="219"/>
                  </a:lnTo>
                  <a:lnTo>
                    <a:pt x="150" y="239"/>
                  </a:lnTo>
                  <a:lnTo>
                    <a:pt x="144" y="258"/>
                  </a:lnTo>
                  <a:lnTo>
                    <a:pt x="140" y="279"/>
                  </a:lnTo>
                  <a:lnTo>
                    <a:pt x="134" y="297"/>
                  </a:lnTo>
                  <a:lnTo>
                    <a:pt x="128" y="316"/>
                  </a:lnTo>
                  <a:lnTo>
                    <a:pt x="121" y="335"/>
                  </a:lnTo>
                  <a:lnTo>
                    <a:pt x="113" y="355"/>
                  </a:lnTo>
                  <a:lnTo>
                    <a:pt x="49" y="3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43520" y="4880160"/>
              <a:ext cx="368640" cy="174240"/>
            </a:xfrm>
            <a:custGeom>
              <a:avLst/>
              <a:gdLst/>
              <a:ahLst/>
              <a:rect l="l" t="t" r="r" b="b"/>
              <a:pathLst>
                <a:path w="1771" h="1559">
                  <a:moveTo>
                    <a:pt x="18" y="1544"/>
                  </a:moveTo>
                  <a:lnTo>
                    <a:pt x="0" y="1544"/>
                  </a:lnTo>
                  <a:lnTo>
                    <a:pt x="243" y="964"/>
                  </a:lnTo>
                  <a:lnTo>
                    <a:pt x="547" y="627"/>
                  </a:lnTo>
                  <a:lnTo>
                    <a:pt x="708" y="708"/>
                  </a:lnTo>
                  <a:lnTo>
                    <a:pt x="726" y="660"/>
                  </a:lnTo>
                  <a:lnTo>
                    <a:pt x="821" y="708"/>
                  </a:lnTo>
                  <a:lnTo>
                    <a:pt x="821" y="611"/>
                  </a:lnTo>
                  <a:lnTo>
                    <a:pt x="933" y="660"/>
                  </a:lnTo>
                  <a:lnTo>
                    <a:pt x="951" y="547"/>
                  </a:lnTo>
                  <a:lnTo>
                    <a:pt x="1079" y="578"/>
                  </a:lnTo>
                  <a:lnTo>
                    <a:pt x="1063" y="450"/>
                  </a:lnTo>
                  <a:lnTo>
                    <a:pt x="1127" y="450"/>
                  </a:lnTo>
                  <a:lnTo>
                    <a:pt x="1143" y="435"/>
                  </a:lnTo>
                  <a:lnTo>
                    <a:pt x="1255" y="450"/>
                  </a:lnTo>
                  <a:lnTo>
                    <a:pt x="1255" y="369"/>
                  </a:lnTo>
                  <a:lnTo>
                    <a:pt x="1288" y="369"/>
                  </a:lnTo>
                  <a:lnTo>
                    <a:pt x="1319" y="225"/>
                  </a:lnTo>
                  <a:lnTo>
                    <a:pt x="1401" y="192"/>
                  </a:lnTo>
                  <a:lnTo>
                    <a:pt x="1465" y="161"/>
                  </a:lnTo>
                  <a:lnTo>
                    <a:pt x="1432" y="64"/>
                  </a:lnTo>
                  <a:lnTo>
                    <a:pt x="1513" y="64"/>
                  </a:lnTo>
                  <a:lnTo>
                    <a:pt x="1529" y="16"/>
                  </a:lnTo>
                  <a:lnTo>
                    <a:pt x="1705" y="0"/>
                  </a:lnTo>
                  <a:lnTo>
                    <a:pt x="1771" y="208"/>
                  </a:lnTo>
                  <a:lnTo>
                    <a:pt x="1659" y="208"/>
                  </a:lnTo>
                  <a:lnTo>
                    <a:pt x="1641" y="225"/>
                  </a:lnTo>
                  <a:lnTo>
                    <a:pt x="1659" y="274"/>
                  </a:lnTo>
                  <a:lnTo>
                    <a:pt x="1659" y="369"/>
                  </a:lnTo>
                  <a:lnTo>
                    <a:pt x="1626" y="402"/>
                  </a:lnTo>
                  <a:lnTo>
                    <a:pt x="1498" y="386"/>
                  </a:lnTo>
                  <a:lnTo>
                    <a:pt x="1432" y="450"/>
                  </a:lnTo>
                  <a:lnTo>
                    <a:pt x="1432" y="499"/>
                  </a:lnTo>
                  <a:lnTo>
                    <a:pt x="1432" y="547"/>
                  </a:lnTo>
                  <a:lnTo>
                    <a:pt x="1432" y="594"/>
                  </a:lnTo>
                  <a:lnTo>
                    <a:pt x="1337" y="578"/>
                  </a:lnTo>
                  <a:lnTo>
                    <a:pt x="1319" y="691"/>
                  </a:lnTo>
                  <a:lnTo>
                    <a:pt x="1288" y="724"/>
                  </a:lnTo>
                  <a:lnTo>
                    <a:pt x="1224" y="708"/>
                  </a:lnTo>
                  <a:lnTo>
                    <a:pt x="1207" y="660"/>
                  </a:lnTo>
                  <a:lnTo>
                    <a:pt x="1191" y="675"/>
                  </a:lnTo>
                  <a:lnTo>
                    <a:pt x="1127" y="836"/>
                  </a:lnTo>
                  <a:lnTo>
                    <a:pt x="982" y="836"/>
                  </a:lnTo>
                  <a:lnTo>
                    <a:pt x="966" y="852"/>
                  </a:lnTo>
                  <a:lnTo>
                    <a:pt x="982" y="885"/>
                  </a:lnTo>
                  <a:lnTo>
                    <a:pt x="999" y="964"/>
                  </a:lnTo>
                  <a:lnTo>
                    <a:pt x="966" y="964"/>
                  </a:lnTo>
                  <a:lnTo>
                    <a:pt x="918" y="933"/>
                  </a:lnTo>
                  <a:lnTo>
                    <a:pt x="902" y="933"/>
                  </a:lnTo>
                  <a:lnTo>
                    <a:pt x="885" y="1013"/>
                  </a:lnTo>
                  <a:lnTo>
                    <a:pt x="854" y="1046"/>
                  </a:lnTo>
                  <a:lnTo>
                    <a:pt x="805" y="933"/>
                  </a:lnTo>
                  <a:lnTo>
                    <a:pt x="772" y="933"/>
                  </a:lnTo>
                  <a:lnTo>
                    <a:pt x="757" y="1013"/>
                  </a:lnTo>
                  <a:lnTo>
                    <a:pt x="741" y="1046"/>
                  </a:lnTo>
                  <a:lnTo>
                    <a:pt x="726" y="1046"/>
                  </a:lnTo>
                  <a:lnTo>
                    <a:pt x="677" y="1046"/>
                  </a:lnTo>
                  <a:lnTo>
                    <a:pt x="677" y="1094"/>
                  </a:lnTo>
                  <a:lnTo>
                    <a:pt x="613" y="1174"/>
                  </a:lnTo>
                  <a:lnTo>
                    <a:pt x="516" y="1174"/>
                  </a:lnTo>
                  <a:lnTo>
                    <a:pt x="580" y="1222"/>
                  </a:lnTo>
                  <a:lnTo>
                    <a:pt x="547" y="1255"/>
                  </a:lnTo>
                  <a:lnTo>
                    <a:pt x="483" y="1255"/>
                  </a:lnTo>
                  <a:lnTo>
                    <a:pt x="483" y="1189"/>
                  </a:lnTo>
                  <a:lnTo>
                    <a:pt x="483" y="1174"/>
                  </a:lnTo>
                  <a:lnTo>
                    <a:pt x="468" y="1158"/>
                  </a:lnTo>
                  <a:lnTo>
                    <a:pt x="468" y="1189"/>
                  </a:lnTo>
                  <a:lnTo>
                    <a:pt x="468" y="1222"/>
                  </a:lnTo>
                  <a:lnTo>
                    <a:pt x="435" y="1302"/>
                  </a:lnTo>
                  <a:lnTo>
                    <a:pt x="386" y="1255"/>
                  </a:lnTo>
                  <a:lnTo>
                    <a:pt x="371" y="1206"/>
                  </a:lnTo>
                  <a:lnTo>
                    <a:pt x="291" y="1302"/>
                  </a:lnTo>
                  <a:lnTo>
                    <a:pt x="243" y="1302"/>
                  </a:lnTo>
                  <a:lnTo>
                    <a:pt x="225" y="1319"/>
                  </a:lnTo>
                  <a:lnTo>
                    <a:pt x="179" y="1286"/>
                  </a:lnTo>
                  <a:lnTo>
                    <a:pt x="161" y="1319"/>
                  </a:lnTo>
                  <a:lnTo>
                    <a:pt x="146" y="1398"/>
                  </a:lnTo>
                  <a:lnTo>
                    <a:pt x="49" y="1559"/>
                  </a:lnTo>
                  <a:lnTo>
                    <a:pt x="18" y="1544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34720" y="4966560"/>
              <a:ext cx="29880" cy="56160"/>
            </a:xfrm>
            <a:custGeom>
              <a:avLst/>
              <a:gdLst/>
              <a:ahLst/>
              <a:rect l="l" t="t" r="r" b="b"/>
              <a:pathLst>
                <a:path w="143" h="498">
                  <a:moveTo>
                    <a:pt x="97" y="498"/>
                  </a:moveTo>
                  <a:lnTo>
                    <a:pt x="97" y="483"/>
                  </a:lnTo>
                  <a:lnTo>
                    <a:pt x="33" y="369"/>
                  </a:lnTo>
                  <a:lnTo>
                    <a:pt x="17" y="322"/>
                  </a:lnTo>
                  <a:lnTo>
                    <a:pt x="0" y="305"/>
                  </a:lnTo>
                  <a:lnTo>
                    <a:pt x="33" y="128"/>
                  </a:lnTo>
                  <a:lnTo>
                    <a:pt x="33" y="64"/>
                  </a:lnTo>
                  <a:lnTo>
                    <a:pt x="33" y="0"/>
                  </a:lnTo>
                  <a:lnTo>
                    <a:pt x="64" y="16"/>
                  </a:lnTo>
                  <a:lnTo>
                    <a:pt x="129" y="49"/>
                  </a:lnTo>
                  <a:lnTo>
                    <a:pt x="131" y="60"/>
                  </a:lnTo>
                  <a:lnTo>
                    <a:pt x="133" y="74"/>
                  </a:lnTo>
                  <a:lnTo>
                    <a:pt x="135" y="87"/>
                  </a:lnTo>
                  <a:lnTo>
                    <a:pt x="137" y="101"/>
                  </a:lnTo>
                  <a:lnTo>
                    <a:pt x="137" y="114"/>
                  </a:lnTo>
                  <a:lnTo>
                    <a:pt x="139" y="128"/>
                  </a:lnTo>
                  <a:lnTo>
                    <a:pt x="141" y="142"/>
                  </a:lnTo>
                  <a:lnTo>
                    <a:pt x="143" y="157"/>
                  </a:lnTo>
                  <a:lnTo>
                    <a:pt x="143" y="171"/>
                  </a:lnTo>
                  <a:lnTo>
                    <a:pt x="143" y="184"/>
                  </a:lnTo>
                  <a:lnTo>
                    <a:pt x="143" y="198"/>
                  </a:lnTo>
                  <a:lnTo>
                    <a:pt x="143" y="213"/>
                  </a:lnTo>
                  <a:lnTo>
                    <a:pt x="143" y="227"/>
                  </a:lnTo>
                  <a:lnTo>
                    <a:pt x="143" y="242"/>
                  </a:lnTo>
                  <a:lnTo>
                    <a:pt x="143" y="256"/>
                  </a:lnTo>
                  <a:lnTo>
                    <a:pt x="143" y="272"/>
                  </a:lnTo>
                  <a:lnTo>
                    <a:pt x="141" y="285"/>
                  </a:lnTo>
                  <a:lnTo>
                    <a:pt x="139" y="299"/>
                  </a:lnTo>
                  <a:lnTo>
                    <a:pt x="137" y="312"/>
                  </a:lnTo>
                  <a:lnTo>
                    <a:pt x="137" y="328"/>
                  </a:lnTo>
                  <a:lnTo>
                    <a:pt x="135" y="341"/>
                  </a:lnTo>
                  <a:lnTo>
                    <a:pt x="133" y="357"/>
                  </a:lnTo>
                  <a:lnTo>
                    <a:pt x="131" y="370"/>
                  </a:lnTo>
                  <a:lnTo>
                    <a:pt x="131" y="386"/>
                  </a:lnTo>
                  <a:lnTo>
                    <a:pt x="128" y="398"/>
                  </a:lnTo>
                  <a:lnTo>
                    <a:pt x="126" y="413"/>
                  </a:lnTo>
                  <a:lnTo>
                    <a:pt x="124" y="427"/>
                  </a:lnTo>
                  <a:lnTo>
                    <a:pt x="122" y="442"/>
                  </a:lnTo>
                  <a:lnTo>
                    <a:pt x="118" y="454"/>
                  </a:lnTo>
                  <a:lnTo>
                    <a:pt x="116" y="469"/>
                  </a:lnTo>
                  <a:lnTo>
                    <a:pt x="114" y="483"/>
                  </a:lnTo>
                  <a:lnTo>
                    <a:pt x="112" y="498"/>
                  </a:lnTo>
                  <a:lnTo>
                    <a:pt x="97" y="498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21760" y="5006520"/>
              <a:ext cx="20520" cy="14040"/>
            </a:xfrm>
            <a:custGeom>
              <a:avLst/>
              <a:gdLst/>
              <a:ahLst/>
              <a:rect l="l" t="t" r="r" b="b"/>
              <a:pathLst>
                <a:path w="97" h="130">
                  <a:moveTo>
                    <a:pt x="97" y="130"/>
                  </a:moveTo>
                  <a:lnTo>
                    <a:pt x="0" y="64"/>
                  </a:lnTo>
                  <a:lnTo>
                    <a:pt x="0" y="0"/>
                  </a:lnTo>
                  <a:lnTo>
                    <a:pt x="97" y="13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92360" y="4740840"/>
              <a:ext cx="944280" cy="270720"/>
            </a:xfrm>
            <a:custGeom>
              <a:avLst/>
              <a:gdLst/>
              <a:ahLst/>
              <a:rect l="l" t="t" r="r" b="b"/>
              <a:pathLst>
                <a:path w="4521" h="2413">
                  <a:moveTo>
                    <a:pt x="1480" y="2397"/>
                  </a:moveTo>
                  <a:lnTo>
                    <a:pt x="1449" y="2364"/>
                  </a:lnTo>
                  <a:lnTo>
                    <a:pt x="1431" y="2316"/>
                  </a:lnTo>
                  <a:lnTo>
                    <a:pt x="1431" y="2252"/>
                  </a:lnTo>
                  <a:lnTo>
                    <a:pt x="1416" y="2236"/>
                  </a:lnTo>
                  <a:lnTo>
                    <a:pt x="1352" y="2333"/>
                  </a:lnTo>
                  <a:lnTo>
                    <a:pt x="1270" y="2252"/>
                  </a:lnTo>
                  <a:lnTo>
                    <a:pt x="1206" y="2124"/>
                  </a:lnTo>
                  <a:lnTo>
                    <a:pt x="1175" y="2188"/>
                  </a:lnTo>
                  <a:lnTo>
                    <a:pt x="1175" y="2252"/>
                  </a:lnTo>
                  <a:lnTo>
                    <a:pt x="1045" y="2172"/>
                  </a:lnTo>
                  <a:lnTo>
                    <a:pt x="1035" y="2158"/>
                  </a:lnTo>
                  <a:lnTo>
                    <a:pt x="1030" y="2147"/>
                  </a:lnTo>
                  <a:lnTo>
                    <a:pt x="1024" y="2135"/>
                  </a:lnTo>
                  <a:lnTo>
                    <a:pt x="1020" y="2124"/>
                  </a:lnTo>
                  <a:lnTo>
                    <a:pt x="1012" y="2102"/>
                  </a:lnTo>
                  <a:lnTo>
                    <a:pt x="1012" y="2083"/>
                  </a:lnTo>
                  <a:lnTo>
                    <a:pt x="1010" y="2071"/>
                  </a:lnTo>
                  <a:lnTo>
                    <a:pt x="1010" y="2060"/>
                  </a:lnTo>
                  <a:lnTo>
                    <a:pt x="1010" y="2048"/>
                  </a:lnTo>
                  <a:lnTo>
                    <a:pt x="1012" y="2038"/>
                  </a:lnTo>
                  <a:lnTo>
                    <a:pt x="1012" y="2027"/>
                  </a:lnTo>
                  <a:lnTo>
                    <a:pt x="1012" y="2015"/>
                  </a:lnTo>
                  <a:lnTo>
                    <a:pt x="1012" y="2003"/>
                  </a:lnTo>
                  <a:lnTo>
                    <a:pt x="1014" y="1994"/>
                  </a:lnTo>
                  <a:lnTo>
                    <a:pt x="999" y="1978"/>
                  </a:lnTo>
                  <a:lnTo>
                    <a:pt x="981" y="2011"/>
                  </a:lnTo>
                  <a:lnTo>
                    <a:pt x="981" y="2060"/>
                  </a:lnTo>
                  <a:lnTo>
                    <a:pt x="950" y="2106"/>
                  </a:lnTo>
                  <a:lnTo>
                    <a:pt x="884" y="2060"/>
                  </a:lnTo>
                  <a:lnTo>
                    <a:pt x="869" y="1914"/>
                  </a:lnTo>
                  <a:lnTo>
                    <a:pt x="853" y="1947"/>
                  </a:lnTo>
                  <a:lnTo>
                    <a:pt x="789" y="1994"/>
                  </a:lnTo>
                  <a:lnTo>
                    <a:pt x="789" y="1963"/>
                  </a:lnTo>
                  <a:lnTo>
                    <a:pt x="756" y="1914"/>
                  </a:lnTo>
                  <a:lnTo>
                    <a:pt x="708" y="1978"/>
                  </a:lnTo>
                  <a:lnTo>
                    <a:pt x="659" y="1978"/>
                  </a:lnTo>
                  <a:lnTo>
                    <a:pt x="659" y="1947"/>
                  </a:lnTo>
                  <a:lnTo>
                    <a:pt x="659" y="1769"/>
                  </a:lnTo>
                  <a:lnTo>
                    <a:pt x="580" y="1833"/>
                  </a:lnTo>
                  <a:lnTo>
                    <a:pt x="498" y="1769"/>
                  </a:lnTo>
                  <a:lnTo>
                    <a:pt x="498" y="1738"/>
                  </a:lnTo>
                  <a:lnTo>
                    <a:pt x="516" y="1561"/>
                  </a:lnTo>
                  <a:lnTo>
                    <a:pt x="498" y="1561"/>
                  </a:lnTo>
                  <a:lnTo>
                    <a:pt x="452" y="1674"/>
                  </a:lnTo>
                  <a:lnTo>
                    <a:pt x="419" y="1705"/>
                  </a:lnTo>
                  <a:lnTo>
                    <a:pt x="403" y="1689"/>
                  </a:lnTo>
                  <a:lnTo>
                    <a:pt x="403" y="1464"/>
                  </a:lnTo>
                  <a:lnTo>
                    <a:pt x="370" y="1513"/>
                  </a:lnTo>
                  <a:lnTo>
                    <a:pt x="355" y="1656"/>
                  </a:lnTo>
                  <a:lnTo>
                    <a:pt x="322" y="1705"/>
                  </a:lnTo>
                  <a:lnTo>
                    <a:pt x="225" y="1592"/>
                  </a:lnTo>
                  <a:lnTo>
                    <a:pt x="225" y="1513"/>
                  </a:lnTo>
                  <a:lnTo>
                    <a:pt x="161" y="1513"/>
                  </a:lnTo>
                  <a:lnTo>
                    <a:pt x="81" y="1544"/>
                  </a:lnTo>
                  <a:lnTo>
                    <a:pt x="81" y="1383"/>
                  </a:lnTo>
                  <a:lnTo>
                    <a:pt x="130" y="1303"/>
                  </a:lnTo>
                  <a:lnTo>
                    <a:pt x="0" y="1303"/>
                  </a:lnTo>
                  <a:lnTo>
                    <a:pt x="97" y="1127"/>
                  </a:lnTo>
                  <a:lnTo>
                    <a:pt x="242" y="1094"/>
                  </a:lnTo>
                  <a:lnTo>
                    <a:pt x="194" y="1030"/>
                  </a:lnTo>
                  <a:lnTo>
                    <a:pt x="178" y="1014"/>
                  </a:lnTo>
                  <a:lnTo>
                    <a:pt x="161" y="966"/>
                  </a:lnTo>
                  <a:lnTo>
                    <a:pt x="161" y="917"/>
                  </a:lnTo>
                  <a:lnTo>
                    <a:pt x="178" y="917"/>
                  </a:lnTo>
                  <a:lnTo>
                    <a:pt x="322" y="933"/>
                  </a:lnTo>
                  <a:lnTo>
                    <a:pt x="337" y="900"/>
                  </a:lnTo>
                  <a:lnTo>
                    <a:pt x="273" y="772"/>
                  </a:lnTo>
                  <a:lnTo>
                    <a:pt x="273" y="741"/>
                  </a:lnTo>
                  <a:lnTo>
                    <a:pt x="291" y="741"/>
                  </a:lnTo>
                  <a:lnTo>
                    <a:pt x="419" y="756"/>
                  </a:lnTo>
                  <a:lnTo>
                    <a:pt x="419" y="741"/>
                  </a:lnTo>
                  <a:lnTo>
                    <a:pt x="403" y="723"/>
                  </a:lnTo>
                  <a:lnTo>
                    <a:pt x="370" y="692"/>
                  </a:lnTo>
                  <a:lnTo>
                    <a:pt x="337" y="628"/>
                  </a:lnTo>
                  <a:lnTo>
                    <a:pt x="351" y="622"/>
                  </a:lnTo>
                  <a:lnTo>
                    <a:pt x="364" y="621"/>
                  </a:lnTo>
                  <a:lnTo>
                    <a:pt x="378" y="621"/>
                  </a:lnTo>
                  <a:lnTo>
                    <a:pt x="394" y="621"/>
                  </a:lnTo>
                  <a:lnTo>
                    <a:pt x="407" y="621"/>
                  </a:lnTo>
                  <a:lnTo>
                    <a:pt x="421" y="621"/>
                  </a:lnTo>
                  <a:lnTo>
                    <a:pt x="434" y="622"/>
                  </a:lnTo>
                  <a:lnTo>
                    <a:pt x="448" y="626"/>
                  </a:lnTo>
                  <a:lnTo>
                    <a:pt x="459" y="628"/>
                  </a:lnTo>
                  <a:lnTo>
                    <a:pt x="471" y="632"/>
                  </a:lnTo>
                  <a:lnTo>
                    <a:pt x="483" y="638"/>
                  </a:lnTo>
                  <a:lnTo>
                    <a:pt x="496" y="644"/>
                  </a:lnTo>
                  <a:lnTo>
                    <a:pt x="508" y="650"/>
                  </a:lnTo>
                  <a:lnTo>
                    <a:pt x="522" y="657"/>
                  </a:lnTo>
                  <a:lnTo>
                    <a:pt x="533" y="665"/>
                  </a:lnTo>
                  <a:lnTo>
                    <a:pt x="547" y="675"/>
                  </a:lnTo>
                  <a:lnTo>
                    <a:pt x="564" y="723"/>
                  </a:lnTo>
                  <a:lnTo>
                    <a:pt x="595" y="723"/>
                  </a:lnTo>
                  <a:lnTo>
                    <a:pt x="580" y="675"/>
                  </a:lnTo>
                  <a:lnTo>
                    <a:pt x="580" y="628"/>
                  </a:lnTo>
                  <a:lnTo>
                    <a:pt x="564" y="611"/>
                  </a:lnTo>
                  <a:lnTo>
                    <a:pt x="547" y="595"/>
                  </a:lnTo>
                  <a:lnTo>
                    <a:pt x="564" y="562"/>
                  </a:lnTo>
                  <a:lnTo>
                    <a:pt x="756" y="580"/>
                  </a:lnTo>
                  <a:lnTo>
                    <a:pt x="756" y="547"/>
                  </a:lnTo>
                  <a:lnTo>
                    <a:pt x="677" y="467"/>
                  </a:lnTo>
                  <a:lnTo>
                    <a:pt x="708" y="419"/>
                  </a:lnTo>
                  <a:lnTo>
                    <a:pt x="756" y="419"/>
                  </a:lnTo>
                  <a:lnTo>
                    <a:pt x="902" y="450"/>
                  </a:lnTo>
                  <a:lnTo>
                    <a:pt x="1014" y="547"/>
                  </a:lnTo>
                  <a:lnTo>
                    <a:pt x="1063" y="337"/>
                  </a:lnTo>
                  <a:lnTo>
                    <a:pt x="1094" y="450"/>
                  </a:lnTo>
                  <a:lnTo>
                    <a:pt x="1111" y="450"/>
                  </a:lnTo>
                  <a:lnTo>
                    <a:pt x="1111" y="386"/>
                  </a:lnTo>
                  <a:lnTo>
                    <a:pt x="1191" y="450"/>
                  </a:lnTo>
                  <a:lnTo>
                    <a:pt x="1206" y="498"/>
                  </a:lnTo>
                  <a:lnTo>
                    <a:pt x="1336" y="258"/>
                  </a:lnTo>
                  <a:lnTo>
                    <a:pt x="1344" y="269"/>
                  </a:lnTo>
                  <a:lnTo>
                    <a:pt x="1352" y="281"/>
                  </a:lnTo>
                  <a:lnTo>
                    <a:pt x="1357" y="293"/>
                  </a:lnTo>
                  <a:lnTo>
                    <a:pt x="1365" y="304"/>
                  </a:lnTo>
                  <a:lnTo>
                    <a:pt x="1369" y="316"/>
                  </a:lnTo>
                  <a:lnTo>
                    <a:pt x="1375" y="328"/>
                  </a:lnTo>
                  <a:lnTo>
                    <a:pt x="1381" y="339"/>
                  </a:lnTo>
                  <a:lnTo>
                    <a:pt x="1386" y="353"/>
                  </a:lnTo>
                  <a:lnTo>
                    <a:pt x="1390" y="365"/>
                  </a:lnTo>
                  <a:lnTo>
                    <a:pt x="1394" y="376"/>
                  </a:lnTo>
                  <a:lnTo>
                    <a:pt x="1398" y="388"/>
                  </a:lnTo>
                  <a:lnTo>
                    <a:pt x="1402" y="401"/>
                  </a:lnTo>
                  <a:lnTo>
                    <a:pt x="1404" y="413"/>
                  </a:lnTo>
                  <a:lnTo>
                    <a:pt x="1408" y="425"/>
                  </a:lnTo>
                  <a:lnTo>
                    <a:pt x="1412" y="436"/>
                  </a:lnTo>
                  <a:lnTo>
                    <a:pt x="1416" y="450"/>
                  </a:lnTo>
                  <a:lnTo>
                    <a:pt x="1431" y="434"/>
                  </a:lnTo>
                  <a:lnTo>
                    <a:pt x="1674" y="434"/>
                  </a:lnTo>
                  <a:lnTo>
                    <a:pt x="1753" y="273"/>
                  </a:lnTo>
                  <a:lnTo>
                    <a:pt x="1817" y="306"/>
                  </a:lnTo>
                  <a:lnTo>
                    <a:pt x="1850" y="337"/>
                  </a:lnTo>
                  <a:lnTo>
                    <a:pt x="1866" y="355"/>
                  </a:lnTo>
                  <a:lnTo>
                    <a:pt x="1898" y="355"/>
                  </a:lnTo>
                  <a:lnTo>
                    <a:pt x="1914" y="322"/>
                  </a:lnTo>
                  <a:lnTo>
                    <a:pt x="1978" y="306"/>
                  </a:lnTo>
                  <a:lnTo>
                    <a:pt x="1930" y="194"/>
                  </a:lnTo>
                  <a:lnTo>
                    <a:pt x="2059" y="176"/>
                  </a:lnTo>
                  <a:lnTo>
                    <a:pt x="2269" y="240"/>
                  </a:lnTo>
                  <a:lnTo>
                    <a:pt x="2300" y="145"/>
                  </a:lnTo>
                  <a:lnTo>
                    <a:pt x="2333" y="112"/>
                  </a:lnTo>
                  <a:lnTo>
                    <a:pt x="2364" y="97"/>
                  </a:lnTo>
                  <a:lnTo>
                    <a:pt x="2379" y="103"/>
                  </a:lnTo>
                  <a:lnTo>
                    <a:pt x="2393" y="116"/>
                  </a:lnTo>
                  <a:lnTo>
                    <a:pt x="2405" y="130"/>
                  </a:lnTo>
                  <a:lnTo>
                    <a:pt x="2416" y="147"/>
                  </a:lnTo>
                  <a:lnTo>
                    <a:pt x="2424" y="165"/>
                  </a:lnTo>
                  <a:lnTo>
                    <a:pt x="2432" y="186"/>
                  </a:lnTo>
                  <a:lnTo>
                    <a:pt x="2438" y="204"/>
                  </a:lnTo>
                  <a:lnTo>
                    <a:pt x="2445" y="225"/>
                  </a:lnTo>
                  <a:lnTo>
                    <a:pt x="2461" y="240"/>
                  </a:lnTo>
                  <a:lnTo>
                    <a:pt x="2476" y="258"/>
                  </a:lnTo>
                  <a:lnTo>
                    <a:pt x="2509" y="258"/>
                  </a:lnTo>
                  <a:lnTo>
                    <a:pt x="2573" y="225"/>
                  </a:lnTo>
                  <a:lnTo>
                    <a:pt x="2558" y="194"/>
                  </a:lnTo>
                  <a:lnTo>
                    <a:pt x="2525" y="128"/>
                  </a:lnTo>
                  <a:lnTo>
                    <a:pt x="2494" y="81"/>
                  </a:lnTo>
                  <a:lnTo>
                    <a:pt x="2637" y="64"/>
                  </a:lnTo>
                  <a:lnTo>
                    <a:pt x="2750" y="145"/>
                  </a:lnTo>
                  <a:lnTo>
                    <a:pt x="2783" y="112"/>
                  </a:lnTo>
                  <a:lnTo>
                    <a:pt x="2847" y="64"/>
                  </a:lnTo>
                  <a:lnTo>
                    <a:pt x="2911" y="0"/>
                  </a:lnTo>
                  <a:lnTo>
                    <a:pt x="2944" y="0"/>
                  </a:lnTo>
                  <a:lnTo>
                    <a:pt x="3008" y="0"/>
                  </a:lnTo>
                  <a:lnTo>
                    <a:pt x="2944" y="194"/>
                  </a:lnTo>
                  <a:lnTo>
                    <a:pt x="2992" y="209"/>
                  </a:lnTo>
                  <a:lnTo>
                    <a:pt x="3006" y="196"/>
                  </a:lnTo>
                  <a:lnTo>
                    <a:pt x="3021" y="184"/>
                  </a:lnTo>
                  <a:lnTo>
                    <a:pt x="3035" y="174"/>
                  </a:lnTo>
                  <a:lnTo>
                    <a:pt x="3050" y="167"/>
                  </a:lnTo>
                  <a:lnTo>
                    <a:pt x="3066" y="155"/>
                  </a:lnTo>
                  <a:lnTo>
                    <a:pt x="3082" y="147"/>
                  </a:lnTo>
                  <a:lnTo>
                    <a:pt x="3097" y="141"/>
                  </a:lnTo>
                  <a:lnTo>
                    <a:pt x="3114" y="136"/>
                  </a:lnTo>
                  <a:lnTo>
                    <a:pt x="3130" y="130"/>
                  </a:lnTo>
                  <a:lnTo>
                    <a:pt x="3146" y="124"/>
                  </a:lnTo>
                  <a:lnTo>
                    <a:pt x="3161" y="120"/>
                  </a:lnTo>
                  <a:lnTo>
                    <a:pt x="3178" y="118"/>
                  </a:lnTo>
                  <a:lnTo>
                    <a:pt x="3196" y="114"/>
                  </a:lnTo>
                  <a:lnTo>
                    <a:pt x="3213" y="112"/>
                  </a:lnTo>
                  <a:lnTo>
                    <a:pt x="3231" y="112"/>
                  </a:lnTo>
                  <a:lnTo>
                    <a:pt x="3250" y="112"/>
                  </a:lnTo>
                  <a:lnTo>
                    <a:pt x="3217" y="240"/>
                  </a:lnTo>
                  <a:lnTo>
                    <a:pt x="3184" y="273"/>
                  </a:lnTo>
                  <a:lnTo>
                    <a:pt x="3281" y="194"/>
                  </a:lnTo>
                  <a:lnTo>
                    <a:pt x="3281" y="128"/>
                  </a:lnTo>
                  <a:lnTo>
                    <a:pt x="3314" y="81"/>
                  </a:lnTo>
                  <a:lnTo>
                    <a:pt x="3330" y="64"/>
                  </a:lnTo>
                  <a:lnTo>
                    <a:pt x="3345" y="64"/>
                  </a:lnTo>
                  <a:lnTo>
                    <a:pt x="3409" y="81"/>
                  </a:lnTo>
                  <a:lnTo>
                    <a:pt x="3409" y="161"/>
                  </a:lnTo>
                  <a:lnTo>
                    <a:pt x="3442" y="176"/>
                  </a:lnTo>
                  <a:lnTo>
                    <a:pt x="3456" y="163"/>
                  </a:lnTo>
                  <a:lnTo>
                    <a:pt x="3469" y="153"/>
                  </a:lnTo>
                  <a:lnTo>
                    <a:pt x="3483" y="141"/>
                  </a:lnTo>
                  <a:lnTo>
                    <a:pt x="3498" y="136"/>
                  </a:lnTo>
                  <a:lnTo>
                    <a:pt x="3512" y="128"/>
                  </a:lnTo>
                  <a:lnTo>
                    <a:pt x="3526" y="122"/>
                  </a:lnTo>
                  <a:lnTo>
                    <a:pt x="3539" y="116"/>
                  </a:lnTo>
                  <a:lnTo>
                    <a:pt x="3555" y="112"/>
                  </a:lnTo>
                  <a:lnTo>
                    <a:pt x="3566" y="107"/>
                  </a:lnTo>
                  <a:lnTo>
                    <a:pt x="3580" y="105"/>
                  </a:lnTo>
                  <a:lnTo>
                    <a:pt x="3594" y="101"/>
                  </a:lnTo>
                  <a:lnTo>
                    <a:pt x="3607" y="99"/>
                  </a:lnTo>
                  <a:lnTo>
                    <a:pt x="3621" y="97"/>
                  </a:lnTo>
                  <a:lnTo>
                    <a:pt x="3636" y="97"/>
                  </a:lnTo>
                  <a:lnTo>
                    <a:pt x="3650" y="97"/>
                  </a:lnTo>
                  <a:lnTo>
                    <a:pt x="3667" y="97"/>
                  </a:lnTo>
                  <a:lnTo>
                    <a:pt x="3700" y="112"/>
                  </a:lnTo>
                  <a:lnTo>
                    <a:pt x="3619" y="322"/>
                  </a:lnTo>
                  <a:lnTo>
                    <a:pt x="3630" y="308"/>
                  </a:lnTo>
                  <a:lnTo>
                    <a:pt x="3642" y="297"/>
                  </a:lnTo>
                  <a:lnTo>
                    <a:pt x="3654" y="285"/>
                  </a:lnTo>
                  <a:lnTo>
                    <a:pt x="3669" y="275"/>
                  </a:lnTo>
                  <a:lnTo>
                    <a:pt x="3681" y="264"/>
                  </a:lnTo>
                  <a:lnTo>
                    <a:pt x="3696" y="256"/>
                  </a:lnTo>
                  <a:lnTo>
                    <a:pt x="3710" y="246"/>
                  </a:lnTo>
                  <a:lnTo>
                    <a:pt x="3725" y="240"/>
                  </a:lnTo>
                  <a:lnTo>
                    <a:pt x="3737" y="233"/>
                  </a:lnTo>
                  <a:lnTo>
                    <a:pt x="3753" y="227"/>
                  </a:lnTo>
                  <a:lnTo>
                    <a:pt x="3766" y="221"/>
                  </a:lnTo>
                  <a:lnTo>
                    <a:pt x="3782" y="217"/>
                  </a:lnTo>
                  <a:lnTo>
                    <a:pt x="3795" y="211"/>
                  </a:lnTo>
                  <a:lnTo>
                    <a:pt x="3813" y="209"/>
                  </a:lnTo>
                  <a:lnTo>
                    <a:pt x="3826" y="209"/>
                  </a:lnTo>
                  <a:lnTo>
                    <a:pt x="3844" y="209"/>
                  </a:lnTo>
                  <a:lnTo>
                    <a:pt x="3956" y="209"/>
                  </a:lnTo>
                  <a:lnTo>
                    <a:pt x="3956" y="289"/>
                  </a:lnTo>
                  <a:lnTo>
                    <a:pt x="3925" y="370"/>
                  </a:lnTo>
                  <a:lnTo>
                    <a:pt x="3956" y="337"/>
                  </a:lnTo>
                  <a:lnTo>
                    <a:pt x="4199" y="289"/>
                  </a:lnTo>
                  <a:lnTo>
                    <a:pt x="4199" y="306"/>
                  </a:lnTo>
                  <a:lnTo>
                    <a:pt x="4199" y="337"/>
                  </a:lnTo>
                  <a:lnTo>
                    <a:pt x="4135" y="450"/>
                  </a:lnTo>
                  <a:lnTo>
                    <a:pt x="4342" y="450"/>
                  </a:lnTo>
                  <a:lnTo>
                    <a:pt x="4263" y="595"/>
                  </a:lnTo>
                  <a:lnTo>
                    <a:pt x="4408" y="659"/>
                  </a:lnTo>
                  <a:lnTo>
                    <a:pt x="4342" y="741"/>
                  </a:lnTo>
                  <a:lnTo>
                    <a:pt x="4296" y="756"/>
                  </a:lnTo>
                  <a:lnTo>
                    <a:pt x="4278" y="772"/>
                  </a:lnTo>
                  <a:lnTo>
                    <a:pt x="4311" y="772"/>
                  </a:lnTo>
                  <a:lnTo>
                    <a:pt x="4327" y="772"/>
                  </a:lnTo>
                  <a:lnTo>
                    <a:pt x="4375" y="772"/>
                  </a:lnTo>
                  <a:lnTo>
                    <a:pt x="4455" y="820"/>
                  </a:lnTo>
                  <a:lnTo>
                    <a:pt x="4503" y="900"/>
                  </a:lnTo>
                  <a:lnTo>
                    <a:pt x="4521" y="917"/>
                  </a:lnTo>
                  <a:lnTo>
                    <a:pt x="4455" y="966"/>
                  </a:lnTo>
                  <a:lnTo>
                    <a:pt x="4342" y="997"/>
                  </a:lnTo>
                  <a:lnTo>
                    <a:pt x="4296" y="1030"/>
                  </a:lnTo>
                  <a:lnTo>
                    <a:pt x="4408" y="1094"/>
                  </a:lnTo>
                  <a:lnTo>
                    <a:pt x="4408" y="1109"/>
                  </a:lnTo>
                  <a:lnTo>
                    <a:pt x="4408" y="1142"/>
                  </a:lnTo>
                  <a:lnTo>
                    <a:pt x="4342" y="1222"/>
                  </a:lnTo>
                  <a:lnTo>
                    <a:pt x="4327" y="1239"/>
                  </a:lnTo>
                  <a:lnTo>
                    <a:pt x="4263" y="1239"/>
                  </a:lnTo>
                  <a:lnTo>
                    <a:pt x="4150" y="1239"/>
                  </a:lnTo>
                  <a:lnTo>
                    <a:pt x="4135" y="1142"/>
                  </a:lnTo>
                  <a:lnTo>
                    <a:pt x="4038" y="1061"/>
                  </a:lnTo>
                  <a:lnTo>
                    <a:pt x="3974" y="1045"/>
                  </a:lnTo>
                  <a:lnTo>
                    <a:pt x="3956" y="1061"/>
                  </a:lnTo>
                  <a:lnTo>
                    <a:pt x="3989" y="1078"/>
                  </a:lnTo>
                  <a:lnTo>
                    <a:pt x="4102" y="1191"/>
                  </a:lnTo>
                  <a:lnTo>
                    <a:pt x="4117" y="1255"/>
                  </a:lnTo>
                  <a:lnTo>
                    <a:pt x="3877" y="1158"/>
                  </a:lnTo>
                  <a:lnTo>
                    <a:pt x="3877" y="1173"/>
                  </a:lnTo>
                  <a:lnTo>
                    <a:pt x="4022" y="1255"/>
                  </a:lnTo>
                  <a:lnTo>
                    <a:pt x="4069" y="1352"/>
                  </a:lnTo>
                  <a:lnTo>
                    <a:pt x="4069" y="1367"/>
                  </a:lnTo>
                  <a:lnTo>
                    <a:pt x="4053" y="1400"/>
                  </a:lnTo>
                  <a:lnTo>
                    <a:pt x="3925" y="1400"/>
                  </a:lnTo>
                  <a:lnTo>
                    <a:pt x="3892" y="1383"/>
                  </a:lnTo>
                  <a:lnTo>
                    <a:pt x="3780" y="1319"/>
                  </a:lnTo>
                  <a:lnTo>
                    <a:pt x="3780" y="1334"/>
                  </a:lnTo>
                  <a:lnTo>
                    <a:pt x="3828" y="1367"/>
                  </a:lnTo>
                  <a:lnTo>
                    <a:pt x="3910" y="1431"/>
                  </a:lnTo>
                  <a:lnTo>
                    <a:pt x="3925" y="1528"/>
                  </a:lnTo>
                  <a:lnTo>
                    <a:pt x="3861" y="1513"/>
                  </a:lnTo>
                  <a:lnTo>
                    <a:pt x="3716" y="1447"/>
                  </a:lnTo>
                  <a:lnTo>
                    <a:pt x="3764" y="1480"/>
                  </a:lnTo>
                  <a:lnTo>
                    <a:pt x="3844" y="1528"/>
                  </a:lnTo>
                  <a:lnTo>
                    <a:pt x="3861" y="1656"/>
                  </a:lnTo>
                  <a:lnTo>
                    <a:pt x="3716" y="1608"/>
                  </a:lnTo>
                  <a:lnTo>
                    <a:pt x="3764" y="1641"/>
                  </a:lnTo>
                  <a:lnTo>
                    <a:pt x="3731" y="1656"/>
                  </a:lnTo>
                  <a:lnTo>
                    <a:pt x="3700" y="1641"/>
                  </a:lnTo>
                  <a:lnTo>
                    <a:pt x="3667" y="1608"/>
                  </a:lnTo>
                  <a:lnTo>
                    <a:pt x="3555" y="1528"/>
                  </a:lnTo>
                  <a:lnTo>
                    <a:pt x="3667" y="1641"/>
                  </a:lnTo>
                  <a:lnTo>
                    <a:pt x="3667" y="1656"/>
                  </a:lnTo>
                  <a:lnTo>
                    <a:pt x="3700" y="1786"/>
                  </a:lnTo>
                  <a:lnTo>
                    <a:pt x="3619" y="1769"/>
                  </a:lnTo>
                  <a:lnTo>
                    <a:pt x="3570" y="1738"/>
                  </a:lnTo>
                  <a:lnTo>
                    <a:pt x="3555" y="1656"/>
                  </a:lnTo>
                  <a:lnTo>
                    <a:pt x="3555" y="1674"/>
                  </a:lnTo>
                  <a:lnTo>
                    <a:pt x="3491" y="1656"/>
                  </a:lnTo>
                  <a:lnTo>
                    <a:pt x="3555" y="1738"/>
                  </a:lnTo>
                  <a:lnTo>
                    <a:pt x="3555" y="1866"/>
                  </a:lnTo>
                  <a:lnTo>
                    <a:pt x="3458" y="1817"/>
                  </a:lnTo>
                  <a:lnTo>
                    <a:pt x="3442" y="1738"/>
                  </a:lnTo>
                  <a:lnTo>
                    <a:pt x="3442" y="1769"/>
                  </a:lnTo>
                  <a:lnTo>
                    <a:pt x="3378" y="1738"/>
                  </a:lnTo>
                  <a:lnTo>
                    <a:pt x="3378" y="1753"/>
                  </a:lnTo>
                  <a:lnTo>
                    <a:pt x="3442" y="1817"/>
                  </a:lnTo>
                  <a:lnTo>
                    <a:pt x="3442" y="1833"/>
                  </a:lnTo>
                  <a:lnTo>
                    <a:pt x="3442" y="1899"/>
                  </a:lnTo>
                  <a:lnTo>
                    <a:pt x="3345" y="1850"/>
                  </a:lnTo>
                  <a:lnTo>
                    <a:pt x="3345" y="1817"/>
                  </a:lnTo>
                  <a:lnTo>
                    <a:pt x="3314" y="1769"/>
                  </a:lnTo>
                  <a:lnTo>
                    <a:pt x="3281" y="1738"/>
                  </a:lnTo>
                  <a:lnTo>
                    <a:pt x="3233" y="1720"/>
                  </a:lnTo>
                  <a:lnTo>
                    <a:pt x="3250" y="1732"/>
                  </a:lnTo>
                  <a:lnTo>
                    <a:pt x="3268" y="1749"/>
                  </a:lnTo>
                  <a:lnTo>
                    <a:pt x="3283" y="1767"/>
                  </a:lnTo>
                  <a:lnTo>
                    <a:pt x="3299" y="1788"/>
                  </a:lnTo>
                  <a:lnTo>
                    <a:pt x="3303" y="1798"/>
                  </a:lnTo>
                  <a:lnTo>
                    <a:pt x="3308" y="1809"/>
                  </a:lnTo>
                  <a:lnTo>
                    <a:pt x="3314" y="1821"/>
                  </a:lnTo>
                  <a:lnTo>
                    <a:pt x="3320" y="1833"/>
                  </a:lnTo>
                  <a:lnTo>
                    <a:pt x="3322" y="1844"/>
                  </a:lnTo>
                  <a:lnTo>
                    <a:pt x="3326" y="1856"/>
                  </a:lnTo>
                  <a:lnTo>
                    <a:pt x="3328" y="1868"/>
                  </a:lnTo>
                  <a:lnTo>
                    <a:pt x="3330" y="1881"/>
                  </a:lnTo>
                  <a:lnTo>
                    <a:pt x="3153" y="1817"/>
                  </a:lnTo>
                  <a:lnTo>
                    <a:pt x="3153" y="1738"/>
                  </a:lnTo>
                  <a:lnTo>
                    <a:pt x="3120" y="1720"/>
                  </a:lnTo>
                  <a:lnTo>
                    <a:pt x="3120" y="1689"/>
                  </a:lnTo>
                  <a:lnTo>
                    <a:pt x="3120" y="1738"/>
                  </a:lnTo>
                  <a:lnTo>
                    <a:pt x="3120" y="1817"/>
                  </a:lnTo>
                  <a:lnTo>
                    <a:pt x="3105" y="1817"/>
                  </a:lnTo>
                  <a:lnTo>
                    <a:pt x="3008" y="1738"/>
                  </a:lnTo>
                  <a:lnTo>
                    <a:pt x="2977" y="1720"/>
                  </a:lnTo>
                  <a:lnTo>
                    <a:pt x="2977" y="1608"/>
                  </a:lnTo>
                  <a:lnTo>
                    <a:pt x="2944" y="1656"/>
                  </a:lnTo>
                  <a:lnTo>
                    <a:pt x="2911" y="1689"/>
                  </a:lnTo>
                  <a:lnTo>
                    <a:pt x="2880" y="1689"/>
                  </a:lnTo>
                  <a:lnTo>
                    <a:pt x="2880" y="1495"/>
                  </a:lnTo>
                  <a:lnTo>
                    <a:pt x="2862" y="1513"/>
                  </a:lnTo>
                  <a:lnTo>
                    <a:pt x="2816" y="1513"/>
                  </a:lnTo>
                  <a:lnTo>
                    <a:pt x="2719" y="1447"/>
                  </a:lnTo>
                  <a:lnTo>
                    <a:pt x="2719" y="1431"/>
                  </a:lnTo>
                  <a:lnTo>
                    <a:pt x="2719" y="1400"/>
                  </a:lnTo>
                  <a:lnTo>
                    <a:pt x="2703" y="1400"/>
                  </a:lnTo>
                  <a:lnTo>
                    <a:pt x="2686" y="1528"/>
                  </a:lnTo>
                  <a:lnTo>
                    <a:pt x="2606" y="1513"/>
                  </a:lnTo>
                  <a:lnTo>
                    <a:pt x="2558" y="1400"/>
                  </a:lnTo>
                  <a:lnTo>
                    <a:pt x="2542" y="1352"/>
                  </a:lnTo>
                  <a:lnTo>
                    <a:pt x="2476" y="1400"/>
                  </a:lnTo>
                  <a:lnTo>
                    <a:pt x="2445" y="1367"/>
                  </a:lnTo>
                  <a:lnTo>
                    <a:pt x="2430" y="1319"/>
                  </a:lnTo>
                  <a:lnTo>
                    <a:pt x="2348" y="1400"/>
                  </a:lnTo>
                  <a:lnTo>
                    <a:pt x="2284" y="1431"/>
                  </a:lnTo>
                  <a:lnTo>
                    <a:pt x="2220" y="1303"/>
                  </a:lnTo>
                  <a:lnTo>
                    <a:pt x="2220" y="1464"/>
                  </a:lnTo>
                  <a:lnTo>
                    <a:pt x="2203" y="1495"/>
                  </a:lnTo>
                  <a:lnTo>
                    <a:pt x="2156" y="1431"/>
                  </a:lnTo>
                  <a:lnTo>
                    <a:pt x="2139" y="1431"/>
                  </a:lnTo>
                  <a:lnTo>
                    <a:pt x="2156" y="1319"/>
                  </a:lnTo>
                  <a:lnTo>
                    <a:pt x="2139" y="1303"/>
                  </a:lnTo>
                  <a:lnTo>
                    <a:pt x="2123" y="1400"/>
                  </a:lnTo>
                  <a:lnTo>
                    <a:pt x="2090" y="1464"/>
                  </a:lnTo>
                  <a:lnTo>
                    <a:pt x="1978" y="1303"/>
                  </a:lnTo>
                  <a:lnTo>
                    <a:pt x="1962" y="1239"/>
                  </a:lnTo>
                  <a:lnTo>
                    <a:pt x="1947" y="1288"/>
                  </a:lnTo>
                  <a:lnTo>
                    <a:pt x="1883" y="1319"/>
                  </a:lnTo>
                  <a:lnTo>
                    <a:pt x="1850" y="1319"/>
                  </a:lnTo>
                  <a:lnTo>
                    <a:pt x="1770" y="1222"/>
                  </a:lnTo>
                  <a:lnTo>
                    <a:pt x="1753" y="1352"/>
                  </a:lnTo>
                  <a:lnTo>
                    <a:pt x="1674" y="1303"/>
                  </a:lnTo>
                  <a:lnTo>
                    <a:pt x="1674" y="1319"/>
                  </a:lnTo>
                  <a:lnTo>
                    <a:pt x="1674" y="1352"/>
                  </a:lnTo>
                  <a:lnTo>
                    <a:pt x="1641" y="1544"/>
                  </a:lnTo>
                  <a:lnTo>
                    <a:pt x="1561" y="1464"/>
                  </a:lnTo>
                  <a:lnTo>
                    <a:pt x="1561" y="1431"/>
                  </a:lnTo>
                  <a:lnTo>
                    <a:pt x="1544" y="1431"/>
                  </a:lnTo>
                  <a:lnTo>
                    <a:pt x="1542" y="1443"/>
                  </a:lnTo>
                  <a:lnTo>
                    <a:pt x="1542" y="1454"/>
                  </a:lnTo>
                  <a:lnTo>
                    <a:pt x="1542" y="1466"/>
                  </a:lnTo>
                  <a:lnTo>
                    <a:pt x="1542" y="1478"/>
                  </a:lnTo>
                  <a:lnTo>
                    <a:pt x="1540" y="1489"/>
                  </a:lnTo>
                  <a:lnTo>
                    <a:pt x="1538" y="1503"/>
                  </a:lnTo>
                  <a:lnTo>
                    <a:pt x="1536" y="1517"/>
                  </a:lnTo>
                  <a:lnTo>
                    <a:pt x="1534" y="1530"/>
                  </a:lnTo>
                  <a:lnTo>
                    <a:pt x="1530" y="1542"/>
                  </a:lnTo>
                  <a:lnTo>
                    <a:pt x="1526" y="1553"/>
                  </a:lnTo>
                  <a:lnTo>
                    <a:pt x="1520" y="1567"/>
                  </a:lnTo>
                  <a:lnTo>
                    <a:pt x="1514" y="1582"/>
                  </a:lnTo>
                  <a:lnTo>
                    <a:pt x="1507" y="1594"/>
                  </a:lnTo>
                  <a:lnTo>
                    <a:pt x="1499" y="1610"/>
                  </a:lnTo>
                  <a:lnTo>
                    <a:pt x="1489" y="1623"/>
                  </a:lnTo>
                  <a:lnTo>
                    <a:pt x="1480" y="1641"/>
                  </a:lnTo>
                  <a:lnTo>
                    <a:pt x="1416" y="1608"/>
                  </a:lnTo>
                  <a:lnTo>
                    <a:pt x="1416" y="1577"/>
                  </a:lnTo>
                  <a:lnTo>
                    <a:pt x="1416" y="1561"/>
                  </a:lnTo>
                  <a:lnTo>
                    <a:pt x="1416" y="1464"/>
                  </a:lnTo>
                  <a:lnTo>
                    <a:pt x="1385" y="1561"/>
                  </a:lnTo>
                  <a:lnTo>
                    <a:pt x="1385" y="1608"/>
                  </a:lnTo>
                  <a:lnTo>
                    <a:pt x="1431" y="1689"/>
                  </a:lnTo>
                  <a:lnTo>
                    <a:pt x="1449" y="1720"/>
                  </a:lnTo>
                  <a:lnTo>
                    <a:pt x="1528" y="1625"/>
                  </a:lnTo>
                  <a:lnTo>
                    <a:pt x="1577" y="1577"/>
                  </a:lnTo>
                  <a:lnTo>
                    <a:pt x="1658" y="1592"/>
                  </a:lnTo>
                  <a:lnTo>
                    <a:pt x="1662" y="1604"/>
                  </a:lnTo>
                  <a:lnTo>
                    <a:pt x="1668" y="1617"/>
                  </a:lnTo>
                  <a:lnTo>
                    <a:pt x="1674" y="1629"/>
                  </a:lnTo>
                  <a:lnTo>
                    <a:pt x="1679" y="1643"/>
                  </a:lnTo>
                  <a:lnTo>
                    <a:pt x="1683" y="1654"/>
                  </a:lnTo>
                  <a:lnTo>
                    <a:pt x="1687" y="1668"/>
                  </a:lnTo>
                  <a:lnTo>
                    <a:pt x="1691" y="1679"/>
                  </a:lnTo>
                  <a:lnTo>
                    <a:pt x="1697" y="1693"/>
                  </a:lnTo>
                  <a:lnTo>
                    <a:pt x="1699" y="1705"/>
                  </a:lnTo>
                  <a:lnTo>
                    <a:pt x="1705" y="1716"/>
                  </a:lnTo>
                  <a:lnTo>
                    <a:pt x="1706" y="1728"/>
                  </a:lnTo>
                  <a:lnTo>
                    <a:pt x="1712" y="1741"/>
                  </a:lnTo>
                  <a:lnTo>
                    <a:pt x="1714" y="1753"/>
                  </a:lnTo>
                  <a:lnTo>
                    <a:pt x="1718" y="1765"/>
                  </a:lnTo>
                  <a:lnTo>
                    <a:pt x="1720" y="1776"/>
                  </a:lnTo>
                  <a:lnTo>
                    <a:pt x="1724" y="1790"/>
                  </a:lnTo>
                  <a:lnTo>
                    <a:pt x="1724" y="1802"/>
                  </a:lnTo>
                  <a:lnTo>
                    <a:pt x="1726" y="1813"/>
                  </a:lnTo>
                  <a:lnTo>
                    <a:pt x="1728" y="1825"/>
                  </a:lnTo>
                  <a:lnTo>
                    <a:pt x="1730" y="1837"/>
                  </a:lnTo>
                  <a:lnTo>
                    <a:pt x="1730" y="1848"/>
                  </a:lnTo>
                  <a:lnTo>
                    <a:pt x="1732" y="1860"/>
                  </a:lnTo>
                  <a:lnTo>
                    <a:pt x="1732" y="1871"/>
                  </a:lnTo>
                  <a:lnTo>
                    <a:pt x="1734" y="1883"/>
                  </a:lnTo>
                  <a:lnTo>
                    <a:pt x="1732" y="1895"/>
                  </a:lnTo>
                  <a:lnTo>
                    <a:pt x="1732" y="1906"/>
                  </a:lnTo>
                  <a:lnTo>
                    <a:pt x="1730" y="1918"/>
                  </a:lnTo>
                  <a:lnTo>
                    <a:pt x="1730" y="1930"/>
                  </a:lnTo>
                  <a:lnTo>
                    <a:pt x="1728" y="1941"/>
                  </a:lnTo>
                  <a:lnTo>
                    <a:pt x="1726" y="1953"/>
                  </a:lnTo>
                  <a:lnTo>
                    <a:pt x="1724" y="1965"/>
                  </a:lnTo>
                  <a:lnTo>
                    <a:pt x="1722" y="1978"/>
                  </a:lnTo>
                  <a:lnTo>
                    <a:pt x="1625" y="1947"/>
                  </a:lnTo>
                  <a:lnTo>
                    <a:pt x="1610" y="1914"/>
                  </a:lnTo>
                  <a:lnTo>
                    <a:pt x="1610" y="1817"/>
                  </a:lnTo>
                  <a:lnTo>
                    <a:pt x="1610" y="1769"/>
                  </a:lnTo>
                  <a:lnTo>
                    <a:pt x="1592" y="1769"/>
                  </a:lnTo>
                  <a:lnTo>
                    <a:pt x="1577" y="1881"/>
                  </a:lnTo>
                  <a:lnTo>
                    <a:pt x="1513" y="1978"/>
                  </a:lnTo>
                  <a:lnTo>
                    <a:pt x="1480" y="1947"/>
                  </a:lnTo>
                  <a:lnTo>
                    <a:pt x="1431" y="1769"/>
                  </a:lnTo>
                  <a:lnTo>
                    <a:pt x="1416" y="1881"/>
                  </a:lnTo>
                  <a:lnTo>
                    <a:pt x="1431" y="1914"/>
                  </a:lnTo>
                  <a:lnTo>
                    <a:pt x="1385" y="1994"/>
                  </a:lnTo>
                  <a:lnTo>
                    <a:pt x="1319" y="1947"/>
                  </a:lnTo>
                  <a:lnTo>
                    <a:pt x="1303" y="1947"/>
                  </a:lnTo>
                  <a:lnTo>
                    <a:pt x="1303" y="1689"/>
                  </a:lnTo>
                  <a:lnTo>
                    <a:pt x="1288" y="1705"/>
                  </a:lnTo>
                  <a:lnTo>
                    <a:pt x="1288" y="1786"/>
                  </a:lnTo>
                  <a:lnTo>
                    <a:pt x="1255" y="1947"/>
                  </a:lnTo>
                  <a:lnTo>
                    <a:pt x="1158" y="1881"/>
                  </a:lnTo>
                  <a:lnTo>
                    <a:pt x="1142" y="1866"/>
                  </a:lnTo>
                  <a:lnTo>
                    <a:pt x="1142" y="1753"/>
                  </a:lnTo>
                  <a:lnTo>
                    <a:pt x="1094" y="1802"/>
                  </a:lnTo>
                  <a:lnTo>
                    <a:pt x="1094" y="1786"/>
                  </a:lnTo>
                  <a:lnTo>
                    <a:pt x="1078" y="1769"/>
                  </a:lnTo>
                  <a:lnTo>
                    <a:pt x="1094" y="1689"/>
                  </a:lnTo>
                  <a:lnTo>
                    <a:pt x="1078" y="1641"/>
                  </a:lnTo>
                  <a:lnTo>
                    <a:pt x="1063" y="1656"/>
                  </a:lnTo>
                  <a:lnTo>
                    <a:pt x="1045" y="1753"/>
                  </a:lnTo>
                  <a:lnTo>
                    <a:pt x="999" y="1817"/>
                  </a:lnTo>
                  <a:lnTo>
                    <a:pt x="979" y="1804"/>
                  </a:lnTo>
                  <a:lnTo>
                    <a:pt x="968" y="1790"/>
                  </a:lnTo>
                  <a:lnTo>
                    <a:pt x="954" y="1774"/>
                  </a:lnTo>
                  <a:lnTo>
                    <a:pt x="948" y="1761"/>
                  </a:lnTo>
                  <a:lnTo>
                    <a:pt x="940" y="1745"/>
                  </a:lnTo>
                  <a:lnTo>
                    <a:pt x="937" y="1730"/>
                  </a:lnTo>
                  <a:lnTo>
                    <a:pt x="935" y="1714"/>
                  </a:lnTo>
                  <a:lnTo>
                    <a:pt x="935" y="1701"/>
                  </a:lnTo>
                  <a:lnTo>
                    <a:pt x="933" y="1683"/>
                  </a:lnTo>
                  <a:lnTo>
                    <a:pt x="933" y="1666"/>
                  </a:lnTo>
                  <a:lnTo>
                    <a:pt x="933" y="1648"/>
                  </a:lnTo>
                  <a:lnTo>
                    <a:pt x="935" y="1631"/>
                  </a:lnTo>
                  <a:lnTo>
                    <a:pt x="935" y="1613"/>
                  </a:lnTo>
                  <a:lnTo>
                    <a:pt x="935" y="1596"/>
                  </a:lnTo>
                  <a:lnTo>
                    <a:pt x="933" y="1579"/>
                  </a:lnTo>
                  <a:lnTo>
                    <a:pt x="933" y="1561"/>
                  </a:lnTo>
                  <a:lnTo>
                    <a:pt x="917" y="1544"/>
                  </a:lnTo>
                  <a:lnTo>
                    <a:pt x="917" y="1641"/>
                  </a:lnTo>
                  <a:lnTo>
                    <a:pt x="869" y="1738"/>
                  </a:lnTo>
                  <a:lnTo>
                    <a:pt x="838" y="1720"/>
                  </a:lnTo>
                  <a:lnTo>
                    <a:pt x="838" y="1464"/>
                  </a:lnTo>
                  <a:lnTo>
                    <a:pt x="820" y="1447"/>
                  </a:lnTo>
                  <a:lnTo>
                    <a:pt x="741" y="1625"/>
                  </a:lnTo>
                  <a:lnTo>
                    <a:pt x="677" y="1656"/>
                  </a:lnTo>
                  <a:lnTo>
                    <a:pt x="741" y="1464"/>
                  </a:lnTo>
                  <a:lnTo>
                    <a:pt x="725" y="1431"/>
                  </a:lnTo>
                  <a:lnTo>
                    <a:pt x="708" y="1431"/>
                  </a:lnTo>
                  <a:lnTo>
                    <a:pt x="696" y="1447"/>
                  </a:lnTo>
                  <a:lnTo>
                    <a:pt x="690" y="1464"/>
                  </a:lnTo>
                  <a:lnTo>
                    <a:pt x="683" y="1482"/>
                  </a:lnTo>
                  <a:lnTo>
                    <a:pt x="679" y="1499"/>
                  </a:lnTo>
                  <a:lnTo>
                    <a:pt x="673" y="1515"/>
                  </a:lnTo>
                  <a:lnTo>
                    <a:pt x="669" y="1532"/>
                  </a:lnTo>
                  <a:lnTo>
                    <a:pt x="665" y="1548"/>
                  </a:lnTo>
                  <a:lnTo>
                    <a:pt x="665" y="1565"/>
                  </a:lnTo>
                  <a:lnTo>
                    <a:pt x="661" y="1579"/>
                  </a:lnTo>
                  <a:lnTo>
                    <a:pt x="659" y="1596"/>
                  </a:lnTo>
                  <a:lnTo>
                    <a:pt x="659" y="1610"/>
                  </a:lnTo>
                  <a:lnTo>
                    <a:pt x="659" y="1627"/>
                  </a:lnTo>
                  <a:lnTo>
                    <a:pt x="659" y="1641"/>
                  </a:lnTo>
                  <a:lnTo>
                    <a:pt x="659" y="1658"/>
                  </a:lnTo>
                  <a:lnTo>
                    <a:pt x="659" y="1672"/>
                  </a:lnTo>
                  <a:lnTo>
                    <a:pt x="659" y="1689"/>
                  </a:lnTo>
                  <a:lnTo>
                    <a:pt x="708" y="1689"/>
                  </a:lnTo>
                  <a:lnTo>
                    <a:pt x="756" y="1656"/>
                  </a:lnTo>
                  <a:lnTo>
                    <a:pt x="805" y="1753"/>
                  </a:lnTo>
                  <a:lnTo>
                    <a:pt x="805" y="1769"/>
                  </a:lnTo>
                  <a:lnTo>
                    <a:pt x="838" y="1786"/>
                  </a:lnTo>
                  <a:lnTo>
                    <a:pt x="869" y="1786"/>
                  </a:lnTo>
                  <a:lnTo>
                    <a:pt x="869" y="1769"/>
                  </a:lnTo>
                  <a:lnTo>
                    <a:pt x="933" y="1833"/>
                  </a:lnTo>
                  <a:lnTo>
                    <a:pt x="981" y="1881"/>
                  </a:lnTo>
                  <a:lnTo>
                    <a:pt x="1030" y="1866"/>
                  </a:lnTo>
                  <a:lnTo>
                    <a:pt x="1063" y="1833"/>
                  </a:lnTo>
                  <a:lnTo>
                    <a:pt x="1078" y="1866"/>
                  </a:lnTo>
                  <a:lnTo>
                    <a:pt x="1239" y="1978"/>
                  </a:lnTo>
                  <a:lnTo>
                    <a:pt x="1288" y="1963"/>
                  </a:lnTo>
                  <a:lnTo>
                    <a:pt x="1497" y="2203"/>
                  </a:lnTo>
                  <a:lnTo>
                    <a:pt x="1513" y="2236"/>
                  </a:lnTo>
                  <a:lnTo>
                    <a:pt x="1561" y="2316"/>
                  </a:lnTo>
                  <a:lnTo>
                    <a:pt x="1497" y="2413"/>
                  </a:lnTo>
                  <a:lnTo>
                    <a:pt x="1480" y="2397"/>
                  </a:lnTo>
                  <a:close/>
                </a:path>
              </a:pathLst>
            </a:custGeom>
            <a:solidFill>
              <a:srgbClr val="3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95840" y="4959360"/>
              <a:ext cx="38520" cy="3384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161" y="305"/>
                  </a:moveTo>
                  <a:lnTo>
                    <a:pt x="79" y="177"/>
                  </a:lnTo>
                  <a:lnTo>
                    <a:pt x="0" y="95"/>
                  </a:lnTo>
                  <a:lnTo>
                    <a:pt x="15" y="47"/>
                  </a:lnTo>
                  <a:lnTo>
                    <a:pt x="31" y="64"/>
                  </a:lnTo>
                  <a:lnTo>
                    <a:pt x="48" y="95"/>
                  </a:lnTo>
                  <a:lnTo>
                    <a:pt x="64" y="95"/>
                  </a:lnTo>
                  <a:lnTo>
                    <a:pt x="143" y="0"/>
                  </a:lnTo>
                  <a:lnTo>
                    <a:pt x="192" y="47"/>
                  </a:lnTo>
                  <a:lnTo>
                    <a:pt x="192" y="128"/>
                  </a:lnTo>
                  <a:lnTo>
                    <a:pt x="176" y="305"/>
                  </a:lnTo>
                  <a:lnTo>
                    <a:pt x="161" y="305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78800" y="4954320"/>
              <a:ext cx="23760" cy="23040"/>
            </a:xfrm>
            <a:custGeom>
              <a:avLst/>
              <a:gdLst/>
              <a:ahLst/>
              <a:rect l="l" t="t" r="r" b="b"/>
              <a:pathLst>
                <a:path w="112" h="207">
                  <a:moveTo>
                    <a:pt x="64" y="207"/>
                  </a:moveTo>
                  <a:lnTo>
                    <a:pt x="15" y="143"/>
                  </a:lnTo>
                  <a:lnTo>
                    <a:pt x="0" y="0"/>
                  </a:lnTo>
                  <a:lnTo>
                    <a:pt x="79" y="128"/>
                  </a:lnTo>
                  <a:lnTo>
                    <a:pt x="112" y="176"/>
                  </a:lnTo>
                  <a:lnTo>
                    <a:pt x="64" y="207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43520" y="4912200"/>
              <a:ext cx="50040" cy="57960"/>
            </a:xfrm>
            <a:custGeom>
              <a:avLst/>
              <a:gdLst/>
              <a:ahLst/>
              <a:rect l="l" t="t" r="r" b="b"/>
              <a:pathLst>
                <a:path w="243" h="514">
                  <a:moveTo>
                    <a:pt x="0" y="514"/>
                  </a:moveTo>
                  <a:lnTo>
                    <a:pt x="113" y="0"/>
                  </a:lnTo>
                  <a:lnTo>
                    <a:pt x="194" y="33"/>
                  </a:lnTo>
                  <a:lnTo>
                    <a:pt x="210" y="177"/>
                  </a:lnTo>
                  <a:lnTo>
                    <a:pt x="225" y="210"/>
                  </a:lnTo>
                  <a:lnTo>
                    <a:pt x="243" y="210"/>
                  </a:lnTo>
                  <a:lnTo>
                    <a:pt x="210" y="274"/>
                  </a:lnTo>
                  <a:lnTo>
                    <a:pt x="0" y="514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9960" y="4941360"/>
              <a:ext cx="16560" cy="28800"/>
            </a:xfrm>
            <a:custGeom>
              <a:avLst/>
              <a:gdLst/>
              <a:ahLst/>
              <a:rect l="l" t="t" r="r" b="b"/>
              <a:pathLst>
                <a:path w="82" h="256">
                  <a:moveTo>
                    <a:pt x="82" y="241"/>
                  </a:moveTo>
                  <a:lnTo>
                    <a:pt x="33" y="177"/>
                  </a:lnTo>
                  <a:lnTo>
                    <a:pt x="0" y="95"/>
                  </a:lnTo>
                  <a:lnTo>
                    <a:pt x="18" y="0"/>
                  </a:lnTo>
                  <a:lnTo>
                    <a:pt x="49" y="113"/>
                  </a:lnTo>
                  <a:lnTo>
                    <a:pt x="82" y="177"/>
                  </a:lnTo>
                  <a:lnTo>
                    <a:pt x="82" y="256"/>
                  </a:lnTo>
                  <a:lnTo>
                    <a:pt x="82" y="241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64600" y="4891320"/>
              <a:ext cx="40680" cy="72360"/>
            </a:xfrm>
            <a:custGeom>
              <a:avLst/>
              <a:gdLst/>
              <a:ahLst/>
              <a:rect l="l" t="t" r="r" b="b"/>
              <a:pathLst>
                <a:path w="194" h="644">
                  <a:moveTo>
                    <a:pt x="64" y="644"/>
                  </a:moveTo>
                  <a:lnTo>
                    <a:pt x="31" y="499"/>
                  </a:lnTo>
                  <a:lnTo>
                    <a:pt x="0" y="452"/>
                  </a:lnTo>
                  <a:lnTo>
                    <a:pt x="80" y="97"/>
                  </a:lnTo>
                  <a:lnTo>
                    <a:pt x="80" y="33"/>
                  </a:lnTo>
                  <a:lnTo>
                    <a:pt x="97" y="0"/>
                  </a:lnTo>
                  <a:lnTo>
                    <a:pt x="105" y="16"/>
                  </a:lnTo>
                  <a:lnTo>
                    <a:pt x="114" y="33"/>
                  </a:lnTo>
                  <a:lnTo>
                    <a:pt x="122" y="49"/>
                  </a:lnTo>
                  <a:lnTo>
                    <a:pt x="132" y="66"/>
                  </a:lnTo>
                  <a:lnTo>
                    <a:pt x="140" y="80"/>
                  </a:lnTo>
                  <a:lnTo>
                    <a:pt x="149" y="95"/>
                  </a:lnTo>
                  <a:lnTo>
                    <a:pt x="157" y="111"/>
                  </a:lnTo>
                  <a:lnTo>
                    <a:pt x="167" y="126"/>
                  </a:lnTo>
                  <a:lnTo>
                    <a:pt x="173" y="140"/>
                  </a:lnTo>
                  <a:lnTo>
                    <a:pt x="178" y="153"/>
                  </a:lnTo>
                  <a:lnTo>
                    <a:pt x="184" y="167"/>
                  </a:lnTo>
                  <a:lnTo>
                    <a:pt x="190" y="183"/>
                  </a:lnTo>
                  <a:lnTo>
                    <a:pt x="192" y="196"/>
                  </a:lnTo>
                  <a:lnTo>
                    <a:pt x="194" y="212"/>
                  </a:lnTo>
                  <a:lnTo>
                    <a:pt x="192" y="225"/>
                  </a:lnTo>
                  <a:lnTo>
                    <a:pt x="192" y="243"/>
                  </a:lnTo>
                  <a:lnTo>
                    <a:pt x="97" y="644"/>
                  </a:lnTo>
                  <a:lnTo>
                    <a:pt x="64" y="644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99320" y="4937400"/>
              <a:ext cx="20520" cy="25920"/>
            </a:xfrm>
            <a:custGeom>
              <a:avLst/>
              <a:gdLst/>
              <a:ahLst/>
              <a:rect l="l" t="t" r="r" b="b"/>
              <a:pathLst>
                <a:path w="97" h="225">
                  <a:moveTo>
                    <a:pt x="66" y="225"/>
                  </a:moveTo>
                  <a:lnTo>
                    <a:pt x="0" y="16"/>
                  </a:lnTo>
                  <a:lnTo>
                    <a:pt x="33" y="0"/>
                  </a:lnTo>
                  <a:lnTo>
                    <a:pt x="33" y="16"/>
                  </a:lnTo>
                  <a:lnTo>
                    <a:pt x="66" y="146"/>
                  </a:lnTo>
                  <a:lnTo>
                    <a:pt x="97" y="194"/>
                  </a:lnTo>
                  <a:lnTo>
                    <a:pt x="66" y="225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14440" y="4941360"/>
              <a:ext cx="18360" cy="13680"/>
            </a:xfrm>
            <a:custGeom>
              <a:avLst/>
              <a:gdLst/>
              <a:ahLst/>
              <a:rect l="l" t="t" r="r" b="b"/>
              <a:pathLst>
                <a:path w="95" h="128">
                  <a:moveTo>
                    <a:pt x="46" y="128"/>
                  </a:moveTo>
                  <a:lnTo>
                    <a:pt x="0" y="0"/>
                  </a:lnTo>
                  <a:lnTo>
                    <a:pt x="95" y="80"/>
                  </a:lnTo>
                  <a:lnTo>
                    <a:pt x="46" y="128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15000" y="4898160"/>
              <a:ext cx="83520" cy="51840"/>
            </a:xfrm>
            <a:custGeom>
              <a:avLst/>
              <a:gdLst/>
              <a:ahLst/>
              <a:rect l="l" t="t" r="r" b="b"/>
              <a:pathLst>
                <a:path w="404" h="466">
                  <a:moveTo>
                    <a:pt x="177" y="466"/>
                  </a:moveTo>
                  <a:lnTo>
                    <a:pt x="161" y="466"/>
                  </a:lnTo>
                  <a:lnTo>
                    <a:pt x="0" y="95"/>
                  </a:lnTo>
                  <a:lnTo>
                    <a:pt x="33" y="113"/>
                  </a:lnTo>
                  <a:lnTo>
                    <a:pt x="82" y="113"/>
                  </a:lnTo>
                  <a:lnTo>
                    <a:pt x="130" y="128"/>
                  </a:lnTo>
                  <a:lnTo>
                    <a:pt x="194" y="128"/>
                  </a:lnTo>
                  <a:lnTo>
                    <a:pt x="225" y="64"/>
                  </a:lnTo>
                  <a:lnTo>
                    <a:pt x="291" y="47"/>
                  </a:lnTo>
                  <a:lnTo>
                    <a:pt x="322" y="31"/>
                  </a:lnTo>
                  <a:lnTo>
                    <a:pt x="386" y="0"/>
                  </a:lnTo>
                  <a:lnTo>
                    <a:pt x="404" y="64"/>
                  </a:lnTo>
                  <a:lnTo>
                    <a:pt x="177" y="466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44080" y="4887360"/>
              <a:ext cx="35280" cy="48960"/>
            </a:xfrm>
            <a:custGeom>
              <a:avLst/>
              <a:gdLst/>
              <a:ahLst/>
              <a:rect l="l" t="t" r="r" b="b"/>
              <a:pathLst>
                <a:path w="161" h="435">
                  <a:moveTo>
                    <a:pt x="81" y="435"/>
                  </a:moveTo>
                  <a:lnTo>
                    <a:pt x="33" y="322"/>
                  </a:lnTo>
                  <a:lnTo>
                    <a:pt x="33" y="274"/>
                  </a:lnTo>
                  <a:lnTo>
                    <a:pt x="16" y="241"/>
                  </a:lnTo>
                  <a:lnTo>
                    <a:pt x="0" y="225"/>
                  </a:lnTo>
                  <a:lnTo>
                    <a:pt x="0" y="64"/>
                  </a:lnTo>
                  <a:lnTo>
                    <a:pt x="64" y="80"/>
                  </a:lnTo>
                  <a:lnTo>
                    <a:pt x="81" y="0"/>
                  </a:lnTo>
                  <a:lnTo>
                    <a:pt x="161" y="49"/>
                  </a:lnTo>
                  <a:lnTo>
                    <a:pt x="128" y="353"/>
                  </a:lnTo>
                  <a:lnTo>
                    <a:pt x="81" y="435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92360" y="4684680"/>
              <a:ext cx="944280" cy="270720"/>
            </a:xfrm>
            <a:custGeom>
              <a:avLst/>
              <a:gdLst/>
              <a:ahLst/>
              <a:rect l="l" t="t" r="r" b="b"/>
              <a:pathLst>
                <a:path w="4521" h="2413">
                  <a:moveTo>
                    <a:pt x="1480" y="2397"/>
                  </a:moveTo>
                  <a:lnTo>
                    <a:pt x="1449" y="2364"/>
                  </a:lnTo>
                  <a:lnTo>
                    <a:pt x="1431" y="2316"/>
                  </a:lnTo>
                  <a:lnTo>
                    <a:pt x="1431" y="2252"/>
                  </a:lnTo>
                  <a:lnTo>
                    <a:pt x="1416" y="2236"/>
                  </a:lnTo>
                  <a:lnTo>
                    <a:pt x="1352" y="2333"/>
                  </a:lnTo>
                  <a:lnTo>
                    <a:pt x="1270" y="2252"/>
                  </a:lnTo>
                  <a:lnTo>
                    <a:pt x="1206" y="2124"/>
                  </a:lnTo>
                  <a:lnTo>
                    <a:pt x="1175" y="2188"/>
                  </a:lnTo>
                  <a:lnTo>
                    <a:pt x="1175" y="2252"/>
                  </a:lnTo>
                  <a:lnTo>
                    <a:pt x="1045" y="2172"/>
                  </a:lnTo>
                  <a:lnTo>
                    <a:pt x="1035" y="2158"/>
                  </a:lnTo>
                  <a:lnTo>
                    <a:pt x="1030" y="2147"/>
                  </a:lnTo>
                  <a:lnTo>
                    <a:pt x="1024" y="2135"/>
                  </a:lnTo>
                  <a:lnTo>
                    <a:pt x="1020" y="2124"/>
                  </a:lnTo>
                  <a:lnTo>
                    <a:pt x="1012" y="2102"/>
                  </a:lnTo>
                  <a:lnTo>
                    <a:pt x="1012" y="2083"/>
                  </a:lnTo>
                  <a:lnTo>
                    <a:pt x="1010" y="2071"/>
                  </a:lnTo>
                  <a:lnTo>
                    <a:pt x="1010" y="2060"/>
                  </a:lnTo>
                  <a:lnTo>
                    <a:pt x="1010" y="2048"/>
                  </a:lnTo>
                  <a:lnTo>
                    <a:pt x="1012" y="2038"/>
                  </a:lnTo>
                  <a:lnTo>
                    <a:pt x="1012" y="2027"/>
                  </a:lnTo>
                  <a:lnTo>
                    <a:pt x="1012" y="2015"/>
                  </a:lnTo>
                  <a:lnTo>
                    <a:pt x="1012" y="2003"/>
                  </a:lnTo>
                  <a:lnTo>
                    <a:pt x="1014" y="1994"/>
                  </a:lnTo>
                  <a:lnTo>
                    <a:pt x="999" y="1978"/>
                  </a:lnTo>
                  <a:lnTo>
                    <a:pt x="981" y="2011"/>
                  </a:lnTo>
                  <a:lnTo>
                    <a:pt x="981" y="2060"/>
                  </a:lnTo>
                  <a:lnTo>
                    <a:pt x="950" y="2106"/>
                  </a:lnTo>
                  <a:lnTo>
                    <a:pt x="884" y="2060"/>
                  </a:lnTo>
                  <a:lnTo>
                    <a:pt x="869" y="1914"/>
                  </a:lnTo>
                  <a:lnTo>
                    <a:pt x="853" y="1947"/>
                  </a:lnTo>
                  <a:lnTo>
                    <a:pt x="789" y="1994"/>
                  </a:lnTo>
                  <a:lnTo>
                    <a:pt x="789" y="1963"/>
                  </a:lnTo>
                  <a:lnTo>
                    <a:pt x="756" y="1914"/>
                  </a:lnTo>
                  <a:lnTo>
                    <a:pt x="708" y="1978"/>
                  </a:lnTo>
                  <a:lnTo>
                    <a:pt x="659" y="1978"/>
                  </a:lnTo>
                  <a:lnTo>
                    <a:pt x="659" y="1947"/>
                  </a:lnTo>
                  <a:lnTo>
                    <a:pt x="659" y="1769"/>
                  </a:lnTo>
                  <a:lnTo>
                    <a:pt x="580" y="1833"/>
                  </a:lnTo>
                  <a:lnTo>
                    <a:pt x="498" y="1769"/>
                  </a:lnTo>
                  <a:lnTo>
                    <a:pt x="498" y="1738"/>
                  </a:lnTo>
                  <a:lnTo>
                    <a:pt x="516" y="1561"/>
                  </a:lnTo>
                  <a:lnTo>
                    <a:pt x="498" y="1561"/>
                  </a:lnTo>
                  <a:lnTo>
                    <a:pt x="452" y="1674"/>
                  </a:lnTo>
                  <a:lnTo>
                    <a:pt x="419" y="1705"/>
                  </a:lnTo>
                  <a:lnTo>
                    <a:pt x="403" y="1689"/>
                  </a:lnTo>
                  <a:lnTo>
                    <a:pt x="403" y="1464"/>
                  </a:lnTo>
                  <a:lnTo>
                    <a:pt x="370" y="1513"/>
                  </a:lnTo>
                  <a:lnTo>
                    <a:pt x="355" y="1656"/>
                  </a:lnTo>
                  <a:lnTo>
                    <a:pt x="322" y="1705"/>
                  </a:lnTo>
                  <a:lnTo>
                    <a:pt x="225" y="1592"/>
                  </a:lnTo>
                  <a:lnTo>
                    <a:pt x="225" y="1513"/>
                  </a:lnTo>
                  <a:lnTo>
                    <a:pt x="161" y="1513"/>
                  </a:lnTo>
                  <a:lnTo>
                    <a:pt x="81" y="1544"/>
                  </a:lnTo>
                  <a:lnTo>
                    <a:pt x="81" y="1383"/>
                  </a:lnTo>
                  <a:lnTo>
                    <a:pt x="130" y="1303"/>
                  </a:lnTo>
                  <a:lnTo>
                    <a:pt x="0" y="1303"/>
                  </a:lnTo>
                  <a:lnTo>
                    <a:pt x="97" y="1127"/>
                  </a:lnTo>
                  <a:lnTo>
                    <a:pt x="242" y="1094"/>
                  </a:lnTo>
                  <a:lnTo>
                    <a:pt x="194" y="1030"/>
                  </a:lnTo>
                  <a:lnTo>
                    <a:pt x="178" y="1014"/>
                  </a:lnTo>
                  <a:lnTo>
                    <a:pt x="161" y="966"/>
                  </a:lnTo>
                  <a:lnTo>
                    <a:pt x="161" y="917"/>
                  </a:lnTo>
                  <a:lnTo>
                    <a:pt x="178" y="917"/>
                  </a:lnTo>
                  <a:lnTo>
                    <a:pt x="322" y="933"/>
                  </a:lnTo>
                  <a:lnTo>
                    <a:pt x="337" y="900"/>
                  </a:lnTo>
                  <a:lnTo>
                    <a:pt x="273" y="772"/>
                  </a:lnTo>
                  <a:lnTo>
                    <a:pt x="273" y="741"/>
                  </a:lnTo>
                  <a:lnTo>
                    <a:pt x="291" y="741"/>
                  </a:lnTo>
                  <a:lnTo>
                    <a:pt x="419" y="756"/>
                  </a:lnTo>
                  <a:lnTo>
                    <a:pt x="419" y="741"/>
                  </a:lnTo>
                  <a:lnTo>
                    <a:pt x="403" y="723"/>
                  </a:lnTo>
                  <a:lnTo>
                    <a:pt x="370" y="692"/>
                  </a:lnTo>
                  <a:lnTo>
                    <a:pt x="337" y="628"/>
                  </a:lnTo>
                  <a:lnTo>
                    <a:pt x="351" y="622"/>
                  </a:lnTo>
                  <a:lnTo>
                    <a:pt x="364" y="621"/>
                  </a:lnTo>
                  <a:lnTo>
                    <a:pt x="378" y="621"/>
                  </a:lnTo>
                  <a:lnTo>
                    <a:pt x="394" y="621"/>
                  </a:lnTo>
                  <a:lnTo>
                    <a:pt x="407" y="621"/>
                  </a:lnTo>
                  <a:lnTo>
                    <a:pt x="421" y="621"/>
                  </a:lnTo>
                  <a:lnTo>
                    <a:pt x="434" y="622"/>
                  </a:lnTo>
                  <a:lnTo>
                    <a:pt x="448" y="626"/>
                  </a:lnTo>
                  <a:lnTo>
                    <a:pt x="459" y="628"/>
                  </a:lnTo>
                  <a:lnTo>
                    <a:pt x="471" y="632"/>
                  </a:lnTo>
                  <a:lnTo>
                    <a:pt x="483" y="638"/>
                  </a:lnTo>
                  <a:lnTo>
                    <a:pt x="496" y="644"/>
                  </a:lnTo>
                  <a:lnTo>
                    <a:pt x="508" y="650"/>
                  </a:lnTo>
                  <a:lnTo>
                    <a:pt x="522" y="657"/>
                  </a:lnTo>
                  <a:lnTo>
                    <a:pt x="533" y="665"/>
                  </a:lnTo>
                  <a:lnTo>
                    <a:pt x="547" y="675"/>
                  </a:lnTo>
                  <a:lnTo>
                    <a:pt x="564" y="723"/>
                  </a:lnTo>
                  <a:lnTo>
                    <a:pt x="595" y="723"/>
                  </a:lnTo>
                  <a:lnTo>
                    <a:pt x="580" y="675"/>
                  </a:lnTo>
                  <a:lnTo>
                    <a:pt x="580" y="628"/>
                  </a:lnTo>
                  <a:lnTo>
                    <a:pt x="564" y="611"/>
                  </a:lnTo>
                  <a:lnTo>
                    <a:pt x="547" y="595"/>
                  </a:lnTo>
                  <a:lnTo>
                    <a:pt x="564" y="562"/>
                  </a:lnTo>
                  <a:lnTo>
                    <a:pt x="756" y="580"/>
                  </a:lnTo>
                  <a:lnTo>
                    <a:pt x="756" y="547"/>
                  </a:lnTo>
                  <a:lnTo>
                    <a:pt x="677" y="467"/>
                  </a:lnTo>
                  <a:lnTo>
                    <a:pt x="708" y="419"/>
                  </a:lnTo>
                  <a:lnTo>
                    <a:pt x="756" y="419"/>
                  </a:lnTo>
                  <a:lnTo>
                    <a:pt x="902" y="450"/>
                  </a:lnTo>
                  <a:lnTo>
                    <a:pt x="1014" y="547"/>
                  </a:lnTo>
                  <a:lnTo>
                    <a:pt x="1063" y="337"/>
                  </a:lnTo>
                  <a:lnTo>
                    <a:pt x="1094" y="450"/>
                  </a:lnTo>
                  <a:lnTo>
                    <a:pt x="1111" y="450"/>
                  </a:lnTo>
                  <a:lnTo>
                    <a:pt x="1111" y="386"/>
                  </a:lnTo>
                  <a:lnTo>
                    <a:pt x="1191" y="450"/>
                  </a:lnTo>
                  <a:lnTo>
                    <a:pt x="1206" y="498"/>
                  </a:lnTo>
                  <a:lnTo>
                    <a:pt x="1336" y="258"/>
                  </a:lnTo>
                  <a:lnTo>
                    <a:pt x="1344" y="269"/>
                  </a:lnTo>
                  <a:lnTo>
                    <a:pt x="1352" y="281"/>
                  </a:lnTo>
                  <a:lnTo>
                    <a:pt x="1357" y="293"/>
                  </a:lnTo>
                  <a:lnTo>
                    <a:pt x="1365" y="304"/>
                  </a:lnTo>
                  <a:lnTo>
                    <a:pt x="1369" y="316"/>
                  </a:lnTo>
                  <a:lnTo>
                    <a:pt x="1375" y="328"/>
                  </a:lnTo>
                  <a:lnTo>
                    <a:pt x="1381" y="339"/>
                  </a:lnTo>
                  <a:lnTo>
                    <a:pt x="1386" y="353"/>
                  </a:lnTo>
                  <a:lnTo>
                    <a:pt x="1390" y="365"/>
                  </a:lnTo>
                  <a:lnTo>
                    <a:pt x="1394" y="376"/>
                  </a:lnTo>
                  <a:lnTo>
                    <a:pt x="1398" y="388"/>
                  </a:lnTo>
                  <a:lnTo>
                    <a:pt x="1402" y="401"/>
                  </a:lnTo>
                  <a:lnTo>
                    <a:pt x="1404" y="413"/>
                  </a:lnTo>
                  <a:lnTo>
                    <a:pt x="1408" y="425"/>
                  </a:lnTo>
                  <a:lnTo>
                    <a:pt x="1412" y="436"/>
                  </a:lnTo>
                  <a:lnTo>
                    <a:pt x="1416" y="450"/>
                  </a:lnTo>
                  <a:lnTo>
                    <a:pt x="1431" y="434"/>
                  </a:lnTo>
                  <a:lnTo>
                    <a:pt x="1674" y="434"/>
                  </a:lnTo>
                  <a:lnTo>
                    <a:pt x="1753" y="273"/>
                  </a:lnTo>
                  <a:lnTo>
                    <a:pt x="1817" y="306"/>
                  </a:lnTo>
                  <a:lnTo>
                    <a:pt x="1850" y="337"/>
                  </a:lnTo>
                  <a:lnTo>
                    <a:pt x="1866" y="355"/>
                  </a:lnTo>
                  <a:lnTo>
                    <a:pt x="1898" y="355"/>
                  </a:lnTo>
                  <a:lnTo>
                    <a:pt x="1914" y="322"/>
                  </a:lnTo>
                  <a:lnTo>
                    <a:pt x="1978" y="306"/>
                  </a:lnTo>
                  <a:lnTo>
                    <a:pt x="1930" y="194"/>
                  </a:lnTo>
                  <a:lnTo>
                    <a:pt x="2059" y="176"/>
                  </a:lnTo>
                  <a:lnTo>
                    <a:pt x="2269" y="240"/>
                  </a:lnTo>
                  <a:lnTo>
                    <a:pt x="2300" y="145"/>
                  </a:lnTo>
                  <a:lnTo>
                    <a:pt x="2333" y="112"/>
                  </a:lnTo>
                  <a:lnTo>
                    <a:pt x="2364" y="97"/>
                  </a:lnTo>
                  <a:lnTo>
                    <a:pt x="2379" y="103"/>
                  </a:lnTo>
                  <a:lnTo>
                    <a:pt x="2393" y="116"/>
                  </a:lnTo>
                  <a:lnTo>
                    <a:pt x="2405" y="130"/>
                  </a:lnTo>
                  <a:lnTo>
                    <a:pt x="2416" y="147"/>
                  </a:lnTo>
                  <a:lnTo>
                    <a:pt x="2424" y="165"/>
                  </a:lnTo>
                  <a:lnTo>
                    <a:pt x="2432" y="186"/>
                  </a:lnTo>
                  <a:lnTo>
                    <a:pt x="2438" y="204"/>
                  </a:lnTo>
                  <a:lnTo>
                    <a:pt x="2445" y="225"/>
                  </a:lnTo>
                  <a:lnTo>
                    <a:pt x="2461" y="240"/>
                  </a:lnTo>
                  <a:lnTo>
                    <a:pt x="2476" y="258"/>
                  </a:lnTo>
                  <a:lnTo>
                    <a:pt x="2509" y="258"/>
                  </a:lnTo>
                  <a:lnTo>
                    <a:pt x="2573" y="225"/>
                  </a:lnTo>
                  <a:lnTo>
                    <a:pt x="2558" y="194"/>
                  </a:lnTo>
                  <a:lnTo>
                    <a:pt x="2525" y="128"/>
                  </a:lnTo>
                  <a:lnTo>
                    <a:pt x="2494" y="81"/>
                  </a:lnTo>
                  <a:lnTo>
                    <a:pt x="2637" y="64"/>
                  </a:lnTo>
                  <a:lnTo>
                    <a:pt x="2750" y="145"/>
                  </a:lnTo>
                  <a:lnTo>
                    <a:pt x="2783" y="112"/>
                  </a:lnTo>
                  <a:lnTo>
                    <a:pt x="2847" y="64"/>
                  </a:lnTo>
                  <a:lnTo>
                    <a:pt x="2911" y="0"/>
                  </a:lnTo>
                  <a:lnTo>
                    <a:pt x="2944" y="0"/>
                  </a:lnTo>
                  <a:lnTo>
                    <a:pt x="3008" y="0"/>
                  </a:lnTo>
                  <a:lnTo>
                    <a:pt x="2944" y="194"/>
                  </a:lnTo>
                  <a:lnTo>
                    <a:pt x="2992" y="209"/>
                  </a:lnTo>
                  <a:lnTo>
                    <a:pt x="3006" y="196"/>
                  </a:lnTo>
                  <a:lnTo>
                    <a:pt x="3021" y="184"/>
                  </a:lnTo>
                  <a:lnTo>
                    <a:pt x="3035" y="174"/>
                  </a:lnTo>
                  <a:lnTo>
                    <a:pt x="3050" y="167"/>
                  </a:lnTo>
                  <a:lnTo>
                    <a:pt x="3066" y="155"/>
                  </a:lnTo>
                  <a:lnTo>
                    <a:pt x="3082" y="147"/>
                  </a:lnTo>
                  <a:lnTo>
                    <a:pt x="3097" y="141"/>
                  </a:lnTo>
                  <a:lnTo>
                    <a:pt x="3114" y="136"/>
                  </a:lnTo>
                  <a:lnTo>
                    <a:pt x="3130" y="130"/>
                  </a:lnTo>
                  <a:lnTo>
                    <a:pt x="3146" y="124"/>
                  </a:lnTo>
                  <a:lnTo>
                    <a:pt x="3161" y="120"/>
                  </a:lnTo>
                  <a:lnTo>
                    <a:pt x="3178" y="118"/>
                  </a:lnTo>
                  <a:lnTo>
                    <a:pt x="3196" y="114"/>
                  </a:lnTo>
                  <a:lnTo>
                    <a:pt x="3213" y="112"/>
                  </a:lnTo>
                  <a:lnTo>
                    <a:pt x="3231" y="112"/>
                  </a:lnTo>
                  <a:lnTo>
                    <a:pt x="3250" y="112"/>
                  </a:lnTo>
                  <a:lnTo>
                    <a:pt x="3217" y="240"/>
                  </a:lnTo>
                  <a:lnTo>
                    <a:pt x="3184" y="273"/>
                  </a:lnTo>
                  <a:lnTo>
                    <a:pt x="3281" y="194"/>
                  </a:lnTo>
                  <a:lnTo>
                    <a:pt x="3281" y="128"/>
                  </a:lnTo>
                  <a:lnTo>
                    <a:pt x="3314" y="81"/>
                  </a:lnTo>
                  <a:lnTo>
                    <a:pt x="3330" y="64"/>
                  </a:lnTo>
                  <a:lnTo>
                    <a:pt x="3345" y="64"/>
                  </a:lnTo>
                  <a:lnTo>
                    <a:pt x="3409" y="81"/>
                  </a:lnTo>
                  <a:lnTo>
                    <a:pt x="3409" y="161"/>
                  </a:lnTo>
                  <a:lnTo>
                    <a:pt x="3442" y="176"/>
                  </a:lnTo>
                  <a:lnTo>
                    <a:pt x="3456" y="163"/>
                  </a:lnTo>
                  <a:lnTo>
                    <a:pt x="3469" y="153"/>
                  </a:lnTo>
                  <a:lnTo>
                    <a:pt x="3483" y="141"/>
                  </a:lnTo>
                  <a:lnTo>
                    <a:pt x="3498" y="136"/>
                  </a:lnTo>
                  <a:lnTo>
                    <a:pt x="3512" y="128"/>
                  </a:lnTo>
                  <a:lnTo>
                    <a:pt x="3526" y="122"/>
                  </a:lnTo>
                  <a:lnTo>
                    <a:pt x="3539" y="116"/>
                  </a:lnTo>
                  <a:lnTo>
                    <a:pt x="3555" y="112"/>
                  </a:lnTo>
                  <a:lnTo>
                    <a:pt x="3566" y="107"/>
                  </a:lnTo>
                  <a:lnTo>
                    <a:pt x="3580" y="105"/>
                  </a:lnTo>
                  <a:lnTo>
                    <a:pt x="3594" y="101"/>
                  </a:lnTo>
                  <a:lnTo>
                    <a:pt x="3607" y="99"/>
                  </a:lnTo>
                  <a:lnTo>
                    <a:pt x="3621" y="97"/>
                  </a:lnTo>
                  <a:lnTo>
                    <a:pt x="3636" y="97"/>
                  </a:lnTo>
                  <a:lnTo>
                    <a:pt x="3650" y="97"/>
                  </a:lnTo>
                  <a:lnTo>
                    <a:pt x="3667" y="97"/>
                  </a:lnTo>
                  <a:lnTo>
                    <a:pt x="3700" y="112"/>
                  </a:lnTo>
                  <a:lnTo>
                    <a:pt x="3619" y="322"/>
                  </a:lnTo>
                  <a:lnTo>
                    <a:pt x="3630" y="308"/>
                  </a:lnTo>
                  <a:lnTo>
                    <a:pt x="3642" y="297"/>
                  </a:lnTo>
                  <a:lnTo>
                    <a:pt x="3654" y="285"/>
                  </a:lnTo>
                  <a:lnTo>
                    <a:pt x="3669" y="275"/>
                  </a:lnTo>
                  <a:lnTo>
                    <a:pt x="3681" y="264"/>
                  </a:lnTo>
                  <a:lnTo>
                    <a:pt x="3696" y="256"/>
                  </a:lnTo>
                  <a:lnTo>
                    <a:pt x="3710" y="246"/>
                  </a:lnTo>
                  <a:lnTo>
                    <a:pt x="3725" y="240"/>
                  </a:lnTo>
                  <a:lnTo>
                    <a:pt x="3737" y="233"/>
                  </a:lnTo>
                  <a:lnTo>
                    <a:pt x="3753" y="227"/>
                  </a:lnTo>
                  <a:lnTo>
                    <a:pt x="3766" y="221"/>
                  </a:lnTo>
                  <a:lnTo>
                    <a:pt x="3782" y="217"/>
                  </a:lnTo>
                  <a:lnTo>
                    <a:pt x="3795" y="211"/>
                  </a:lnTo>
                  <a:lnTo>
                    <a:pt x="3813" y="209"/>
                  </a:lnTo>
                  <a:lnTo>
                    <a:pt x="3826" y="209"/>
                  </a:lnTo>
                  <a:lnTo>
                    <a:pt x="3844" y="209"/>
                  </a:lnTo>
                  <a:lnTo>
                    <a:pt x="3956" y="209"/>
                  </a:lnTo>
                  <a:lnTo>
                    <a:pt x="3956" y="289"/>
                  </a:lnTo>
                  <a:lnTo>
                    <a:pt x="3925" y="370"/>
                  </a:lnTo>
                  <a:lnTo>
                    <a:pt x="3956" y="337"/>
                  </a:lnTo>
                  <a:lnTo>
                    <a:pt x="4199" y="289"/>
                  </a:lnTo>
                  <a:lnTo>
                    <a:pt x="4199" y="306"/>
                  </a:lnTo>
                  <a:lnTo>
                    <a:pt x="4199" y="337"/>
                  </a:lnTo>
                  <a:lnTo>
                    <a:pt x="4135" y="450"/>
                  </a:lnTo>
                  <a:lnTo>
                    <a:pt x="4342" y="450"/>
                  </a:lnTo>
                  <a:lnTo>
                    <a:pt x="4263" y="595"/>
                  </a:lnTo>
                  <a:lnTo>
                    <a:pt x="4408" y="659"/>
                  </a:lnTo>
                  <a:lnTo>
                    <a:pt x="4342" y="741"/>
                  </a:lnTo>
                  <a:lnTo>
                    <a:pt x="4296" y="756"/>
                  </a:lnTo>
                  <a:lnTo>
                    <a:pt x="4278" y="772"/>
                  </a:lnTo>
                  <a:lnTo>
                    <a:pt x="4311" y="772"/>
                  </a:lnTo>
                  <a:lnTo>
                    <a:pt x="4327" y="772"/>
                  </a:lnTo>
                  <a:lnTo>
                    <a:pt x="4375" y="772"/>
                  </a:lnTo>
                  <a:lnTo>
                    <a:pt x="4455" y="820"/>
                  </a:lnTo>
                  <a:lnTo>
                    <a:pt x="4503" y="900"/>
                  </a:lnTo>
                  <a:lnTo>
                    <a:pt x="4521" y="917"/>
                  </a:lnTo>
                  <a:lnTo>
                    <a:pt x="4455" y="966"/>
                  </a:lnTo>
                  <a:lnTo>
                    <a:pt x="4342" y="997"/>
                  </a:lnTo>
                  <a:lnTo>
                    <a:pt x="4296" y="1030"/>
                  </a:lnTo>
                  <a:lnTo>
                    <a:pt x="4408" y="1094"/>
                  </a:lnTo>
                  <a:lnTo>
                    <a:pt x="4408" y="1109"/>
                  </a:lnTo>
                  <a:lnTo>
                    <a:pt x="4408" y="1142"/>
                  </a:lnTo>
                  <a:lnTo>
                    <a:pt x="4342" y="1222"/>
                  </a:lnTo>
                  <a:lnTo>
                    <a:pt x="4327" y="1239"/>
                  </a:lnTo>
                  <a:lnTo>
                    <a:pt x="4263" y="1239"/>
                  </a:lnTo>
                  <a:lnTo>
                    <a:pt x="4150" y="1239"/>
                  </a:lnTo>
                  <a:lnTo>
                    <a:pt x="4135" y="1142"/>
                  </a:lnTo>
                  <a:lnTo>
                    <a:pt x="4038" y="1061"/>
                  </a:lnTo>
                  <a:lnTo>
                    <a:pt x="3974" y="1045"/>
                  </a:lnTo>
                  <a:lnTo>
                    <a:pt x="3956" y="1061"/>
                  </a:lnTo>
                  <a:lnTo>
                    <a:pt x="3989" y="1078"/>
                  </a:lnTo>
                  <a:lnTo>
                    <a:pt x="4102" y="1191"/>
                  </a:lnTo>
                  <a:lnTo>
                    <a:pt x="4117" y="1255"/>
                  </a:lnTo>
                  <a:lnTo>
                    <a:pt x="3877" y="1158"/>
                  </a:lnTo>
                  <a:lnTo>
                    <a:pt x="3877" y="1173"/>
                  </a:lnTo>
                  <a:lnTo>
                    <a:pt x="4022" y="1255"/>
                  </a:lnTo>
                  <a:lnTo>
                    <a:pt x="4069" y="1352"/>
                  </a:lnTo>
                  <a:lnTo>
                    <a:pt x="4069" y="1367"/>
                  </a:lnTo>
                  <a:lnTo>
                    <a:pt x="4053" y="1400"/>
                  </a:lnTo>
                  <a:lnTo>
                    <a:pt x="3925" y="1400"/>
                  </a:lnTo>
                  <a:lnTo>
                    <a:pt x="3892" y="1383"/>
                  </a:lnTo>
                  <a:lnTo>
                    <a:pt x="3780" y="1319"/>
                  </a:lnTo>
                  <a:lnTo>
                    <a:pt x="3780" y="1334"/>
                  </a:lnTo>
                  <a:lnTo>
                    <a:pt x="3828" y="1367"/>
                  </a:lnTo>
                  <a:lnTo>
                    <a:pt x="3910" y="1431"/>
                  </a:lnTo>
                  <a:lnTo>
                    <a:pt x="3925" y="1528"/>
                  </a:lnTo>
                  <a:lnTo>
                    <a:pt x="3861" y="1513"/>
                  </a:lnTo>
                  <a:lnTo>
                    <a:pt x="3716" y="1447"/>
                  </a:lnTo>
                  <a:lnTo>
                    <a:pt x="3764" y="1480"/>
                  </a:lnTo>
                  <a:lnTo>
                    <a:pt x="3844" y="1528"/>
                  </a:lnTo>
                  <a:lnTo>
                    <a:pt x="3861" y="1656"/>
                  </a:lnTo>
                  <a:lnTo>
                    <a:pt x="3716" y="1608"/>
                  </a:lnTo>
                  <a:lnTo>
                    <a:pt x="3764" y="1641"/>
                  </a:lnTo>
                  <a:lnTo>
                    <a:pt x="3731" y="1656"/>
                  </a:lnTo>
                  <a:lnTo>
                    <a:pt x="3700" y="1641"/>
                  </a:lnTo>
                  <a:lnTo>
                    <a:pt x="3667" y="1608"/>
                  </a:lnTo>
                  <a:lnTo>
                    <a:pt x="3555" y="1528"/>
                  </a:lnTo>
                  <a:lnTo>
                    <a:pt x="3667" y="1641"/>
                  </a:lnTo>
                  <a:lnTo>
                    <a:pt x="3667" y="1656"/>
                  </a:lnTo>
                  <a:lnTo>
                    <a:pt x="3700" y="1786"/>
                  </a:lnTo>
                  <a:lnTo>
                    <a:pt x="3619" y="1769"/>
                  </a:lnTo>
                  <a:lnTo>
                    <a:pt x="3570" y="1738"/>
                  </a:lnTo>
                  <a:lnTo>
                    <a:pt x="3555" y="1656"/>
                  </a:lnTo>
                  <a:lnTo>
                    <a:pt x="3555" y="1674"/>
                  </a:lnTo>
                  <a:lnTo>
                    <a:pt x="3491" y="1656"/>
                  </a:lnTo>
                  <a:lnTo>
                    <a:pt x="3555" y="1738"/>
                  </a:lnTo>
                  <a:lnTo>
                    <a:pt x="3555" y="1866"/>
                  </a:lnTo>
                  <a:lnTo>
                    <a:pt x="3458" y="1817"/>
                  </a:lnTo>
                  <a:lnTo>
                    <a:pt x="3442" y="1738"/>
                  </a:lnTo>
                  <a:lnTo>
                    <a:pt x="3442" y="1769"/>
                  </a:lnTo>
                  <a:lnTo>
                    <a:pt x="3378" y="1738"/>
                  </a:lnTo>
                  <a:lnTo>
                    <a:pt x="3378" y="1753"/>
                  </a:lnTo>
                  <a:lnTo>
                    <a:pt x="3442" y="1817"/>
                  </a:lnTo>
                  <a:lnTo>
                    <a:pt x="3442" y="1833"/>
                  </a:lnTo>
                  <a:lnTo>
                    <a:pt x="3442" y="1899"/>
                  </a:lnTo>
                  <a:lnTo>
                    <a:pt x="3345" y="1850"/>
                  </a:lnTo>
                  <a:lnTo>
                    <a:pt x="3345" y="1817"/>
                  </a:lnTo>
                  <a:lnTo>
                    <a:pt x="3314" y="1769"/>
                  </a:lnTo>
                  <a:lnTo>
                    <a:pt x="3281" y="1738"/>
                  </a:lnTo>
                  <a:lnTo>
                    <a:pt x="3233" y="1720"/>
                  </a:lnTo>
                  <a:lnTo>
                    <a:pt x="3250" y="1732"/>
                  </a:lnTo>
                  <a:lnTo>
                    <a:pt x="3268" y="1749"/>
                  </a:lnTo>
                  <a:lnTo>
                    <a:pt x="3283" y="1767"/>
                  </a:lnTo>
                  <a:lnTo>
                    <a:pt x="3299" y="1788"/>
                  </a:lnTo>
                  <a:lnTo>
                    <a:pt x="3303" y="1798"/>
                  </a:lnTo>
                  <a:lnTo>
                    <a:pt x="3308" y="1809"/>
                  </a:lnTo>
                  <a:lnTo>
                    <a:pt x="3314" y="1821"/>
                  </a:lnTo>
                  <a:lnTo>
                    <a:pt x="3320" y="1833"/>
                  </a:lnTo>
                  <a:lnTo>
                    <a:pt x="3322" y="1844"/>
                  </a:lnTo>
                  <a:lnTo>
                    <a:pt x="3326" y="1856"/>
                  </a:lnTo>
                  <a:lnTo>
                    <a:pt x="3328" y="1868"/>
                  </a:lnTo>
                  <a:lnTo>
                    <a:pt x="3330" y="1881"/>
                  </a:lnTo>
                  <a:lnTo>
                    <a:pt x="3153" y="1817"/>
                  </a:lnTo>
                  <a:lnTo>
                    <a:pt x="3153" y="1738"/>
                  </a:lnTo>
                  <a:lnTo>
                    <a:pt x="3120" y="1720"/>
                  </a:lnTo>
                  <a:lnTo>
                    <a:pt x="3120" y="1689"/>
                  </a:lnTo>
                  <a:lnTo>
                    <a:pt x="3120" y="1738"/>
                  </a:lnTo>
                  <a:lnTo>
                    <a:pt x="3120" y="1817"/>
                  </a:lnTo>
                  <a:lnTo>
                    <a:pt x="3105" y="1817"/>
                  </a:lnTo>
                  <a:lnTo>
                    <a:pt x="3008" y="1738"/>
                  </a:lnTo>
                  <a:lnTo>
                    <a:pt x="2977" y="1720"/>
                  </a:lnTo>
                  <a:lnTo>
                    <a:pt x="2977" y="1608"/>
                  </a:lnTo>
                  <a:lnTo>
                    <a:pt x="2944" y="1656"/>
                  </a:lnTo>
                  <a:lnTo>
                    <a:pt x="2911" y="1689"/>
                  </a:lnTo>
                  <a:lnTo>
                    <a:pt x="2880" y="1689"/>
                  </a:lnTo>
                  <a:lnTo>
                    <a:pt x="2880" y="1495"/>
                  </a:lnTo>
                  <a:lnTo>
                    <a:pt x="2862" y="1513"/>
                  </a:lnTo>
                  <a:lnTo>
                    <a:pt x="2816" y="1513"/>
                  </a:lnTo>
                  <a:lnTo>
                    <a:pt x="2719" y="1447"/>
                  </a:lnTo>
                  <a:lnTo>
                    <a:pt x="2719" y="1431"/>
                  </a:lnTo>
                  <a:lnTo>
                    <a:pt x="2719" y="1400"/>
                  </a:lnTo>
                  <a:lnTo>
                    <a:pt x="2703" y="1400"/>
                  </a:lnTo>
                  <a:lnTo>
                    <a:pt x="2686" y="1528"/>
                  </a:lnTo>
                  <a:lnTo>
                    <a:pt x="2606" y="1513"/>
                  </a:lnTo>
                  <a:lnTo>
                    <a:pt x="2558" y="1400"/>
                  </a:lnTo>
                  <a:lnTo>
                    <a:pt x="2542" y="1352"/>
                  </a:lnTo>
                  <a:lnTo>
                    <a:pt x="2476" y="1400"/>
                  </a:lnTo>
                  <a:lnTo>
                    <a:pt x="2445" y="1367"/>
                  </a:lnTo>
                  <a:lnTo>
                    <a:pt x="2430" y="1319"/>
                  </a:lnTo>
                  <a:lnTo>
                    <a:pt x="2348" y="1400"/>
                  </a:lnTo>
                  <a:lnTo>
                    <a:pt x="2284" y="1431"/>
                  </a:lnTo>
                  <a:lnTo>
                    <a:pt x="2220" y="1303"/>
                  </a:lnTo>
                  <a:lnTo>
                    <a:pt x="2220" y="1464"/>
                  </a:lnTo>
                  <a:lnTo>
                    <a:pt x="2203" y="1495"/>
                  </a:lnTo>
                  <a:lnTo>
                    <a:pt x="2156" y="1431"/>
                  </a:lnTo>
                  <a:lnTo>
                    <a:pt x="2139" y="1431"/>
                  </a:lnTo>
                  <a:lnTo>
                    <a:pt x="2156" y="1319"/>
                  </a:lnTo>
                  <a:lnTo>
                    <a:pt x="2139" y="1303"/>
                  </a:lnTo>
                  <a:lnTo>
                    <a:pt x="2123" y="1400"/>
                  </a:lnTo>
                  <a:lnTo>
                    <a:pt x="2090" y="1464"/>
                  </a:lnTo>
                  <a:lnTo>
                    <a:pt x="1978" y="1303"/>
                  </a:lnTo>
                  <a:lnTo>
                    <a:pt x="1962" y="1239"/>
                  </a:lnTo>
                  <a:lnTo>
                    <a:pt x="1947" y="1288"/>
                  </a:lnTo>
                  <a:lnTo>
                    <a:pt x="1883" y="1319"/>
                  </a:lnTo>
                  <a:lnTo>
                    <a:pt x="1850" y="1319"/>
                  </a:lnTo>
                  <a:lnTo>
                    <a:pt x="1770" y="1222"/>
                  </a:lnTo>
                  <a:lnTo>
                    <a:pt x="1753" y="1352"/>
                  </a:lnTo>
                  <a:lnTo>
                    <a:pt x="1674" y="1303"/>
                  </a:lnTo>
                  <a:lnTo>
                    <a:pt x="1674" y="1319"/>
                  </a:lnTo>
                  <a:lnTo>
                    <a:pt x="1674" y="1352"/>
                  </a:lnTo>
                  <a:lnTo>
                    <a:pt x="1641" y="1544"/>
                  </a:lnTo>
                  <a:lnTo>
                    <a:pt x="1561" y="1464"/>
                  </a:lnTo>
                  <a:lnTo>
                    <a:pt x="1561" y="1431"/>
                  </a:lnTo>
                  <a:lnTo>
                    <a:pt x="1544" y="1431"/>
                  </a:lnTo>
                  <a:lnTo>
                    <a:pt x="1542" y="1443"/>
                  </a:lnTo>
                  <a:lnTo>
                    <a:pt x="1542" y="1454"/>
                  </a:lnTo>
                  <a:lnTo>
                    <a:pt x="1542" y="1466"/>
                  </a:lnTo>
                  <a:lnTo>
                    <a:pt x="1542" y="1478"/>
                  </a:lnTo>
                  <a:lnTo>
                    <a:pt x="1540" y="1489"/>
                  </a:lnTo>
                  <a:lnTo>
                    <a:pt x="1538" y="1503"/>
                  </a:lnTo>
                  <a:lnTo>
                    <a:pt x="1536" y="1517"/>
                  </a:lnTo>
                  <a:lnTo>
                    <a:pt x="1534" y="1530"/>
                  </a:lnTo>
                  <a:lnTo>
                    <a:pt x="1530" y="1542"/>
                  </a:lnTo>
                  <a:lnTo>
                    <a:pt x="1526" y="1553"/>
                  </a:lnTo>
                  <a:lnTo>
                    <a:pt x="1520" y="1567"/>
                  </a:lnTo>
                  <a:lnTo>
                    <a:pt x="1514" y="1582"/>
                  </a:lnTo>
                  <a:lnTo>
                    <a:pt x="1507" y="1594"/>
                  </a:lnTo>
                  <a:lnTo>
                    <a:pt x="1499" y="1610"/>
                  </a:lnTo>
                  <a:lnTo>
                    <a:pt x="1489" y="1623"/>
                  </a:lnTo>
                  <a:lnTo>
                    <a:pt x="1480" y="1641"/>
                  </a:lnTo>
                  <a:lnTo>
                    <a:pt x="1416" y="1608"/>
                  </a:lnTo>
                  <a:lnTo>
                    <a:pt x="1416" y="1577"/>
                  </a:lnTo>
                  <a:lnTo>
                    <a:pt x="1416" y="1561"/>
                  </a:lnTo>
                  <a:lnTo>
                    <a:pt x="1416" y="1464"/>
                  </a:lnTo>
                  <a:lnTo>
                    <a:pt x="1385" y="1561"/>
                  </a:lnTo>
                  <a:lnTo>
                    <a:pt x="1385" y="1608"/>
                  </a:lnTo>
                  <a:lnTo>
                    <a:pt x="1431" y="1689"/>
                  </a:lnTo>
                  <a:lnTo>
                    <a:pt x="1449" y="1720"/>
                  </a:lnTo>
                  <a:lnTo>
                    <a:pt x="1528" y="1625"/>
                  </a:lnTo>
                  <a:lnTo>
                    <a:pt x="1577" y="1577"/>
                  </a:lnTo>
                  <a:lnTo>
                    <a:pt x="1658" y="1592"/>
                  </a:lnTo>
                  <a:lnTo>
                    <a:pt x="1662" y="1604"/>
                  </a:lnTo>
                  <a:lnTo>
                    <a:pt x="1668" y="1617"/>
                  </a:lnTo>
                  <a:lnTo>
                    <a:pt x="1674" y="1629"/>
                  </a:lnTo>
                  <a:lnTo>
                    <a:pt x="1679" y="1643"/>
                  </a:lnTo>
                  <a:lnTo>
                    <a:pt x="1683" y="1654"/>
                  </a:lnTo>
                  <a:lnTo>
                    <a:pt x="1687" y="1668"/>
                  </a:lnTo>
                  <a:lnTo>
                    <a:pt x="1691" y="1679"/>
                  </a:lnTo>
                  <a:lnTo>
                    <a:pt x="1697" y="1693"/>
                  </a:lnTo>
                  <a:lnTo>
                    <a:pt x="1699" y="1705"/>
                  </a:lnTo>
                  <a:lnTo>
                    <a:pt x="1705" y="1716"/>
                  </a:lnTo>
                  <a:lnTo>
                    <a:pt x="1706" y="1728"/>
                  </a:lnTo>
                  <a:lnTo>
                    <a:pt x="1712" y="1741"/>
                  </a:lnTo>
                  <a:lnTo>
                    <a:pt x="1714" y="1753"/>
                  </a:lnTo>
                  <a:lnTo>
                    <a:pt x="1718" y="1765"/>
                  </a:lnTo>
                  <a:lnTo>
                    <a:pt x="1720" y="1776"/>
                  </a:lnTo>
                  <a:lnTo>
                    <a:pt x="1724" y="1790"/>
                  </a:lnTo>
                  <a:lnTo>
                    <a:pt x="1724" y="1802"/>
                  </a:lnTo>
                  <a:lnTo>
                    <a:pt x="1726" y="1813"/>
                  </a:lnTo>
                  <a:lnTo>
                    <a:pt x="1728" y="1825"/>
                  </a:lnTo>
                  <a:lnTo>
                    <a:pt x="1730" y="1837"/>
                  </a:lnTo>
                  <a:lnTo>
                    <a:pt x="1730" y="1848"/>
                  </a:lnTo>
                  <a:lnTo>
                    <a:pt x="1732" y="1860"/>
                  </a:lnTo>
                  <a:lnTo>
                    <a:pt x="1732" y="1871"/>
                  </a:lnTo>
                  <a:lnTo>
                    <a:pt x="1734" y="1883"/>
                  </a:lnTo>
                  <a:lnTo>
                    <a:pt x="1732" y="1895"/>
                  </a:lnTo>
                  <a:lnTo>
                    <a:pt x="1732" y="1906"/>
                  </a:lnTo>
                  <a:lnTo>
                    <a:pt x="1730" y="1918"/>
                  </a:lnTo>
                  <a:lnTo>
                    <a:pt x="1730" y="1930"/>
                  </a:lnTo>
                  <a:lnTo>
                    <a:pt x="1728" y="1941"/>
                  </a:lnTo>
                  <a:lnTo>
                    <a:pt x="1726" y="1953"/>
                  </a:lnTo>
                  <a:lnTo>
                    <a:pt x="1724" y="1965"/>
                  </a:lnTo>
                  <a:lnTo>
                    <a:pt x="1722" y="1978"/>
                  </a:lnTo>
                  <a:lnTo>
                    <a:pt x="1625" y="1947"/>
                  </a:lnTo>
                  <a:lnTo>
                    <a:pt x="1610" y="1914"/>
                  </a:lnTo>
                  <a:lnTo>
                    <a:pt x="1610" y="1817"/>
                  </a:lnTo>
                  <a:lnTo>
                    <a:pt x="1610" y="1769"/>
                  </a:lnTo>
                  <a:lnTo>
                    <a:pt x="1592" y="1769"/>
                  </a:lnTo>
                  <a:lnTo>
                    <a:pt x="1577" y="1881"/>
                  </a:lnTo>
                  <a:lnTo>
                    <a:pt x="1513" y="1978"/>
                  </a:lnTo>
                  <a:lnTo>
                    <a:pt x="1480" y="1947"/>
                  </a:lnTo>
                  <a:lnTo>
                    <a:pt x="1431" y="1769"/>
                  </a:lnTo>
                  <a:lnTo>
                    <a:pt x="1416" y="1881"/>
                  </a:lnTo>
                  <a:lnTo>
                    <a:pt x="1431" y="1914"/>
                  </a:lnTo>
                  <a:lnTo>
                    <a:pt x="1385" y="1994"/>
                  </a:lnTo>
                  <a:lnTo>
                    <a:pt x="1319" y="1947"/>
                  </a:lnTo>
                  <a:lnTo>
                    <a:pt x="1303" y="1947"/>
                  </a:lnTo>
                  <a:lnTo>
                    <a:pt x="1303" y="1689"/>
                  </a:lnTo>
                  <a:lnTo>
                    <a:pt x="1288" y="1705"/>
                  </a:lnTo>
                  <a:lnTo>
                    <a:pt x="1288" y="1786"/>
                  </a:lnTo>
                  <a:lnTo>
                    <a:pt x="1255" y="1947"/>
                  </a:lnTo>
                  <a:lnTo>
                    <a:pt x="1158" y="1881"/>
                  </a:lnTo>
                  <a:lnTo>
                    <a:pt x="1142" y="1866"/>
                  </a:lnTo>
                  <a:lnTo>
                    <a:pt x="1142" y="1753"/>
                  </a:lnTo>
                  <a:lnTo>
                    <a:pt x="1094" y="1802"/>
                  </a:lnTo>
                  <a:lnTo>
                    <a:pt x="1094" y="1786"/>
                  </a:lnTo>
                  <a:lnTo>
                    <a:pt x="1078" y="1769"/>
                  </a:lnTo>
                  <a:lnTo>
                    <a:pt x="1094" y="1689"/>
                  </a:lnTo>
                  <a:lnTo>
                    <a:pt x="1078" y="1641"/>
                  </a:lnTo>
                  <a:lnTo>
                    <a:pt x="1063" y="1656"/>
                  </a:lnTo>
                  <a:lnTo>
                    <a:pt x="1045" y="1753"/>
                  </a:lnTo>
                  <a:lnTo>
                    <a:pt x="999" y="1817"/>
                  </a:lnTo>
                  <a:lnTo>
                    <a:pt x="979" y="1804"/>
                  </a:lnTo>
                  <a:lnTo>
                    <a:pt x="968" y="1790"/>
                  </a:lnTo>
                  <a:lnTo>
                    <a:pt x="954" y="1774"/>
                  </a:lnTo>
                  <a:lnTo>
                    <a:pt x="948" y="1761"/>
                  </a:lnTo>
                  <a:lnTo>
                    <a:pt x="940" y="1745"/>
                  </a:lnTo>
                  <a:lnTo>
                    <a:pt x="937" y="1730"/>
                  </a:lnTo>
                  <a:lnTo>
                    <a:pt x="935" y="1714"/>
                  </a:lnTo>
                  <a:lnTo>
                    <a:pt x="935" y="1701"/>
                  </a:lnTo>
                  <a:lnTo>
                    <a:pt x="933" y="1683"/>
                  </a:lnTo>
                  <a:lnTo>
                    <a:pt x="933" y="1666"/>
                  </a:lnTo>
                  <a:lnTo>
                    <a:pt x="933" y="1648"/>
                  </a:lnTo>
                  <a:lnTo>
                    <a:pt x="935" y="1631"/>
                  </a:lnTo>
                  <a:lnTo>
                    <a:pt x="935" y="1613"/>
                  </a:lnTo>
                  <a:lnTo>
                    <a:pt x="935" y="1596"/>
                  </a:lnTo>
                  <a:lnTo>
                    <a:pt x="933" y="1579"/>
                  </a:lnTo>
                  <a:lnTo>
                    <a:pt x="933" y="1561"/>
                  </a:lnTo>
                  <a:lnTo>
                    <a:pt x="917" y="1544"/>
                  </a:lnTo>
                  <a:lnTo>
                    <a:pt x="917" y="1641"/>
                  </a:lnTo>
                  <a:lnTo>
                    <a:pt x="869" y="1738"/>
                  </a:lnTo>
                  <a:lnTo>
                    <a:pt x="838" y="1720"/>
                  </a:lnTo>
                  <a:lnTo>
                    <a:pt x="838" y="1464"/>
                  </a:lnTo>
                  <a:lnTo>
                    <a:pt x="820" y="1447"/>
                  </a:lnTo>
                  <a:lnTo>
                    <a:pt x="741" y="1625"/>
                  </a:lnTo>
                  <a:lnTo>
                    <a:pt x="677" y="1656"/>
                  </a:lnTo>
                  <a:lnTo>
                    <a:pt x="741" y="1464"/>
                  </a:lnTo>
                  <a:lnTo>
                    <a:pt x="725" y="1431"/>
                  </a:lnTo>
                  <a:lnTo>
                    <a:pt x="708" y="1431"/>
                  </a:lnTo>
                  <a:lnTo>
                    <a:pt x="696" y="1447"/>
                  </a:lnTo>
                  <a:lnTo>
                    <a:pt x="690" y="1464"/>
                  </a:lnTo>
                  <a:lnTo>
                    <a:pt x="683" y="1482"/>
                  </a:lnTo>
                  <a:lnTo>
                    <a:pt x="679" y="1499"/>
                  </a:lnTo>
                  <a:lnTo>
                    <a:pt x="673" y="1515"/>
                  </a:lnTo>
                  <a:lnTo>
                    <a:pt x="669" y="1532"/>
                  </a:lnTo>
                  <a:lnTo>
                    <a:pt x="665" y="1548"/>
                  </a:lnTo>
                  <a:lnTo>
                    <a:pt x="665" y="1565"/>
                  </a:lnTo>
                  <a:lnTo>
                    <a:pt x="661" y="1579"/>
                  </a:lnTo>
                  <a:lnTo>
                    <a:pt x="659" y="1596"/>
                  </a:lnTo>
                  <a:lnTo>
                    <a:pt x="659" y="1610"/>
                  </a:lnTo>
                  <a:lnTo>
                    <a:pt x="659" y="1627"/>
                  </a:lnTo>
                  <a:lnTo>
                    <a:pt x="659" y="1641"/>
                  </a:lnTo>
                  <a:lnTo>
                    <a:pt x="659" y="1658"/>
                  </a:lnTo>
                  <a:lnTo>
                    <a:pt x="659" y="1672"/>
                  </a:lnTo>
                  <a:lnTo>
                    <a:pt x="659" y="1689"/>
                  </a:lnTo>
                  <a:lnTo>
                    <a:pt x="708" y="1689"/>
                  </a:lnTo>
                  <a:lnTo>
                    <a:pt x="756" y="1656"/>
                  </a:lnTo>
                  <a:lnTo>
                    <a:pt x="805" y="1753"/>
                  </a:lnTo>
                  <a:lnTo>
                    <a:pt x="805" y="1769"/>
                  </a:lnTo>
                  <a:lnTo>
                    <a:pt x="838" y="1786"/>
                  </a:lnTo>
                  <a:lnTo>
                    <a:pt x="869" y="1786"/>
                  </a:lnTo>
                  <a:lnTo>
                    <a:pt x="869" y="1769"/>
                  </a:lnTo>
                  <a:lnTo>
                    <a:pt x="933" y="1833"/>
                  </a:lnTo>
                  <a:lnTo>
                    <a:pt x="981" y="1881"/>
                  </a:lnTo>
                  <a:lnTo>
                    <a:pt x="1030" y="1866"/>
                  </a:lnTo>
                  <a:lnTo>
                    <a:pt x="1063" y="1833"/>
                  </a:lnTo>
                  <a:lnTo>
                    <a:pt x="1078" y="1866"/>
                  </a:lnTo>
                  <a:lnTo>
                    <a:pt x="1239" y="1978"/>
                  </a:lnTo>
                  <a:lnTo>
                    <a:pt x="1288" y="1963"/>
                  </a:lnTo>
                  <a:lnTo>
                    <a:pt x="1497" y="2203"/>
                  </a:lnTo>
                  <a:lnTo>
                    <a:pt x="1513" y="2236"/>
                  </a:lnTo>
                  <a:lnTo>
                    <a:pt x="1561" y="2316"/>
                  </a:lnTo>
                  <a:lnTo>
                    <a:pt x="1497" y="2413"/>
                  </a:lnTo>
                  <a:lnTo>
                    <a:pt x="1480" y="2397"/>
                  </a:lnTo>
                  <a:close/>
                </a:path>
              </a:pathLst>
            </a:custGeom>
            <a:solidFill>
              <a:srgbClr val="3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92360" y="4619160"/>
              <a:ext cx="944280" cy="270720"/>
            </a:xfrm>
            <a:custGeom>
              <a:avLst/>
              <a:gdLst/>
              <a:ahLst/>
              <a:rect l="l" t="t" r="r" b="b"/>
              <a:pathLst>
                <a:path w="4521" h="2413">
                  <a:moveTo>
                    <a:pt x="1480" y="2397"/>
                  </a:moveTo>
                  <a:lnTo>
                    <a:pt x="1449" y="2364"/>
                  </a:lnTo>
                  <a:lnTo>
                    <a:pt x="1431" y="2316"/>
                  </a:lnTo>
                  <a:lnTo>
                    <a:pt x="1431" y="2252"/>
                  </a:lnTo>
                  <a:lnTo>
                    <a:pt x="1416" y="2236"/>
                  </a:lnTo>
                  <a:lnTo>
                    <a:pt x="1352" y="2333"/>
                  </a:lnTo>
                  <a:lnTo>
                    <a:pt x="1270" y="2252"/>
                  </a:lnTo>
                  <a:lnTo>
                    <a:pt x="1206" y="2124"/>
                  </a:lnTo>
                  <a:lnTo>
                    <a:pt x="1175" y="2188"/>
                  </a:lnTo>
                  <a:lnTo>
                    <a:pt x="1175" y="2252"/>
                  </a:lnTo>
                  <a:lnTo>
                    <a:pt x="1045" y="2172"/>
                  </a:lnTo>
                  <a:lnTo>
                    <a:pt x="1035" y="2158"/>
                  </a:lnTo>
                  <a:lnTo>
                    <a:pt x="1030" y="2147"/>
                  </a:lnTo>
                  <a:lnTo>
                    <a:pt x="1024" y="2135"/>
                  </a:lnTo>
                  <a:lnTo>
                    <a:pt x="1020" y="2124"/>
                  </a:lnTo>
                  <a:lnTo>
                    <a:pt x="1012" y="2102"/>
                  </a:lnTo>
                  <a:lnTo>
                    <a:pt x="1012" y="2083"/>
                  </a:lnTo>
                  <a:lnTo>
                    <a:pt x="1010" y="2071"/>
                  </a:lnTo>
                  <a:lnTo>
                    <a:pt x="1010" y="2060"/>
                  </a:lnTo>
                  <a:lnTo>
                    <a:pt x="1010" y="2048"/>
                  </a:lnTo>
                  <a:lnTo>
                    <a:pt x="1012" y="2038"/>
                  </a:lnTo>
                  <a:lnTo>
                    <a:pt x="1012" y="2027"/>
                  </a:lnTo>
                  <a:lnTo>
                    <a:pt x="1012" y="2015"/>
                  </a:lnTo>
                  <a:lnTo>
                    <a:pt x="1012" y="2003"/>
                  </a:lnTo>
                  <a:lnTo>
                    <a:pt x="1014" y="1994"/>
                  </a:lnTo>
                  <a:lnTo>
                    <a:pt x="999" y="1978"/>
                  </a:lnTo>
                  <a:lnTo>
                    <a:pt x="981" y="2011"/>
                  </a:lnTo>
                  <a:lnTo>
                    <a:pt x="981" y="2060"/>
                  </a:lnTo>
                  <a:lnTo>
                    <a:pt x="950" y="2106"/>
                  </a:lnTo>
                  <a:lnTo>
                    <a:pt x="884" y="2060"/>
                  </a:lnTo>
                  <a:lnTo>
                    <a:pt x="869" y="1914"/>
                  </a:lnTo>
                  <a:lnTo>
                    <a:pt x="853" y="1947"/>
                  </a:lnTo>
                  <a:lnTo>
                    <a:pt x="789" y="1994"/>
                  </a:lnTo>
                  <a:lnTo>
                    <a:pt x="789" y="1963"/>
                  </a:lnTo>
                  <a:lnTo>
                    <a:pt x="756" y="1914"/>
                  </a:lnTo>
                  <a:lnTo>
                    <a:pt x="708" y="1978"/>
                  </a:lnTo>
                  <a:lnTo>
                    <a:pt x="659" y="1978"/>
                  </a:lnTo>
                  <a:lnTo>
                    <a:pt x="659" y="1947"/>
                  </a:lnTo>
                  <a:lnTo>
                    <a:pt x="659" y="1769"/>
                  </a:lnTo>
                  <a:lnTo>
                    <a:pt x="580" y="1833"/>
                  </a:lnTo>
                  <a:lnTo>
                    <a:pt x="498" y="1769"/>
                  </a:lnTo>
                  <a:lnTo>
                    <a:pt x="498" y="1738"/>
                  </a:lnTo>
                  <a:lnTo>
                    <a:pt x="516" y="1561"/>
                  </a:lnTo>
                  <a:lnTo>
                    <a:pt x="498" y="1561"/>
                  </a:lnTo>
                  <a:lnTo>
                    <a:pt x="452" y="1674"/>
                  </a:lnTo>
                  <a:lnTo>
                    <a:pt x="419" y="1705"/>
                  </a:lnTo>
                  <a:lnTo>
                    <a:pt x="403" y="1689"/>
                  </a:lnTo>
                  <a:lnTo>
                    <a:pt x="403" y="1464"/>
                  </a:lnTo>
                  <a:lnTo>
                    <a:pt x="370" y="1513"/>
                  </a:lnTo>
                  <a:lnTo>
                    <a:pt x="355" y="1656"/>
                  </a:lnTo>
                  <a:lnTo>
                    <a:pt x="322" y="1705"/>
                  </a:lnTo>
                  <a:lnTo>
                    <a:pt x="225" y="1592"/>
                  </a:lnTo>
                  <a:lnTo>
                    <a:pt x="225" y="1513"/>
                  </a:lnTo>
                  <a:lnTo>
                    <a:pt x="161" y="1513"/>
                  </a:lnTo>
                  <a:lnTo>
                    <a:pt x="81" y="1544"/>
                  </a:lnTo>
                  <a:lnTo>
                    <a:pt x="81" y="1383"/>
                  </a:lnTo>
                  <a:lnTo>
                    <a:pt x="130" y="1303"/>
                  </a:lnTo>
                  <a:lnTo>
                    <a:pt x="0" y="1303"/>
                  </a:lnTo>
                  <a:lnTo>
                    <a:pt x="97" y="1127"/>
                  </a:lnTo>
                  <a:lnTo>
                    <a:pt x="242" y="1094"/>
                  </a:lnTo>
                  <a:lnTo>
                    <a:pt x="194" y="1030"/>
                  </a:lnTo>
                  <a:lnTo>
                    <a:pt x="178" y="1014"/>
                  </a:lnTo>
                  <a:lnTo>
                    <a:pt x="161" y="966"/>
                  </a:lnTo>
                  <a:lnTo>
                    <a:pt x="161" y="917"/>
                  </a:lnTo>
                  <a:lnTo>
                    <a:pt x="178" y="917"/>
                  </a:lnTo>
                  <a:lnTo>
                    <a:pt x="322" y="933"/>
                  </a:lnTo>
                  <a:lnTo>
                    <a:pt x="337" y="900"/>
                  </a:lnTo>
                  <a:lnTo>
                    <a:pt x="273" y="772"/>
                  </a:lnTo>
                  <a:lnTo>
                    <a:pt x="273" y="741"/>
                  </a:lnTo>
                  <a:lnTo>
                    <a:pt x="291" y="741"/>
                  </a:lnTo>
                  <a:lnTo>
                    <a:pt x="419" y="756"/>
                  </a:lnTo>
                  <a:lnTo>
                    <a:pt x="419" y="741"/>
                  </a:lnTo>
                  <a:lnTo>
                    <a:pt x="403" y="723"/>
                  </a:lnTo>
                  <a:lnTo>
                    <a:pt x="370" y="692"/>
                  </a:lnTo>
                  <a:lnTo>
                    <a:pt x="337" y="628"/>
                  </a:lnTo>
                  <a:lnTo>
                    <a:pt x="351" y="622"/>
                  </a:lnTo>
                  <a:lnTo>
                    <a:pt x="364" y="621"/>
                  </a:lnTo>
                  <a:lnTo>
                    <a:pt x="378" y="621"/>
                  </a:lnTo>
                  <a:lnTo>
                    <a:pt x="394" y="621"/>
                  </a:lnTo>
                  <a:lnTo>
                    <a:pt x="407" y="621"/>
                  </a:lnTo>
                  <a:lnTo>
                    <a:pt x="421" y="621"/>
                  </a:lnTo>
                  <a:lnTo>
                    <a:pt x="434" y="622"/>
                  </a:lnTo>
                  <a:lnTo>
                    <a:pt x="448" y="626"/>
                  </a:lnTo>
                  <a:lnTo>
                    <a:pt x="459" y="628"/>
                  </a:lnTo>
                  <a:lnTo>
                    <a:pt x="471" y="632"/>
                  </a:lnTo>
                  <a:lnTo>
                    <a:pt x="483" y="638"/>
                  </a:lnTo>
                  <a:lnTo>
                    <a:pt x="496" y="644"/>
                  </a:lnTo>
                  <a:lnTo>
                    <a:pt x="508" y="650"/>
                  </a:lnTo>
                  <a:lnTo>
                    <a:pt x="522" y="657"/>
                  </a:lnTo>
                  <a:lnTo>
                    <a:pt x="533" y="665"/>
                  </a:lnTo>
                  <a:lnTo>
                    <a:pt x="547" y="675"/>
                  </a:lnTo>
                  <a:lnTo>
                    <a:pt x="564" y="723"/>
                  </a:lnTo>
                  <a:lnTo>
                    <a:pt x="595" y="723"/>
                  </a:lnTo>
                  <a:lnTo>
                    <a:pt x="580" y="675"/>
                  </a:lnTo>
                  <a:lnTo>
                    <a:pt x="580" y="628"/>
                  </a:lnTo>
                  <a:lnTo>
                    <a:pt x="564" y="611"/>
                  </a:lnTo>
                  <a:lnTo>
                    <a:pt x="547" y="595"/>
                  </a:lnTo>
                  <a:lnTo>
                    <a:pt x="564" y="562"/>
                  </a:lnTo>
                  <a:lnTo>
                    <a:pt x="756" y="580"/>
                  </a:lnTo>
                  <a:lnTo>
                    <a:pt x="756" y="547"/>
                  </a:lnTo>
                  <a:lnTo>
                    <a:pt x="677" y="467"/>
                  </a:lnTo>
                  <a:lnTo>
                    <a:pt x="708" y="419"/>
                  </a:lnTo>
                  <a:lnTo>
                    <a:pt x="756" y="419"/>
                  </a:lnTo>
                  <a:lnTo>
                    <a:pt x="902" y="450"/>
                  </a:lnTo>
                  <a:lnTo>
                    <a:pt x="1014" y="547"/>
                  </a:lnTo>
                  <a:lnTo>
                    <a:pt x="1063" y="337"/>
                  </a:lnTo>
                  <a:lnTo>
                    <a:pt x="1094" y="450"/>
                  </a:lnTo>
                  <a:lnTo>
                    <a:pt x="1111" y="450"/>
                  </a:lnTo>
                  <a:lnTo>
                    <a:pt x="1111" y="386"/>
                  </a:lnTo>
                  <a:lnTo>
                    <a:pt x="1191" y="450"/>
                  </a:lnTo>
                  <a:lnTo>
                    <a:pt x="1206" y="498"/>
                  </a:lnTo>
                  <a:lnTo>
                    <a:pt x="1336" y="258"/>
                  </a:lnTo>
                  <a:lnTo>
                    <a:pt x="1344" y="269"/>
                  </a:lnTo>
                  <a:lnTo>
                    <a:pt x="1352" y="281"/>
                  </a:lnTo>
                  <a:lnTo>
                    <a:pt x="1357" y="293"/>
                  </a:lnTo>
                  <a:lnTo>
                    <a:pt x="1365" y="304"/>
                  </a:lnTo>
                  <a:lnTo>
                    <a:pt x="1369" y="316"/>
                  </a:lnTo>
                  <a:lnTo>
                    <a:pt x="1375" y="328"/>
                  </a:lnTo>
                  <a:lnTo>
                    <a:pt x="1381" y="339"/>
                  </a:lnTo>
                  <a:lnTo>
                    <a:pt x="1386" y="353"/>
                  </a:lnTo>
                  <a:lnTo>
                    <a:pt x="1390" y="365"/>
                  </a:lnTo>
                  <a:lnTo>
                    <a:pt x="1394" y="376"/>
                  </a:lnTo>
                  <a:lnTo>
                    <a:pt x="1398" y="388"/>
                  </a:lnTo>
                  <a:lnTo>
                    <a:pt x="1402" y="401"/>
                  </a:lnTo>
                  <a:lnTo>
                    <a:pt x="1404" y="413"/>
                  </a:lnTo>
                  <a:lnTo>
                    <a:pt x="1408" y="425"/>
                  </a:lnTo>
                  <a:lnTo>
                    <a:pt x="1412" y="436"/>
                  </a:lnTo>
                  <a:lnTo>
                    <a:pt x="1416" y="450"/>
                  </a:lnTo>
                  <a:lnTo>
                    <a:pt x="1431" y="434"/>
                  </a:lnTo>
                  <a:lnTo>
                    <a:pt x="1674" y="434"/>
                  </a:lnTo>
                  <a:lnTo>
                    <a:pt x="1753" y="273"/>
                  </a:lnTo>
                  <a:lnTo>
                    <a:pt x="1817" y="306"/>
                  </a:lnTo>
                  <a:lnTo>
                    <a:pt x="1850" y="337"/>
                  </a:lnTo>
                  <a:lnTo>
                    <a:pt x="1866" y="355"/>
                  </a:lnTo>
                  <a:lnTo>
                    <a:pt x="1898" y="355"/>
                  </a:lnTo>
                  <a:lnTo>
                    <a:pt x="1914" y="322"/>
                  </a:lnTo>
                  <a:lnTo>
                    <a:pt x="1978" y="306"/>
                  </a:lnTo>
                  <a:lnTo>
                    <a:pt x="1930" y="194"/>
                  </a:lnTo>
                  <a:lnTo>
                    <a:pt x="2059" y="176"/>
                  </a:lnTo>
                  <a:lnTo>
                    <a:pt x="2269" y="240"/>
                  </a:lnTo>
                  <a:lnTo>
                    <a:pt x="2300" y="145"/>
                  </a:lnTo>
                  <a:lnTo>
                    <a:pt x="2333" y="112"/>
                  </a:lnTo>
                  <a:lnTo>
                    <a:pt x="2364" y="97"/>
                  </a:lnTo>
                  <a:lnTo>
                    <a:pt x="2379" y="103"/>
                  </a:lnTo>
                  <a:lnTo>
                    <a:pt x="2393" y="116"/>
                  </a:lnTo>
                  <a:lnTo>
                    <a:pt x="2405" y="130"/>
                  </a:lnTo>
                  <a:lnTo>
                    <a:pt x="2416" y="147"/>
                  </a:lnTo>
                  <a:lnTo>
                    <a:pt x="2424" y="165"/>
                  </a:lnTo>
                  <a:lnTo>
                    <a:pt x="2432" y="186"/>
                  </a:lnTo>
                  <a:lnTo>
                    <a:pt x="2438" y="204"/>
                  </a:lnTo>
                  <a:lnTo>
                    <a:pt x="2445" y="225"/>
                  </a:lnTo>
                  <a:lnTo>
                    <a:pt x="2461" y="240"/>
                  </a:lnTo>
                  <a:lnTo>
                    <a:pt x="2476" y="258"/>
                  </a:lnTo>
                  <a:lnTo>
                    <a:pt x="2509" y="258"/>
                  </a:lnTo>
                  <a:lnTo>
                    <a:pt x="2573" y="225"/>
                  </a:lnTo>
                  <a:lnTo>
                    <a:pt x="2558" y="194"/>
                  </a:lnTo>
                  <a:lnTo>
                    <a:pt x="2525" y="128"/>
                  </a:lnTo>
                  <a:lnTo>
                    <a:pt x="2494" y="81"/>
                  </a:lnTo>
                  <a:lnTo>
                    <a:pt x="2637" y="64"/>
                  </a:lnTo>
                  <a:lnTo>
                    <a:pt x="2750" y="145"/>
                  </a:lnTo>
                  <a:lnTo>
                    <a:pt x="2783" y="112"/>
                  </a:lnTo>
                  <a:lnTo>
                    <a:pt x="2847" y="64"/>
                  </a:lnTo>
                  <a:lnTo>
                    <a:pt x="2911" y="0"/>
                  </a:lnTo>
                  <a:lnTo>
                    <a:pt x="2944" y="0"/>
                  </a:lnTo>
                  <a:lnTo>
                    <a:pt x="3008" y="0"/>
                  </a:lnTo>
                  <a:lnTo>
                    <a:pt x="2944" y="194"/>
                  </a:lnTo>
                  <a:lnTo>
                    <a:pt x="2992" y="209"/>
                  </a:lnTo>
                  <a:lnTo>
                    <a:pt x="3006" y="196"/>
                  </a:lnTo>
                  <a:lnTo>
                    <a:pt x="3021" y="184"/>
                  </a:lnTo>
                  <a:lnTo>
                    <a:pt x="3035" y="174"/>
                  </a:lnTo>
                  <a:lnTo>
                    <a:pt x="3050" y="167"/>
                  </a:lnTo>
                  <a:lnTo>
                    <a:pt x="3066" y="155"/>
                  </a:lnTo>
                  <a:lnTo>
                    <a:pt x="3082" y="147"/>
                  </a:lnTo>
                  <a:lnTo>
                    <a:pt x="3097" y="141"/>
                  </a:lnTo>
                  <a:lnTo>
                    <a:pt x="3114" y="136"/>
                  </a:lnTo>
                  <a:lnTo>
                    <a:pt x="3130" y="130"/>
                  </a:lnTo>
                  <a:lnTo>
                    <a:pt x="3146" y="124"/>
                  </a:lnTo>
                  <a:lnTo>
                    <a:pt x="3161" y="120"/>
                  </a:lnTo>
                  <a:lnTo>
                    <a:pt x="3178" y="118"/>
                  </a:lnTo>
                  <a:lnTo>
                    <a:pt x="3196" y="114"/>
                  </a:lnTo>
                  <a:lnTo>
                    <a:pt x="3213" y="112"/>
                  </a:lnTo>
                  <a:lnTo>
                    <a:pt x="3231" y="112"/>
                  </a:lnTo>
                  <a:lnTo>
                    <a:pt x="3250" y="112"/>
                  </a:lnTo>
                  <a:lnTo>
                    <a:pt x="3217" y="240"/>
                  </a:lnTo>
                  <a:lnTo>
                    <a:pt x="3184" y="273"/>
                  </a:lnTo>
                  <a:lnTo>
                    <a:pt x="3281" y="194"/>
                  </a:lnTo>
                  <a:lnTo>
                    <a:pt x="3281" y="128"/>
                  </a:lnTo>
                  <a:lnTo>
                    <a:pt x="3314" y="81"/>
                  </a:lnTo>
                  <a:lnTo>
                    <a:pt x="3330" y="64"/>
                  </a:lnTo>
                  <a:lnTo>
                    <a:pt x="3345" y="64"/>
                  </a:lnTo>
                  <a:lnTo>
                    <a:pt x="3409" y="81"/>
                  </a:lnTo>
                  <a:lnTo>
                    <a:pt x="3409" y="161"/>
                  </a:lnTo>
                  <a:lnTo>
                    <a:pt x="3442" y="176"/>
                  </a:lnTo>
                  <a:lnTo>
                    <a:pt x="3456" y="163"/>
                  </a:lnTo>
                  <a:lnTo>
                    <a:pt x="3469" y="153"/>
                  </a:lnTo>
                  <a:lnTo>
                    <a:pt x="3483" y="141"/>
                  </a:lnTo>
                  <a:lnTo>
                    <a:pt x="3498" y="136"/>
                  </a:lnTo>
                  <a:lnTo>
                    <a:pt x="3512" y="128"/>
                  </a:lnTo>
                  <a:lnTo>
                    <a:pt x="3526" y="122"/>
                  </a:lnTo>
                  <a:lnTo>
                    <a:pt x="3539" y="116"/>
                  </a:lnTo>
                  <a:lnTo>
                    <a:pt x="3555" y="112"/>
                  </a:lnTo>
                  <a:lnTo>
                    <a:pt x="3566" y="107"/>
                  </a:lnTo>
                  <a:lnTo>
                    <a:pt x="3580" y="105"/>
                  </a:lnTo>
                  <a:lnTo>
                    <a:pt x="3594" y="101"/>
                  </a:lnTo>
                  <a:lnTo>
                    <a:pt x="3607" y="99"/>
                  </a:lnTo>
                  <a:lnTo>
                    <a:pt x="3621" y="97"/>
                  </a:lnTo>
                  <a:lnTo>
                    <a:pt x="3636" y="97"/>
                  </a:lnTo>
                  <a:lnTo>
                    <a:pt x="3650" y="97"/>
                  </a:lnTo>
                  <a:lnTo>
                    <a:pt x="3667" y="97"/>
                  </a:lnTo>
                  <a:lnTo>
                    <a:pt x="3700" y="112"/>
                  </a:lnTo>
                  <a:lnTo>
                    <a:pt x="3619" y="322"/>
                  </a:lnTo>
                  <a:lnTo>
                    <a:pt x="3630" y="308"/>
                  </a:lnTo>
                  <a:lnTo>
                    <a:pt x="3642" y="297"/>
                  </a:lnTo>
                  <a:lnTo>
                    <a:pt x="3654" y="285"/>
                  </a:lnTo>
                  <a:lnTo>
                    <a:pt x="3669" y="275"/>
                  </a:lnTo>
                  <a:lnTo>
                    <a:pt x="3681" y="264"/>
                  </a:lnTo>
                  <a:lnTo>
                    <a:pt x="3696" y="256"/>
                  </a:lnTo>
                  <a:lnTo>
                    <a:pt x="3710" y="246"/>
                  </a:lnTo>
                  <a:lnTo>
                    <a:pt x="3725" y="240"/>
                  </a:lnTo>
                  <a:lnTo>
                    <a:pt x="3737" y="233"/>
                  </a:lnTo>
                  <a:lnTo>
                    <a:pt x="3753" y="227"/>
                  </a:lnTo>
                  <a:lnTo>
                    <a:pt x="3766" y="221"/>
                  </a:lnTo>
                  <a:lnTo>
                    <a:pt x="3782" y="217"/>
                  </a:lnTo>
                  <a:lnTo>
                    <a:pt x="3795" y="211"/>
                  </a:lnTo>
                  <a:lnTo>
                    <a:pt x="3813" y="209"/>
                  </a:lnTo>
                  <a:lnTo>
                    <a:pt x="3826" y="209"/>
                  </a:lnTo>
                  <a:lnTo>
                    <a:pt x="3844" y="209"/>
                  </a:lnTo>
                  <a:lnTo>
                    <a:pt x="3956" y="209"/>
                  </a:lnTo>
                  <a:lnTo>
                    <a:pt x="3956" y="289"/>
                  </a:lnTo>
                  <a:lnTo>
                    <a:pt x="3925" y="370"/>
                  </a:lnTo>
                  <a:lnTo>
                    <a:pt x="3956" y="337"/>
                  </a:lnTo>
                  <a:lnTo>
                    <a:pt x="4199" y="289"/>
                  </a:lnTo>
                  <a:lnTo>
                    <a:pt x="4199" y="306"/>
                  </a:lnTo>
                  <a:lnTo>
                    <a:pt x="4199" y="337"/>
                  </a:lnTo>
                  <a:lnTo>
                    <a:pt x="4135" y="450"/>
                  </a:lnTo>
                  <a:lnTo>
                    <a:pt x="4342" y="450"/>
                  </a:lnTo>
                  <a:lnTo>
                    <a:pt x="4263" y="595"/>
                  </a:lnTo>
                  <a:lnTo>
                    <a:pt x="4408" y="659"/>
                  </a:lnTo>
                  <a:lnTo>
                    <a:pt x="4342" y="741"/>
                  </a:lnTo>
                  <a:lnTo>
                    <a:pt x="4296" y="756"/>
                  </a:lnTo>
                  <a:lnTo>
                    <a:pt x="4278" y="772"/>
                  </a:lnTo>
                  <a:lnTo>
                    <a:pt x="4311" y="772"/>
                  </a:lnTo>
                  <a:lnTo>
                    <a:pt x="4327" y="772"/>
                  </a:lnTo>
                  <a:lnTo>
                    <a:pt x="4375" y="772"/>
                  </a:lnTo>
                  <a:lnTo>
                    <a:pt x="4455" y="820"/>
                  </a:lnTo>
                  <a:lnTo>
                    <a:pt x="4503" y="900"/>
                  </a:lnTo>
                  <a:lnTo>
                    <a:pt x="4521" y="917"/>
                  </a:lnTo>
                  <a:lnTo>
                    <a:pt x="4455" y="966"/>
                  </a:lnTo>
                  <a:lnTo>
                    <a:pt x="4342" y="997"/>
                  </a:lnTo>
                  <a:lnTo>
                    <a:pt x="4296" y="1030"/>
                  </a:lnTo>
                  <a:lnTo>
                    <a:pt x="4408" y="1094"/>
                  </a:lnTo>
                  <a:lnTo>
                    <a:pt x="4408" y="1109"/>
                  </a:lnTo>
                  <a:lnTo>
                    <a:pt x="4408" y="1142"/>
                  </a:lnTo>
                  <a:lnTo>
                    <a:pt x="4342" y="1222"/>
                  </a:lnTo>
                  <a:lnTo>
                    <a:pt x="4327" y="1239"/>
                  </a:lnTo>
                  <a:lnTo>
                    <a:pt x="4263" y="1239"/>
                  </a:lnTo>
                  <a:lnTo>
                    <a:pt x="4150" y="1239"/>
                  </a:lnTo>
                  <a:lnTo>
                    <a:pt x="4135" y="1142"/>
                  </a:lnTo>
                  <a:lnTo>
                    <a:pt x="4038" y="1061"/>
                  </a:lnTo>
                  <a:lnTo>
                    <a:pt x="3974" y="1045"/>
                  </a:lnTo>
                  <a:lnTo>
                    <a:pt x="3956" y="1061"/>
                  </a:lnTo>
                  <a:lnTo>
                    <a:pt x="3989" y="1078"/>
                  </a:lnTo>
                  <a:lnTo>
                    <a:pt x="4102" y="1191"/>
                  </a:lnTo>
                  <a:lnTo>
                    <a:pt x="4117" y="1255"/>
                  </a:lnTo>
                  <a:lnTo>
                    <a:pt x="3877" y="1158"/>
                  </a:lnTo>
                  <a:lnTo>
                    <a:pt x="3877" y="1173"/>
                  </a:lnTo>
                  <a:lnTo>
                    <a:pt x="4022" y="1255"/>
                  </a:lnTo>
                  <a:lnTo>
                    <a:pt x="4069" y="1352"/>
                  </a:lnTo>
                  <a:lnTo>
                    <a:pt x="4069" y="1367"/>
                  </a:lnTo>
                  <a:lnTo>
                    <a:pt x="4053" y="1400"/>
                  </a:lnTo>
                  <a:lnTo>
                    <a:pt x="3925" y="1400"/>
                  </a:lnTo>
                  <a:lnTo>
                    <a:pt x="3892" y="1383"/>
                  </a:lnTo>
                  <a:lnTo>
                    <a:pt x="3780" y="1319"/>
                  </a:lnTo>
                  <a:lnTo>
                    <a:pt x="3780" y="1334"/>
                  </a:lnTo>
                  <a:lnTo>
                    <a:pt x="3828" y="1367"/>
                  </a:lnTo>
                  <a:lnTo>
                    <a:pt x="3910" y="1431"/>
                  </a:lnTo>
                  <a:lnTo>
                    <a:pt x="3925" y="1528"/>
                  </a:lnTo>
                  <a:lnTo>
                    <a:pt x="3861" y="1513"/>
                  </a:lnTo>
                  <a:lnTo>
                    <a:pt x="3716" y="1447"/>
                  </a:lnTo>
                  <a:lnTo>
                    <a:pt x="3764" y="1480"/>
                  </a:lnTo>
                  <a:lnTo>
                    <a:pt x="3844" y="1528"/>
                  </a:lnTo>
                  <a:lnTo>
                    <a:pt x="3861" y="1656"/>
                  </a:lnTo>
                  <a:lnTo>
                    <a:pt x="3716" y="1608"/>
                  </a:lnTo>
                  <a:lnTo>
                    <a:pt x="3764" y="1641"/>
                  </a:lnTo>
                  <a:lnTo>
                    <a:pt x="3731" y="1656"/>
                  </a:lnTo>
                  <a:lnTo>
                    <a:pt x="3700" y="1641"/>
                  </a:lnTo>
                  <a:lnTo>
                    <a:pt x="3667" y="1608"/>
                  </a:lnTo>
                  <a:lnTo>
                    <a:pt x="3555" y="1528"/>
                  </a:lnTo>
                  <a:lnTo>
                    <a:pt x="3667" y="1641"/>
                  </a:lnTo>
                  <a:lnTo>
                    <a:pt x="3667" y="1656"/>
                  </a:lnTo>
                  <a:lnTo>
                    <a:pt x="3700" y="1786"/>
                  </a:lnTo>
                  <a:lnTo>
                    <a:pt x="3619" y="1769"/>
                  </a:lnTo>
                  <a:lnTo>
                    <a:pt x="3570" y="1738"/>
                  </a:lnTo>
                  <a:lnTo>
                    <a:pt x="3555" y="1656"/>
                  </a:lnTo>
                  <a:lnTo>
                    <a:pt x="3555" y="1674"/>
                  </a:lnTo>
                  <a:lnTo>
                    <a:pt x="3491" y="1656"/>
                  </a:lnTo>
                  <a:lnTo>
                    <a:pt x="3555" y="1738"/>
                  </a:lnTo>
                  <a:lnTo>
                    <a:pt x="3555" y="1866"/>
                  </a:lnTo>
                  <a:lnTo>
                    <a:pt x="3458" y="1817"/>
                  </a:lnTo>
                  <a:lnTo>
                    <a:pt x="3442" y="1738"/>
                  </a:lnTo>
                  <a:lnTo>
                    <a:pt x="3442" y="1769"/>
                  </a:lnTo>
                  <a:lnTo>
                    <a:pt x="3378" y="1738"/>
                  </a:lnTo>
                  <a:lnTo>
                    <a:pt x="3378" y="1753"/>
                  </a:lnTo>
                  <a:lnTo>
                    <a:pt x="3442" y="1817"/>
                  </a:lnTo>
                  <a:lnTo>
                    <a:pt x="3442" y="1833"/>
                  </a:lnTo>
                  <a:lnTo>
                    <a:pt x="3442" y="1899"/>
                  </a:lnTo>
                  <a:lnTo>
                    <a:pt x="3345" y="1850"/>
                  </a:lnTo>
                  <a:lnTo>
                    <a:pt x="3345" y="1817"/>
                  </a:lnTo>
                  <a:lnTo>
                    <a:pt x="3314" y="1769"/>
                  </a:lnTo>
                  <a:lnTo>
                    <a:pt x="3281" y="1738"/>
                  </a:lnTo>
                  <a:lnTo>
                    <a:pt x="3233" y="1720"/>
                  </a:lnTo>
                  <a:lnTo>
                    <a:pt x="3250" y="1732"/>
                  </a:lnTo>
                  <a:lnTo>
                    <a:pt x="3268" y="1749"/>
                  </a:lnTo>
                  <a:lnTo>
                    <a:pt x="3283" y="1767"/>
                  </a:lnTo>
                  <a:lnTo>
                    <a:pt x="3299" y="1788"/>
                  </a:lnTo>
                  <a:lnTo>
                    <a:pt x="3303" y="1798"/>
                  </a:lnTo>
                  <a:lnTo>
                    <a:pt x="3308" y="1809"/>
                  </a:lnTo>
                  <a:lnTo>
                    <a:pt x="3314" y="1821"/>
                  </a:lnTo>
                  <a:lnTo>
                    <a:pt x="3320" y="1833"/>
                  </a:lnTo>
                  <a:lnTo>
                    <a:pt x="3322" y="1844"/>
                  </a:lnTo>
                  <a:lnTo>
                    <a:pt x="3326" y="1856"/>
                  </a:lnTo>
                  <a:lnTo>
                    <a:pt x="3328" y="1868"/>
                  </a:lnTo>
                  <a:lnTo>
                    <a:pt x="3330" y="1881"/>
                  </a:lnTo>
                  <a:lnTo>
                    <a:pt x="3153" y="1817"/>
                  </a:lnTo>
                  <a:lnTo>
                    <a:pt x="3153" y="1738"/>
                  </a:lnTo>
                  <a:lnTo>
                    <a:pt x="3120" y="1720"/>
                  </a:lnTo>
                  <a:lnTo>
                    <a:pt x="3120" y="1689"/>
                  </a:lnTo>
                  <a:lnTo>
                    <a:pt x="3120" y="1738"/>
                  </a:lnTo>
                  <a:lnTo>
                    <a:pt x="3120" y="1817"/>
                  </a:lnTo>
                  <a:lnTo>
                    <a:pt x="3105" y="1817"/>
                  </a:lnTo>
                  <a:lnTo>
                    <a:pt x="3008" y="1738"/>
                  </a:lnTo>
                  <a:lnTo>
                    <a:pt x="2977" y="1720"/>
                  </a:lnTo>
                  <a:lnTo>
                    <a:pt x="2977" y="1608"/>
                  </a:lnTo>
                  <a:lnTo>
                    <a:pt x="2944" y="1656"/>
                  </a:lnTo>
                  <a:lnTo>
                    <a:pt x="2911" y="1689"/>
                  </a:lnTo>
                  <a:lnTo>
                    <a:pt x="2880" y="1689"/>
                  </a:lnTo>
                  <a:lnTo>
                    <a:pt x="2880" y="1495"/>
                  </a:lnTo>
                  <a:lnTo>
                    <a:pt x="2862" y="1513"/>
                  </a:lnTo>
                  <a:lnTo>
                    <a:pt x="2816" y="1513"/>
                  </a:lnTo>
                  <a:lnTo>
                    <a:pt x="2719" y="1447"/>
                  </a:lnTo>
                  <a:lnTo>
                    <a:pt x="2719" y="1431"/>
                  </a:lnTo>
                  <a:lnTo>
                    <a:pt x="2719" y="1400"/>
                  </a:lnTo>
                  <a:lnTo>
                    <a:pt x="2703" y="1400"/>
                  </a:lnTo>
                  <a:lnTo>
                    <a:pt x="2686" y="1528"/>
                  </a:lnTo>
                  <a:lnTo>
                    <a:pt x="2606" y="1513"/>
                  </a:lnTo>
                  <a:lnTo>
                    <a:pt x="2558" y="1400"/>
                  </a:lnTo>
                  <a:lnTo>
                    <a:pt x="2542" y="1352"/>
                  </a:lnTo>
                  <a:lnTo>
                    <a:pt x="2476" y="1400"/>
                  </a:lnTo>
                  <a:lnTo>
                    <a:pt x="2445" y="1367"/>
                  </a:lnTo>
                  <a:lnTo>
                    <a:pt x="2430" y="1319"/>
                  </a:lnTo>
                  <a:lnTo>
                    <a:pt x="2348" y="1400"/>
                  </a:lnTo>
                  <a:lnTo>
                    <a:pt x="2284" y="1431"/>
                  </a:lnTo>
                  <a:lnTo>
                    <a:pt x="2220" y="1303"/>
                  </a:lnTo>
                  <a:lnTo>
                    <a:pt x="2220" y="1464"/>
                  </a:lnTo>
                  <a:lnTo>
                    <a:pt x="2203" y="1495"/>
                  </a:lnTo>
                  <a:lnTo>
                    <a:pt x="2156" y="1431"/>
                  </a:lnTo>
                  <a:lnTo>
                    <a:pt x="2139" y="1431"/>
                  </a:lnTo>
                  <a:lnTo>
                    <a:pt x="2156" y="1319"/>
                  </a:lnTo>
                  <a:lnTo>
                    <a:pt x="2139" y="1303"/>
                  </a:lnTo>
                  <a:lnTo>
                    <a:pt x="2123" y="1400"/>
                  </a:lnTo>
                  <a:lnTo>
                    <a:pt x="2090" y="1464"/>
                  </a:lnTo>
                  <a:lnTo>
                    <a:pt x="1978" y="1303"/>
                  </a:lnTo>
                  <a:lnTo>
                    <a:pt x="1962" y="1239"/>
                  </a:lnTo>
                  <a:lnTo>
                    <a:pt x="1947" y="1288"/>
                  </a:lnTo>
                  <a:lnTo>
                    <a:pt x="1883" y="1319"/>
                  </a:lnTo>
                  <a:lnTo>
                    <a:pt x="1850" y="1319"/>
                  </a:lnTo>
                  <a:lnTo>
                    <a:pt x="1770" y="1222"/>
                  </a:lnTo>
                  <a:lnTo>
                    <a:pt x="1753" y="1352"/>
                  </a:lnTo>
                  <a:lnTo>
                    <a:pt x="1674" y="1303"/>
                  </a:lnTo>
                  <a:lnTo>
                    <a:pt x="1674" y="1319"/>
                  </a:lnTo>
                  <a:lnTo>
                    <a:pt x="1674" y="1352"/>
                  </a:lnTo>
                  <a:lnTo>
                    <a:pt x="1641" y="1544"/>
                  </a:lnTo>
                  <a:lnTo>
                    <a:pt x="1561" y="1464"/>
                  </a:lnTo>
                  <a:lnTo>
                    <a:pt x="1561" y="1431"/>
                  </a:lnTo>
                  <a:lnTo>
                    <a:pt x="1544" y="1431"/>
                  </a:lnTo>
                  <a:lnTo>
                    <a:pt x="1542" y="1443"/>
                  </a:lnTo>
                  <a:lnTo>
                    <a:pt x="1542" y="1454"/>
                  </a:lnTo>
                  <a:lnTo>
                    <a:pt x="1542" y="1466"/>
                  </a:lnTo>
                  <a:lnTo>
                    <a:pt x="1542" y="1478"/>
                  </a:lnTo>
                  <a:lnTo>
                    <a:pt x="1540" y="1489"/>
                  </a:lnTo>
                  <a:lnTo>
                    <a:pt x="1538" y="1503"/>
                  </a:lnTo>
                  <a:lnTo>
                    <a:pt x="1536" y="1517"/>
                  </a:lnTo>
                  <a:lnTo>
                    <a:pt x="1534" y="1530"/>
                  </a:lnTo>
                  <a:lnTo>
                    <a:pt x="1530" y="1542"/>
                  </a:lnTo>
                  <a:lnTo>
                    <a:pt x="1526" y="1553"/>
                  </a:lnTo>
                  <a:lnTo>
                    <a:pt x="1520" y="1567"/>
                  </a:lnTo>
                  <a:lnTo>
                    <a:pt x="1514" y="1582"/>
                  </a:lnTo>
                  <a:lnTo>
                    <a:pt x="1507" y="1594"/>
                  </a:lnTo>
                  <a:lnTo>
                    <a:pt x="1499" y="1610"/>
                  </a:lnTo>
                  <a:lnTo>
                    <a:pt x="1489" y="1623"/>
                  </a:lnTo>
                  <a:lnTo>
                    <a:pt x="1480" y="1641"/>
                  </a:lnTo>
                  <a:lnTo>
                    <a:pt x="1416" y="1608"/>
                  </a:lnTo>
                  <a:lnTo>
                    <a:pt x="1416" y="1577"/>
                  </a:lnTo>
                  <a:lnTo>
                    <a:pt x="1416" y="1561"/>
                  </a:lnTo>
                  <a:lnTo>
                    <a:pt x="1416" y="1464"/>
                  </a:lnTo>
                  <a:lnTo>
                    <a:pt x="1385" y="1561"/>
                  </a:lnTo>
                  <a:lnTo>
                    <a:pt x="1385" y="1608"/>
                  </a:lnTo>
                  <a:lnTo>
                    <a:pt x="1431" y="1689"/>
                  </a:lnTo>
                  <a:lnTo>
                    <a:pt x="1449" y="1720"/>
                  </a:lnTo>
                  <a:lnTo>
                    <a:pt x="1528" y="1625"/>
                  </a:lnTo>
                  <a:lnTo>
                    <a:pt x="1577" y="1577"/>
                  </a:lnTo>
                  <a:lnTo>
                    <a:pt x="1658" y="1592"/>
                  </a:lnTo>
                  <a:lnTo>
                    <a:pt x="1662" y="1604"/>
                  </a:lnTo>
                  <a:lnTo>
                    <a:pt x="1668" y="1617"/>
                  </a:lnTo>
                  <a:lnTo>
                    <a:pt x="1674" y="1629"/>
                  </a:lnTo>
                  <a:lnTo>
                    <a:pt x="1679" y="1643"/>
                  </a:lnTo>
                  <a:lnTo>
                    <a:pt x="1683" y="1654"/>
                  </a:lnTo>
                  <a:lnTo>
                    <a:pt x="1687" y="1668"/>
                  </a:lnTo>
                  <a:lnTo>
                    <a:pt x="1691" y="1679"/>
                  </a:lnTo>
                  <a:lnTo>
                    <a:pt x="1697" y="1693"/>
                  </a:lnTo>
                  <a:lnTo>
                    <a:pt x="1699" y="1705"/>
                  </a:lnTo>
                  <a:lnTo>
                    <a:pt x="1705" y="1716"/>
                  </a:lnTo>
                  <a:lnTo>
                    <a:pt x="1706" y="1728"/>
                  </a:lnTo>
                  <a:lnTo>
                    <a:pt x="1712" y="1741"/>
                  </a:lnTo>
                  <a:lnTo>
                    <a:pt x="1714" y="1753"/>
                  </a:lnTo>
                  <a:lnTo>
                    <a:pt x="1718" y="1765"/>
                  </a:lnTo>
                  <a:lnTo>
                    <a:pt x="1720" y="1776"/>
                  </a:lnTo>
                  <a:lnTo>
                    <a:pt x="1724" y="1790"/>
                  </a:lnTo>
                  <a:lnTo>
                    <a:pt x="1724" y="1802"/>
                  </a:lnTo>
                  <a:lnTo>
                    <a:pt x="1726" y="1813"/>
                  </a:lnTo>
                  <a:lnTo>
                    <a:pt x="1728" y="1825"/>
                  </a:lnTo>
                  <a:lnTo>
                    <a:pt x="1730" y="1837"/>
                  </a:lnTo>
                  <a:lnTo>
                    <a:pt x="1730" y="1848"/>
                  </a:lnTo>
                  <a:lnTo>
                    <a:pt x="1732" y="1860"/>
                  </a:lnTo>
                  <a:lnTo>
                    <a:pt x="1732" y="1871"/>
                  </a:lnTo>
                  <a:lnTo>
                    <a:pt x="1734" y="1883"/>
                  </a:lnTo>
                  <a:lnTo>
                    <a:pt x="1732" y="1895"/>
                  </a:lnTo>
                  <a:lnTo>
                    <a:pt x="1732" y="1906"/>
                  </a:lnTo>
                  <a:lnTo>
                    <a:pt x="1730" y="1918"/>
                  </a:lnTo>
                  <a:lnTo>
                    <a:pt x="1730" y="1930"/>
                  </a:lnTo>
                  <a:lnTo>
                    <a:pt x="1728" y="1941"/>
                  </a:lnTo>
                  <a:lnTo>
                    <a:pt x="1726" y="1953"/>
                  </a:lnTo>
                  <a:lnTo>
                    <a:pt x="1724" y="1965"/>
                  </a:lnTo>
                  <a:lnTo>
                    <a:pt x="1722" y="1978"/>
                  </a:lnTo>
                  <a:lnTo>
                    <a:pt x="1625" y="1947"/>
                  </a:lnTo>
                  <a:lnTo>
                    <a:pt x="1610" y="1914"/>
                  </a:lnTo>
                  <a:lnTo>
                    <a:pt x="1610" y="1817"/>
                  </a:lnTo>
                  <a:lnTo>
                    <a:pt x="1610" y="1769"/>
                  </a:lnTo>
                  <a:lnTo>
                    <a:pt x="1592" y="1769"/>
                  </a:lnTo>
                  <a:lnTo>
                    <a:pt x="1577" y="1881"/>
                  </a:lnTo>
                  <a:lnTo>
                    <a:pt x="1513" y="1978"/>
                  </a:lnTo>
                  <a:lnTo>
                    <a:pt x="1480" y="1947"/>
                  </a:lnTo>
                  <a:lnTo>
                    <a:pt x="1431" y="1769"/>
                  </a:lnTo>
                  <a:lnTo>
                    <a:pt x="1416" y="1881"/>
                  </a:lnTo>
                  <a:lnTo>
                    <a:pt x="1431" y="1914"/>
                  </a:lnTo>
                  <a:lnTo>
                    <a:pt x="1385" y="1994"/>
                  </a:lnTo>
                  <a:lnTo>
                    <a:pt x="1319" y="1947"/>
                  </a:lnTo>
                  <a:lnTo>
                    <a:pt x="1303" y="1947"/>
                  </a:lnTo>
                  <a:lnTo>
                    <a:pt x="1303" y="1689"/>
                  </a:lnTo>
                  <a:lnTo>
                    <a:pt x="1288" y="1705"/>
                  </a:lnTo>
                  <a:lnTo>
                    <a:pt x="1288" y="1786"/>
                  </a:lnTo>
                  <a:lnTo>
                    <a:pt x="1255" y="1947"/>
                  </a:lnTo>
                  <a:lnTo>
                    <a:pt x="1158" y="1881"/>
                  </a:lnTo>
                  <a:lnTo>
                    <a:pt x="1142" y="1866"/>
                  </a:lnTo>
                  <a:lnTo>
                    <a:pt x="1142" y="1753"/>
                  </a:lnTo>
                  <a:lnTo>
                    <a:pt x="1094" y="1802"/>
                  </a:lnTo>
                  <a:lnTo>
                    <a:pt x="1094" y="1786"/>
                  </a:lnTo>
                  <a:lnTo>
                    <a:pt x="1078" y="1769"/>
                  </a:lnTo>
                  <a:lnTo>
                    <a:pt x="1094" y="1689"/>
                  </a:lnTo>
                  <a:lnTo>
                    <a:pt x="1078" y="1641"/>
                  </a:lnTo>
                  <a:lnTo>
                    <a:pt x="1063" y="1656"/>
                  </a:lnTo>
                  <a:lnTo>
                    <a:pt x="1045" y="1753"/>
                  </a:lnTo>
                  <a:lnTo>
                    <a:pt x="999" y="1817"/>
                  </a:lnTo>
                  <a:lnTo>
                    <a:pt x="979" y="1804"/>
                  </a:lnTo>
                  <a:lnTo>
                    <a:pt x="968" y="1790"/>
                  </a:lnTo>
                  <a:lnTo>
                    <a:pt x="954" y="1774"/>
                  </a:lnTo>
                  <a:lnTo>
                    <a:pt x="948" y="1761"/>
                  </a:lnTo>
                  <a:lnTo>
                    <a:pt x="940" y="1745"/>
                  </a:lnTo>
                  <a:lnTo>
                    <a:pt x="937" y="1730"/>
                  </a:lnTo>
                  <a:lnTo>
                    <a:pt x="935" y="1714"/>
                  </a:lnTo>
                  <a:lnTo>
                    <a:pt x="935" y="1701"/>
                  </a:lnTo>
                  <a:lnTo>
                    <a:pt x="933" y="1683"/>
                  </a:lnTo>
                  <a:lnTo>
                    <a:pt x="933" y="1666"/>
                  </a:lnTo>
                  <a:lnTo>
                    <a:pt x="933" y="1648"/>
                  </a:lnTo>
                  <a:lnTo>
                    <a:pt x="935" y="1631"/>
                  </a:lnTo>
                  <a:lnTo>
                    <a:pt x="935" y="1613"/>
                  </a:lnTo>
                  <a:lnTo>
                    <a:pt x="935" y="1596"/>
                  </a:lnTo>
                  <a:lnTo>
                    <a:pt x="933" y="1579"/>
                  </a:lnTo>
                  <a:lnTo>
                    <a:pt x="933" y="1561"/>
                  </a:lnTo>
                  <a:lnTo>
                    <a:pt x="917" y="1544"/>
                  </a:lnTo>
                  <a:lnTo>
                    <a:pt x="917" y="1641"/>
                  </a:lnTo>
                  <a:lnTo>
                    <a:pt x="869" y="1738"/>
                  </a:lnTo>
                  <a:lnTo>
                    <a:pt x="838" y="1720"/>
                  </a:lnTo>
                  <a:lnTo>
                    <a:pt x="838" y="1464"/>
                  </a:lnTo>
                  <a:lnTo>
                    <a:pt x="820" y="1447"/>
                  </a:lnTo>
                  <a:lnTo>
                    <a:pt x="741" y="1625"/>
                  </a:lnTo>
                  <a:lnTo>
                    <a:pt x="677" y="1656"/>
                  </a:lnTo>
                  <a:lnTo>
                    <a:pt x="741" y="1464"/>
                  </a:lnTo>
                  <a:lnTo>
                    <a:pt x="725" y="1431"/>
                  </a:lnTo>
                  <a:lnTo>
                    <a:pt x="708" y="1431"/>
                  </a:lnTo>
                  <a:lnTo>
                    <a:pt x="696" y="1447"/>
                  </a:lnTo>
                  <a:lnTo>
                    <a:pt x="690" y="1464"/>
                  </a:lnTo>
                  <a:lnTo>
                    <a:pt x="683" y="1482"/>
                  </a:lnTo>
                  <a:lnTo>
                    <a:pt x="679" y="1499"/>
                  </a:lnTo>
                  <a:lnTo>
                    <a:pt x="673" y="1515"/>
                  </a:lnTo>
                  <a:lnTo>
                    <a:pt x="669" y="1532"/>
                  </a:lnTo>
                  <a:lnTo>
                    <a:pt x="665" y="1548"/>
                  </a:lnTo>
                  <a:lnTo>
                    <a:pt x="665" y="1565"/>
                  </a:lnTo>
                  <a:lnTo>
                    <a:pt x="661" y="1579"/>
                  </a:lnTo>
                  <a:lnTo>
                    <a:pt x="659" y="1596"/>
                  </a:lnTo>
                  <a:lnTo>
                    <a:pt x="659" y="1610"/>
                  </a:lnTo>
                  <a:lnTo>
                    <a:pt x="659" y="1627"/>
                  </a:lnTo>
                  <a:lnTo>
                    <a:pt x="659" y="1641"/>
                  </a:lnTo>
                  <a:lnTo>
                    <a:pt x="659" y="1658"/>
                  </a:lnTo>
                  <a:lnTo>
                    <a:pt x="659" y="1672"/>
                  </a:lnTo>
                  <a:lnTo>
                    <a:pt x="659" y="1689"/>
                  </a:lnTo>
                  <a:lnTo>
                    <a:pt x="708" y="1689"/>
                  </a:lnTo>
                  <a:lnTo>
                    <a:pt x="756" y="1656"/>
                  </a:lnTo>
                  <a:lnTo>
                    <a:pt x="805" y="1753"/>
                  </a:lnTo>
                  <a:lnTo>
                    <a:pt x="805" y="1769"/>
                  </a:lnTo>
                  <a:lnTo>
                    <a:pt x="838" y="1786"/>
                  </a:lnTo>
                  <a:lnTo>
                    <a:pt x="869" y="1786"/>
                  </a:lnTo>
                  <a:lnTo>
                    <a:pt x="869" y="1769"/>
                  </a:lnTo>
                  <a:lnTo>
                    <a:pt x="933" y="1833"/>
                  </a:lnTo>
                  <a:lnTo>
                    <a:pt x="981" y="1881"/>
                  </a:lnTo>
                  <a:lnTo>
                    <a:pt x="1030" y="1866"/>
                  </a:lnTo>
                  <a:lnTo>
                    <a:pt x="1063" y="1833"/>
                  </a:lnTo>
                  <a:lnTo>
                    <a:pt x="1078" y="1866"/>
                  </a:lnTo>
                  <a:lnTo>
                    <a:pt x="1239" y="1978"/>
                  </a:lnTo>
                  <a:lnTo>
                    <a:pt x="1288" y="1963"/>
                  </a:lnTo>
                  <a:lnTo>
                    <a:pt x="1497" y="2203"/>
                  </a:lnTo>
                  <a:lnTo>
                    <a:pt x="1513" y="2236"/>
                  </a:lnTo>
                  <a:lnTo>
                    <a:pt x="1561" y="2316"/>
                  </a:lnTo>
                  <a:lnTo>
                    <a:pt x="1497" y="2413"/>
                  </a:lnTo>
                  <a:lnTo>
                    <a:pt x="1480" y="2397"/>
                  </a:lnTo>
                  <a:close/>
                </a:path>
              </a:pathLst>
            </a:custGeom>
            <a:solidFill>
              <a:srgbClr val="3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92360" y="4581360"/>
              <a:ext cx="944280" cy="270720"/>
            </a:xfrm>
            <a:custGeom>
              <a:avLst/>
              <a:gdLst/>
              <a:ahLst/>
              <a:rect l="l" t="t" r="r" b="b"/>
              <a:pathLst>
                <a:path w="4521" h="2413">
                  <a:moveTo>
                    <a:pt x="1480" y="2397"/>
                  </a:moveTo>
                  <a:lnTo>
                    <a:pt x="1449" y="2364"/>
                  </a:lnTo>
                  <a:lnTo>
                    <a:pt x="1431" y="2316"/>
                  </a:lnTo>
                  <a:lnTo>
                    <a:pt x="1431" y="2252"/>
                  </a:lnTo>
                  <a:lnTo>
                    <a:pt x="1416" y="2236"/>
                  </a:lnTo>
                  <a:lnTo>
                    <a:pt x="1352" y="2333"/>
                  </a:lnTo>
                  <a:lnTo>
                    <a:pt x="1270" y="2252"/>
                  </a:lnTo>
                  <a:lnTo>
                    <a:pt x="1206" y="2124"/>
                  </a:lnTo>
                  <a:lnTo>
                    <a:pt x="1175" y="2188"/>
                  </a:lnTo>
                  <a:lnTo>
                    <a:pt x="1175" y="2252"/>
                  </a:lnTo>
                  <a:lnTo>
                    <a:pt x="1045" y="2172"/>
                  </a:lnTo>
                  <a:lnTo>
                    <a:pt x="1035" y="2158"/>
                  </a:lnTo>
                  <a:lnTo>
                    <a:pt x="1030" y="2147"/>
                  </a:lnTo>
                  <a:lnTo>
                    <a:pt x="1024" y="2135"/>
                  </a:lnTo>
                  <a:lnTo>
                    <a:pt x="1020" y="2124"/>
                  </a:lnTo>
                  <a:lnTo>
                    <a:pt x="1012" y="2102"/>
                  </a:lnTo>
                  <a:lnTo>
                    <a:pt x="1012" y="2083"/>
                  </a:lnTo>
                  <a:lnTo>
                    <a:pt x="1010" y="2071"/>
                  </a:lnTo>
                  <a:lnTo>
                    <a:pt x="1010" y="2060"/>
                  </a:lnTo>
                  <a:lnTo>
                    <a:pt x="1010" y="2048"/>
                  </a:lnTo>
                  <a:lnTo>
                    <a:pt x="1012" y="2038"/>
                  </a:lnTo>
                  <a:lnTo>
                    <a:pt x="1012" y="2027"/>
                  </a:lnTo>
                  <a:lnTo>
                    <a:pt x="1012" y="2015"/>
                  </a:lnTo>
                  <a:lnTo>
                    <a:pt x="1012" y="2003"/>
                  </a:lnTo>
                  <a:lnTo>
                    <a:pt x="1014" y="1994"/>
                  </a:lnTo>
                  <a:lnTo>
                    <a:pt x="999" y="1978"/>
                  </a:lnTo>
                  <a:lnTo>
                    <a:pt x="981" y="2011"/>
                  </a:lnTo>
                  <a:lnTo>
                    <a:pt x="981" y="2060"/>
                  </a:lnTo>
                  <a:lnTo>
                    <a:pt x="950" y="2106"/>
                  </a:lnTo>
                  <a:lnTo>
                    <a:pt x="884" y="2060"/>
                  </a:lnTo>
                  <a:lnTo>
                    <a:pt x="869" y="1914"/>
                  </a:lnTo>
                  <a:lnTo>
                    <a:pt x="853" y="1947"/>
                  </a:lnTo>
                  <a:lnTo>
                    <a:pt x="789" y="1994"/>
                  </a:lnTo>
                  <a:lnTo>
                    <a:pt x="789" y="1963"/>
                  </a:lnTo>
                  <a:lnTo>
                    <a:pt x="756" y="1914"/>
                  </a:lnTo>
                  <a:lnTo>
                    <a:pt x="708" y="1978"/>
                  </a:lnTo>
                  <a:lnTo>
                    <a:pt x="659" y="1978"/>
                  </a:lnTo>
                  <a:lnTo>
                    <a:pt x="659" y="1947"/>
                  </a:lnTo>
                  <a:lnTo>
                    <a:pt x="659" y="1769"/>
                  </a:lnTo>
                  <a:lnTo>
                    <a:pt x="580" y="1833"/>
                  </a:lnTo>
                  <a:lnTo>
                    <a:pt x="498" y="1769"/>
                  </a:lnTo>
                  <a:lnTo>
                    <a:pt x="498" y="1738"/>
                  </a:lnTo>
                  <a:lnTo>
                    <a:pt x="516" y="1561"/>
                  </a:lnTo>
                  <a:lnTo>
                    <a:pt x="498" y="1561"/>
                  </a:lnTo>
                  <a:lnTo>
                    <a:pt x="452" y="1674"/>
                  </a:lnTo>
                  <a:lnTo>
                    <a:pt x="419" y="1705"/>
                  </a:lnTo>
                  <a:lnTo>
                    <a:pt x="403" y="1689"/>
                  </a:lnTo>
                  <a:lnTo>
                    <a:pt x="403" y="1464"/>
                  </a:lnTo>
                  <a:lnTo>
                    <a:pt x="370" y="1513"/>
                  </a:lnTo>
                  <a:lnTo>
                    <a:pt x="355" y="1656"/>
                  </a:lnTo>
                  <a:lnTo>
                    <a:pt x="322" y="1705"/>
                  </a:lnTo>
                  <a:lnTo>
                    <a:pt x="225" y="1592"/>
                  </a:lnTo>
                  <a:lnTo>
                    <a:pt x="225" y="1513"/>
                  </a:lnTo>
                  <a:lnTo>
                    <a:pt x="161" y="1513"/>
                  </a:lnTo>
                  <a:lnTo>
                    <a:pt x="81" y="1544"/>
                  </a:lnTo>
                  <a:lnTo>
                    <a:pt x="81" y="1383"/>
                  </a:lnTo>
                  <a:lnTo>
                    <a:pt x="130" y="1303"/>
                  </a:lnTo>
                  <a:lnTo>
                    <a:pt x="0" y="1303"/>
                  </a:lnTo>
                  <a:lnTo>
                    <a:pt x="97" y="1127"/>
                  </a:lnTo>
                  <a:lnTo>
                    <a:pt x="242" y="1094"/>
                  </a:lnTo>
                  <a:lnTo>
                    <a:pt x="194" y="1030"/>
                  </a:lnTo>
                  <a:lnTo>
                    <a:pt x="178" y="1014"/>
                  </a:lnTo>
                  <a:lnTo>
                    <a:pt x="161" y="966"/>
                  </a:lnTo>
                  <a:lnTo>
                    <a:pt x="161" y="917"/>
                  </a:lnTo>
                  <a:lnTo>
                    <a:pt x="178" y="917"/>
                  </a:lnTo>
                  <a:lnTo>
                    <a:pt x="322" y="933"/>
                  </a:lnTo>
                  <a:lnTo>
                    <a:pt x="337" y="900"/>
                  </a:lnTo>
                  <a:lnTo>
                    <a:pt x="273" y="772"/>
                  </a:lnTo>
                  <a:lnTo>
                    <a:pt x="273" y="741"/>
                  </a:lnTo>
                  <a:lnTo>
                    <a:pt x="291" y="741"/>
                  </a:lnTo>
                  <a:lnTo>
                    <a:pt x="419" y="756"/>
                  </a:lnTo>
                  <a:lnTo>
                    <a:pt x="419" y="741"/>
                  </a:lnTo>
                  <a:lnTo>
                    <a:pt x="403" y="723"/>
                  </a:lnTo>
                  <a:lnTo>
                    <a:pt x="370" y="692"/>
                  </a:lnTo>
                  <a:lnTo>
                    <a:pt x="337" y="628"/>
                  </a:lnTo>
                  <a:lnTo>
                    <a:pt x="351" y="622"/>
                  </a:lnTo>
                  <a:lnTo>
                    <a:pt x="364" y="621"/>
                  </a:lnTo>
                  <a:lnTo>
                    <a:pt x="378" y="621"/>
                  </a:lnTo>
                  <a:lnTo>
                    <a:pt x="394" y="621"/>
                  </a:lnTo>
                  <a:lnTo>
                    <a:pt x="407" y="621"/>
                  </a:lnTo>
                  <a:lnTo>
                    <a:pt x="421" y="621"/>
                  </a:lnTo>
                  <a:lnTo>
                    <a:pt x="434" y="622"/>
                  </a:lnTo>
                  <a:lnTo>
                    <a:pt x="448" y="626"/>
                  </a:lnTo>
                  <a:lnTo>
                    <a:pt x="459" y="628"/>
                  </a:lnTo>
                  <a:lnTo>
                    <a:pt x="471" y="632"/>
                  </a:lnTo>
                  <a:lnTo>
                    <a:pt x="483" y="638"/>
                  </a:lnTo>
                  <a:lnTo>
                    <a:pt x="496" y="644"/>
                  </a:lnTo>
                  <a:lnTo>
                    <a:pt x="508" y="650"/>
                  </a:lnTo>
                  <a:lnTo>
                    <a:pt x="522" y="657"/>
                  </a:lnTo>
                  <a:lnTo>
                    <a:pt x="533" y="665"/>
                  </a:lnTo>
                  <a:lnTo>
                    <a:pt x="547" y="675"/>
                  </a:lnTo>
                  <a:lnTo>
                    <a:pt x="564" y="723"/>
                  </a:lnTo>
                  <a:lnTo>
                    <a:pt x="595" y="723"/>
                  </a:lnTo>
                  <a:lnTo>
                    <a:pt x="580" y="675"/>
                  </a:lnTo>
                  <a:lnTo>
                    <a:pt x="580" y="628"/>
                  </a:lnTo>
                  <a:lnTo>
                    <a:pt x="564" y="611"/>
                  </a:lnTo>
                  <a:lnTo>
                    <a:pt x="547" y="595"/>
                  </a:lnTo>
                  <a:lnTo>
                    <a:pt x="564" y="562"/>
                  </a:lnTo>
                  <a:lnTo>
                    <a:pt x="756" y="580"/>
                  </a:lnTo>
                  <a:lnTo>
                    <a:pt x="756" y="547"/>
                  </a:lnTo>
                  <a:lnTo>
                    <a:pt x="677" y="467"/>
                  </a:lnTo>
                  <a:lnTo>
                    <a:pt x="708" y="419"/>
                  </a:lnTo>
                  <a:lnTo>
                    <a:pt x="756" y="419"/>
                  </a:lnTo>
                  <a:lnTo>
                    <a:pt x="902" y="450"/>
                  </a:lnTo>
                  <a:lnTo>
                    <a:pt x="1014" y="547"/>
                  </a:lnTo>
                  <a:lnTo>
                    <a:pt x="1063" y="337"/>
                  </a:lnTo>
                  <a:lnTo>
                    <a:pt x="1094" y="450"/>
                  </a:lnTo>
                  <a:lnTo>
                    <a:pt x="1111" y="450"/>
                  </a:lnTo>
                  <a:lnTo>
                    <a:pt x="1111" y="386"/>
                  </a:lnTo>
                  <a:lnTo>
                    <a:pt x="1191" y="450"/>
                  </a:lnTo>
                  <a:lnTo>
                    <a:pt x="1206" y="498"/>
                  </a:lnTo>
                  <a:lnTo>
                    <a:pt x="1336" y="258"/>
                  </a:lnTo>
                  <a:lnTo>
                    <a:pt x="1344" y="269"/>
                  </a:lnTo>
                  <a:lnTo>
                    <a:pt x="1352" y="281"/>
                  </a:lnTo>
                  <a:lnTo>
                    <a:pt x="1357" y="293"/>
                  </a:lnTo>
                  <a:lnTo>
                    <a:pt x="1365" y="304"/>
                  </a:lnTo>
                  <a:lnTo>
                    <a:pt x="1369" y="316"/>
                  </a:lnTo>
                  <a:lnTo>
                    <a:pt x="1375" y="328"/>
                  </a:lnTo>
                  <a:lnTo>
                    <a:pt x="1381" y="339"/>
                  </a:lnTo>
                  <a:lnTo>
                    <a:pt x="1386" y="353"/>
                  </a:lnTo>
                  <a:lnTo>
                    <a:pt x="1390" y="365"/>
                  </a:lnTo>
                  <a:lnTo>
                    <a:pt x="1394" y="376"/>
                  </a:lnTo>
                  <a:lnTo>
                    <a:pt x="1398" y="388"/>
                  </a:lnTo>
                  <a:lnTo>
                    <a:pt x="1402" y="401"/>
                  </a:lnTo>
                  <a:lnTo>
                    <a:pt x="1404" y="413"/>
                  </a:lnTo>
                  <a:lnTo>
                    <a:pt x="1408" y="425"/>
                  </a:lnTo>
                  <a:lnTo>
                    <a:pt x="1412" y="436"/>
                  </a:lnTo>
                  <a:lnTo>
                    <a:pt x="1416" y="450"/>
                  </a:lnTo>
                  <a:lnTo>
                    <a:pt x="1431" y="434"/>
                  </a:lnTo>
                  <a:lnTo>
                    <a:pt x="1674" y="434"/>
                  </a:lnTo>
                  <a:lnTo>
                    <a:pt x="1753" y="273"/>
                  </a:lnTo>
                  <a:lnTo>
                    <a:pt x="1817" y="306"/>
                  </a:lnTo>
                  <a:lnTo>
                    <a:pt x="1850" y="337"/>
                  </a:lnTo>
                  <a:lnTo>
                    <a:pt x="1866" y="355"/>
                  </a:lnTo>
                  <a:lnTo>
                    <a:pt x="1898" y="355"/>
                  </a:lnTo>
                  <a:lnTo>
                    <a:pt x="1914" y="322"/>
                  </a:lnTo>
                  <a:lnTo>
                    <a:pt x="1978" y="306"/>
                  </a:lnTo>
                  <a:lnTo>
                    <a:pt x="1930" y="194"/>
                  </a:lnTo>
                  <a:lnTo>
                    <a:pt x="2059" y="176"/>
                  </a:lnTo>
                  <a:lnTo>
                    <a:pt x="2269" y="240"/>
                  </a:lnTo>
                  <a:lnTo>
                    <a:pt x="2300" y="145"/>
                  </a:lnTo>
                  <a:lnTo>
                    <a:pt x="2333" y="112"/>
                  </a:lnTo>
                  <a:lnTo>
                    <a:pt x="2364" y="97"/>
                  </a:lnTo>
                  <a:lnTo>
                    <a:pt x="2379" y="103"/>
                  </a:lnTo>
                  <a:lnTo>
                    <a:pt x="2393" y="116"/>
                  </a:lnTo>
                  <a:lnTo>
                    <a:pt x="2405" y="130"/>
                  </a:lnTo>
                  <a:lnTo>
                    <a:pt x="2416" y="147"/>
                  </a:lnTo>
                  <a:lnTo>
                    <a:pt x="2424" y="165"/>
                  </a:lnTo>
                  <a:lnTo>
                    <a:pt x="2432" y="186"/>
                  </a:lnTo>
                  <a:lnTo>
                    <a:pt x="2438" y="204"/>
                  </a:lnTo>
                  <a:lnTo>
                    <a:pt x="2445" y="225"/>
                  </a:lnTo>
                  <a:lnTo>
                    <a:pt x="2461" y="240"/>
                  </a:lnTo>
                  <a:lnTo>
                    <a:pt x="2476" y="258"/>
                  </a:lnTo>
                  <a:lnTo>
                    <a:pt x="2509" y="258"/>
                  </a:lnTo>
                  <a:lnTo>
                    <a:pt x="2573" y="225"/>
                  </a:lnTo>
                  <a:lnTo>
                    <a:pt x="2558" y="194"/>
                  </a:lnTo>
                  <a:lnTo>
                    <a:pt x="2525" y="128"/>
                  </a:lnTo>
                  <a:lnTo>
                    <a:pt x="2494" y="81"/>
                  </a:lnTo>
                  <a:lnTo>
                    <a:pt x="2637" y="64"/>
                  </a:lnTo>
                  <a:lnTo>
                    <a:pt x="2750" y="145"/>
                  </a:lnTo>
                  <a:lnTo>
                    <a:pt x="2783" y="112"/>
                  </a:lnTo>
                  <a:lnTo>
                    <a:pt x="2847" y="64"/>
                  </a:lnTo>
                  <a:lnTo>
                    <a:pt x="2911" y="0"/>
                  </a:lnTo>
                  <a:lnTo>
                    <a:pt x="2944" y="0"/>
                  </a:lnTo>
                  <a:lnTo>
                    <a:pt x="3008" y="0"/>
                  </a:lnTo>
                  <a:lnTo>
                    <a:pt x="2944" y="194"/>
                  </a:lnTo>
                  <a:lnTo>
                    <a:pt x="2992" y="209"/>
                  </a:lnTo>
                  <a:lnTo>
                    <a:pt x="3006" y="196"/>
                  </a:lnTo>
                  <a:lnTo>
                    <a:pt x="3021" y="184"/>
                  </a:lnTo>
                  <a:lnTo>
                    <a:pt x="3035" y="174"/>
                  </a:lnTo>
                  <a:lnTo>
                    <a:pt x="3050" y="167"/>
                  </a:lnTo>
                  <a:lnTo>
                    <a:pt x="3066" y="155"/>
                  </a:lnTo>
                  <a:lnTo>
                    <a:pt x="3082" y="147"/>
                  </a:lnTo>
                  <a:lnTo>
                    <a:pt x="3097" y="141"/>
                  </a:lnTo>
                  <a:lnTo>
                    <a:pt x="3114" y="136"/>
                  </a:lnTo>
                  <a:lnTo>
                    <a:pt x="3130" y="130"/>
                  </a:lnTo>
                  <a:lnTo>
                    <a:pt x="3146" y="124"/>
                  </a:lnTo>
                  <a:lnTo>
                    <a:pt x="3161" y="120"/>
                  </a:lnTo>
                  <a:lnTo>
                    <a:pt x="3178" y="118"/>
                  </a:lnTo>
                  <a:lnTo>
                    <a:pt x="3196" y="114"/>
                  </a:lnTo>
                  <a:lnTo>
                    <a:pt x="3213" y="112"/>
                  </a:lnTo>
                  <a:lnTo>
                    <a:pt x="3231" y="112"/>
                  </a:lnTo>
                  <a:lnTo>
                    <a:pt x="3250" y="112"/>
                  </a:lnTo>
                  <a:lnTo>
                    <a:pt x="3217" y="240"/>
                  </a:lnTo>
                  <a:lnTo>
                    <a:pt x="3184" y="273"/>
                  </a:lnTo>
                  <a:lnTo>
                    <a:pt x="3281" y="194"/>
                  </a:lnTo>
                  <a:lnTo>
                    <a:pt x="3281" y="128"/>
                  </a:lnTo>
                  <a:lnTo>
                    <a:pt x="3314" y="81"/>
                  </a:lnTo>
                  <a:lnTo>
                    <a:pt x="3330" y="64"/>
                  </a:lnTo>
                  <a:lnTo>
                    <a:pt x="3345" y="64"/>
                  </a:lnTo>
                  <a:lnTo>
                    <a:pt x="3409" y="81"/>
                  </a:lnTo>
                  <a:lnTo>
                    <a:pt x="3409" y="161"/>
                  </a:lnTo>
                  <a:lnTo>
                    <a:pt x="3442" y="176"/>
                  </a:lnTo>
                  <a:lnTo>
                    <a:pt x="3456" y="163"/>
                  </a:lnTo>
                  <a:lnTo>
                    <a:pt x="3469" y="153"/>
                  </a:lnTo>
                  <a:lnTo>
                    <a:pt x="3483" y="141"/>
                  </a:lnTo>
                  <a:lnTo>
                    <a:pt x="3498" y="136"/>
                  </a:lnTo>
                  <a:lnTo>
                    <a:pt x="3512" y="128"/>
                  </a:lnTo>
                  <a:lnTo>
                    <a:pt x="3526" y="122"/>
                  </a:lnTo>
                  <a:lnTo>
                    <a:pt x="3539" y="116"/>
                  </a:lnTo>
                  <a:lnTo>
                    <a:pt x="3555" y="112"/>
                  </a:lnTo>
                  <a:lnTo>
                    <a:pt x="3566" y="107"/>
                  </a:lnTo>
                  <a:lnTo>
                    <a:pt x="3580" y="105"/>
                  </a:lnTo>
                  <a:lnTo>
                    <a:pt x="3594" y="101"/>
                  </a:lnTo>
                  <a:lnTo>
                    <a:pt x="3607" y="99"/>
                  </a:lnTo>
                  <a:lnTo>
                    <a:pt x="3621" y="97"/>
                  </a:lnTo>
                  <a:lnTo>
                    <a:pt x="3636" y="97"/>
                  </a:lnTo>
                  <a:lnTo>
                    <a:pt x="3650" y="97"/>
                  </a:lnTo>
                  <a:lnTo>
                    <a:pt x="3667" y="97"/>
                  </a:lnTo>
                  <a:lnTo>
                    <a:pt x="3700" y="112"/>
                  </a:lnTo>
                  <a:lnTo>
                    <a:pt x="3619" y="322"/>
                  </a:lnTo>
                  <a:lnTo>
                    <a:pt x="3630" y="308"/>
                  </a:lnTo>
                  <a:lnTo>
                    <a:pt x="3642" y="297"/>
                  </a:lnTo>
                  <a:lnTo>
                    <a:pt x="3654" y="285"/>
                  </a:lnTo>
                  <a:lnTo>
                    <a:pt x="3669" y="275"/>
                  </a:lnTo>
                  <a:lnTo>
                    <a:pt x="3681" y="264"/>
                  </a:lnTo>
                  <a:lnTo>
                    <a:pt x="3696" y="256"/>
                  </a:lnTo>
                  <a:lnTo>
                    <a:pt x="3710" y="246"/>
                  </a:lnTo>
                  <a:lnTo>
                    <a:pt x="3725" y="240"/>
                  </a:lnTo>
                  <a:lnTo>
                    <a:pt x="3737" y="233"/>
                  </a:lnTo>
                  <a:lnTo>
                    <a:pt x="3753" y="227"/>
                  </a:lnTo>
                  <a:lnTo>
                    <a:pt x="3766" y="221"/>
                  </a:lnTo>
                  <a:lnTo>
                    <a:pt x="3782" y="217"/>
                  </a:lnTo>
                  <a:lnTo>
                    <a:pt x="3795" y="211"/>
                  </a:lnTo>
                  <a:lnTo>
                    <a:pt x="3813" y="209"/>
                  </a:lnTo>
                  <a:lnTo>
                    <a:pt x="3826" y="209"/>
                  </a:lnTo>
                  <a:lnTo>
                    <a:pt x="3844" y="209"/>
                  </a:lnTo>
                  <a:lnTo>
                    <a:pt x="3956" y="209"/>
                  </a:lnTo>
                  <a:lnTo>
                    <a:pt x="3956" y="289"/>
                  </a:lnTo>
                  <a:lnTo>
                    <a:pt x="3925" y="370"/>
                  </a:lnTo>
                  <a:lnTo>
                    <a:pt x="3956" y="337"/>
                  </a:lnTo>
                  <a:lnTo>
                    <a:pt x="4199" y="289"/>
                  </a:lnTo>
                  <a:lnTo>
                    <a:pt x="4199" y="306"/>
                  </a:lnTo>
                  <a:lnTo>
                    <a:pt x="4199" y="337"/>
                  </a:lnTo>
                  <a:lnTo>
                    <a:pt x="4135" y="450"/>
                  </a:lnTo>
                  <a:lnTo>
                    <a:pt x="4342" y="450"/>
                  </a:lnTo>
                  <a:lnTo>
                    <a:pt x="4263" y="595"/>
                  </a:lnTo>
                  <a:lnTo>
                    <a:pt x="4408" y="659"/>
                  </a:lnTo>
                  <a:lnTo>
                    <a:pt x="4342" y="741"/>
                  </a:lnTo>
                  <a:lnTo>
                    <a:pt x="4296" y="756"/>
                  </a:lnTo>
                  <a:lnTo>
                    <a:pt x="4278" y="772"/>
                  </a:lnTo>
                  <a:lnTo>
                    <a:pt x="4311" y="772"/>
                  </a:lnTo>
                  <a:lnTo>
                    <a:pt x="4327" y="772"/>
                  </a:lnTo>
                  <a:lnTo>
                    <a:pt x="4375" y="772"/>
                  </a:lnTo>
                  <a:lnTo>
                    <a:pt x="4455" y="820"/>
                  </a:lnTo>
                  <a:lnTo>
                    <a:pt x="4503" y="900"/>
                  </a:lnTo>
                  <a:lnTo>
                    <a:pt x="4521" y="917"/>
                  </a:lnTo>
                  <a:lnTo>
                    <a:pt x="4455" y="966"/>
                  </a:lnTo>
                  <a:lnTo>
                    <a:pt x="4342" y="997"/>
                  </a:lnTo>
                  <a:lnTo>
                    <a:pt x="4296" y="1030"/>
                  </a:lnTo>
                  <a:lnTo>
                    <a:pt x="4408" y="1094"/>
                  </a:lnTo>
                  <a:lnTo>
                    <a:pt x="4408" y="1109"/>
                  </a:lnTo>
                  <a:lnTo>
                    <a:pt x="4408" y="1142"/>
                  </a:lnTo>
                  <a:lnTo>
                    <a:pt x="4342" y="1222"/>
                  </a:lnTo>
                  <a:lnTo>
                    <a:pt x="4327" y="1239"/>
                  </a:lnTo>
                  <a:lnTo>
                    <a:pt x="4263" y="1239"/>
                  </a:lnTo>
                  <a:lnTo>
                    <a:pt x="4150" y="1239"/>
                  </a:lnTo>
                  <a:lnTo>
                    <a:pt x="4135" y="1142"/>
                  </a:lnTo>
                  <a:lnTo>
                    <a:pt x="4038" y="1061"/>
                  </a:lnTo>
                  <a:lnTo>
                    <a:pt x="3974" y="1045"/>
                  </a:lnTo>
                  <a:lnTo>
                    <a:pt x="3956" y="1061"/>
                  </a:lnTo>
                  <a:lnTo>
                    <a:pt x="3989" y="1078"/>
                  </a:lnTo>
                  <a:lnTo>
                    <a:pt x="4102" y="1191"/>
                  </a:lnTo>
                  <a:lnTo>
                    <a:pt x="4117" y="1255"/>
                  </a:lnTo>
                  <a:lnTo>
                    <a:pt x="3877" y="1158"/>
                  </a:lnTo>
                  <a:lnTo>
                    <a:pt x="3877" y="1173"/>
                  </a:lnTo>
                  <a:lnTo>
                    <a:pt x="4022" y="1255"/>
                  </a:lnTo>
                  <a:lnTo>
                    <a:pt x="4069" y="1352"/>
                  </a:lnTo>
                  <a:lnTo>
                    <a:pt x="4069" y="1367"/>
                  </a:lnTo>
                  <a:lnTo>
                    <a:pt x="4053" y="1400"/>
                  </a:lnTo>
                  <a:lnTo>
                    <a:pt x="3925" y="1400"/>
                  </a:lnTo>
                  <a:lnTo>
                    <a:pt x="3892" y="1383"/>
                  </a:lnTo>
                  <a:lnTo>
                    <a:pt x="3780" y="1319"/>
                  </a:lnTo>
                  <a:lnTo>
                    <a:pt x="3780" y="1334"/>
                  </a:lnTo>
                  <a:lnTo>
                    <a:pt x="3828" y="1367"/>
                  </a:lnTo>
                  <a:lnTo>
                    <a:pt x="3910" y="1431"/>
                  </a:lnTo>
                  <a:lnTo>
                    <a:pt x="3925" y="1528"/>
                  </a:lnTo>
                  <a:lnTo>
                    <a:pt x="3861" y="1513"/>
                  </a:lnTo>
                  <a:lnTo>
                    <a:pt x="3716" y="1447"/>
                  </a:lnTo>
                  <a:lnTo>
                    <a:pt x="3764" y="1480"/>
                  </a:lnTo>
                  <a:lnTo>
                    <a:pt x="3844" y="1528"/>
                  </a:lnTo>
                  <a:lnTo>
                    <a:pt x="3861" y="1656"/>
                  </a:lnTo>
                  <a:lnTo>
                    <a:pt x="3716" y="1608"/>
                  </a:lnTo>
                  <a:lnTo>
                    <a:pt x="3764" y="1641"/>
                  </a:lnTo>
                  <a:lnTo>
                    <a:pt x="3731" y="1656"/>
                  </a:lnTo>
                  <a:lnTo>
                    <a:pt x="3700" y="1641"/>
                  </a:lnTo>
                  <a:lnTo>
                    <a:pt x="3667" y="1608"/>
                  </a:lnTo>
                  <a:lnTo>
                    <a:pt x="3555" y="1528"/>
                  </a:lnTo>
                  <a:lnTo>
                    <a:pt x="3667" y="1641"/>
                  </a:lnTo>
                  <a:lnTo>
                    <a:pt x="3667" y="1656"/>
                  </a:lnTo>
                  <a:lnTo>
                    <a:pt x="3700" y="1786"/>
                  </a:lnTo>
                  <a:lnTo>
                    <a:pt x="3619" y="1769"/>
                  </a:lnTo>
                  <a:lnTo>
                    <a:pt x="3570" y="1738"/>
                  </a:lnTo>
                  <a:lnTo>
                    <a:pt x="3555" y="1656"/>
                  </a:lnTo>
                  <a:lnTo>
                    <a:pt x="3555" y="1674"/>
                  </a:lnTo>
                  <a:lnTo>
                    <a:pt x="3491" y="1656"/>
                  </a:lnTo>
                  <a:lnTo>
                    <a:pt x="3555" y="1738"/>
                  </a:lnTo>
                  <a:lnTo>
                    <a:pt x="3555" y="1866"/>
                  </a:lnTo>
                  <a:lnTo>
                    <a:pt x="3458" y="1817"/>
                  </a:lnTo>
                  <a:lnTo>
                    <a:pt x="3442" y="1738"/>
                  </a:lnTo>
                  <a:lnTo>
                    <a:pt x="3442" y="1769"/>
                  </a:lnTo>
                  <a:lnTo>
                    <a:pt x="3378" y="1738"/>
                  </a:lnTo>
                  <a:lnTo>
                    <a:pt x="3378" y="1753"/>
                  </a:lnTo>
                  <a:lnTo>
                    <a:pt x="3442" y="1817"/>
                  </a:lnTo>
                  <a:lnTo>
                    <a:pt x="3442" y="1833"/>
                  </a:lnTo>
                  <a:lnTo>
                    <a:pt x="3442" y="1899"/>
                  </a:lnTo>
                  <a:lnTo>
                    <a:pt x="3345" y="1850"/>
                  </a:lnTo>
                  <a:lnTo>
                    <a:pt x="3345" y="1817"/>
                  </a:lnTo>
                  <a:lnTo>
                    <a:pt x="3314" y="1769"/>
                  </a:lnTo>
                  <a:lnTo>
                    <a:pt x="3281" y="1738"/>
                  </a:lnTo>
                  <a:lnTo>
                    <a:pt x="3233" y="1720"/>
                  </a:lnTo>
                  <a:lnTo>
                    <a:pt x="3250" y="1732"/>
                  </a:lnTo>
                  <a:lnTo>
                    <a:pt x="3268" y="1749"/>
                  </a:lnTo>
                  <a:lnTo>
                    <a:pt x="3283" y="1767"/>
                  </a:lnTo>
                  <a:lnTo>
                    <a:pt x="3299" y="1788"/>
                  </a:lnTo>
                  <a:lnTo>
                    <a:pt x="3303" y="1798"/>
                  </a:lnTo>
                  <a:lnTo>
                    <a:pt x="3308" y="1809"/>
                  </a:lnTo>
                  <a:lnTo>
                    <a:pt x="3314" y="1821"/>
                  </a:lnTo>
                  <a:lnTo>
                    <a:pt x="3320" y="1833"/>
                  </a:lnTo>
                  <a:lnTo>
                    <a:pt x="3322" y="1844"/>
                  </a:lnTo>
                  <a:lnTo>
                    <a:pt x="3326" y="1856"/>
                  </a:lnTo>
                  <a:lnTo>
                    <a:pt x="3328" y="1868"/>
                  </a:lnTo>
                  <a:lnTo>
                    <a:pt x="3330" y="1881"/>
                  </a:lnTo>
                  <a:lnTo>
                    <a:pt x="3153" y="1817"/>
                  </a:lnTo>
                  <a:lnTo>
                    <a:pt x="3153" y="1738"/>
                  </a:lnTo>
                  <a:lnTo>
                    <a:pt x="3120" y="1720"/>
                  </a:lnTo>
                  <a:lnTo>
                    <a:pt x="3120" y="1689"/>
                  </a:lnTo>
                  <a:lnTo>
                    <a:pt x="3120" y="1738"/>
                  </a:lnTo>
                  <a:lnTo>
                    <a:pt x="3120" y="1817"/>
                  </a:lnTo>
                  <a:lnTo>
                    <a:pt x="3105" y="1817"/>
                  </a:lnTo>
                  <a:lnTo>
                    <a:pt x="3008" y="1738"/>
                  </a:lnTo>
                  <a:lnTo>
                    <a:pt x="2977" y="1720"/>
                  </a:lnTo>
                  <a:lnTo>
                    <a:pt x="2977" y="1608"/>
                  </a:lnTo>
                  <a:lnTo>
                    <a:pt x="2944" y="1656"/>
                  </a:lnTo>
                  <a:lnTo>
                    <a:pt x="2911" y="1689"/>
                  </a:lnTo>
                  <a:lnTo>
                    <a:pt x="2880" y="1689"/>
                  </a:lnTo>
                  <a:lnTo>
                    <a:pt x="2880" y="1495"/>
                  </a:lnTo>
                  <a:lnTo>
                    <a:pt x="2862" y="1513"/>
                  </a:lnTo>
                  <a:lnTo>
                    <a:pt x="2816" y="1513"/>
                  </a:lnTo>
                  <a:lnTo>
                    <a:pt x="2719" y="1447"/>
                  </a:lnTo>
                  <a:lnTo>
                    <a:pt x="2719" y="1431"/>
                  </a:lnTo>
                  <a:lnTo>
                    <a:pt x="2719" y="1400"/>
                  </a:lnTo>
                  <a:lnTo>
                    <a:pt x="2703" y="1400"/>
                  </a:lnTo>
                  <a:lnTo>
                    <a:pt x="2686" y="1528"/>
                  </a:lnTo>
                  <a:lnTo>
                    <a:pt x="2606" y="1513"/>
                  </a:lnTo>
                  <a:lnTo>
                    <a:pt x="2558" y="1400"/>
                  </a:lnTo>
                  <a:lnTo>
                    <a:pt x="2542" y="1352"/>
                  </a:lnTo>
                  <a:lnTo>
                    <a:pt x="2476" y="1400"/>
                  </a:lnTo>
                  <a:lnTo>
                    <a:pt x="2445" y="1367"/>
                  </a:lnTo>
                  <a:lnTo>
                    <a:pt x="2430" y="1319"/>
                  </a:lnTo>
                  <a:lnTo>
                    <a:pt x="2348" y="1400"/>
                  </a:lnTo>
                  <a:lnTo>
                    <a:pt x="2284" y="1431"/>
                  </a:lnTo>
                  <a:lnTo>
                    <a:pt x="2220" y="1303"/>
                  </a:lnTo>
                  <a:lnTo>
                    <a:pt x="2220" y="1464"/>
                  </a:lnTo>
                  <a:lnTo>
                    <a:pt x="2203" y="1495"/>
                  </a:lnTo>
                  <a:lnTo>
                    <a:pt x="2156" y="1431"/>
                  </a:lnTo>
                  <a:lnTo>
                    <a:pt x="2139" y="1431"/>
                  </a:lnTo>
                  <a:lnTo>
                    <a:pt x="2156" y="1319"/>
                  </a:lnTo>
                  <a:lnTo>
                    <a:pt x="2139" y="1303"/>
                  </a:lnTo>
                  <a:lnTo>
                    <a:pt x="2123" y="1400"/>
                  </a:lnTo>
                  <a:lnTo>
                    <a:pt x="2090" y="1464"/>
                  </a:lnTo>
                  <a:lnTo>
                    <a:pt x="1978" y="1303"/>
                  </a:lnTo>
                  <a:lnTo>
                    <a:pt x="1962" y="1239"/>
                  </a:lnTo>
                  <a:lnTo>
                    <a:pt x="1947" y="1288"/>
                  </a:lnTo>
                  <a:lnTo>
                    <a:pt x="1883" y="1319"/>
                  </a:lnTo>
                  <a:lnTo>
                    <a:pt x="1850" y="1319"/>
                  </a:lnTo>
                  <a:lnTo>
                    <a:pt x="1770" y="1222"/>
                  </a:lnTo>
                  <a:lnTo>
                    <a:pt x="1753" y="1352"/>
                  </a:lnTo>
                  <a:lnTo>
                    <a:pt x="1674" y="1303"/>
                  </a:lnTo>
                  <a:lnTo>
                    <a:pt x="1674" y="1319"/>
                  </a:lnTo>
                  <a:lnTo>
                    <a:pt x="1674" y="1352"/>
                  </a:lnTo>
                  <a:lnTo>
                    <a:pt x="1641" y="1544"/>
                  </a:lnTo>
                  <a:lnTo>
                    <a:pt x="1561" y="1464"/>
                  </a:lnTo>
                  <a:lnTo>
                    <a:pt x="1561" y="1431"/>
                  </a:lnTo>
                  <a:lnTo>
                    <a:pt x="1544" y="1431"/>
                  </a:lnTo>
                  <a:lnTo>
                    <a:pt x="1542" y="1443"/>
                  </a:lnTo>
                  <a:lnTo>
                    <a:pt x="1542" y="1454"/>
                  </a:lnTo>
                  <a:lnTo>
                    <a:pt x="1542" y="1466"/>
                  </a:lnTo>
                  <a:lnTo>
                    <a:pt x="1542" y="1478"/>
                  </a:lnTo>
                  <a:lnTo>
                    <a:pt x="1540" y="1489"/>
                  </a:lnTo>
                  <a:lnTo>
                    <a:pt x="1538" y="1503"/>
                  </a:lnTo>
                  <a:lnTo>
                    <a:pt x="1536" y="1517"/>
                  </a:lnTo>
                  <a:lnTo>
                    <a:pt x="1534" y="1530"/>
                  </a:lnTo>
                  <a:lnTo>
                    <a:pt x="1530" y="1542"/>
                  </a:lnTo>
                  <a:lnTo>
                    <a:pt x="1526" y="1553"/>
                  </a:lnTo>
                  <a:lnTo>
                    <a:pt x="1520" y="1567"/>
                  </a:lnTo>
                  <a:lnTo>
                    <a:pt x="1514" y="1582"/>
                  </a:lnTo>
                  <a:lnTo>
                    <a:pt x="1507" y="1594"/>
                  </a:lnTo>
                  <a:lnTo>
                    <a:pt x="1499" y="1610"/>
                  </a:lnTo>
                  <a:lnTo>
                    <a:pt x="1489" y="1623"/>
                  </a:lnTo>
                  <a:lnTo>
                    <a:pt x="1480" y="1641"/>
                  </a:lnTo>
                  <a:lnTo>
                    <a:pt x="1416" y="1608"/>
                  </a:lnTo>
                  <a:lnTo>
                    <a:pt x="1416" y="1577"/>
                  </a:lnTo>
                  <a:lnTo>
                    <a:pt x="1416" y="1561"/>
                  </a:lnTo>
                  <a:lnTo>
                    <a:pt x="1416" y="1464"/>
                  </a:lnTo>
                  <a:lnTo>
                    <a:pt x="1385" y="1561"/>
                  </a:lnTo>
                  <a:lnTo>
                    <a:pt x="1385" y="1608"/>
                  </a:lnTo>
                  <a:lnTo>
                    <a:pt x="1431" y="1689"/>
                  </a:lnTo>
                  <a:lnTo>
                    <a:pt x="1449" y="1720"/>
                  </a:lnTo>
                  <a:lnTo>
                    <a:pt x="1528" y="1625"/>
                  </a:lnTo>
                  <a:lnTo>
                    <a:pt x="1577" y="1577"/>
                  </a:lnTo>
                  <a:lnTo>
                    <a:pt x="1658" y="1592"/>
                  </a:lnTo>
                  <a:lnTo>
                    <a:pt x="1662" y="1604"/>
                  </a:lnTo>
                  <a:lnTo>
                    <a:pt x="1668" y="1617"/>
                  </a:lnTo>
                  <a:lnTo>
                    <a:pt x="1674" y="1629"/>
                  </a:lnTo>
                  <a:lnTo>
                    <a:pt x="1679" y="1643"/>
                  </a:lnTo>
                  <a:lnTo>
                    <a:pt x="1683" y="1654"/>
                  </a:lnTo>
                  <a:lnTo>
                    <a:pt x="1687" y="1668"/>
                  </a:lnTo>
                  <a:lnTo>
                    <a:pt x="1691" y="1679"/>
                  </a:lnTo>
                  <a:lnTo>
                    <a:pt x="1697" y="1693"/>
                  </a:lnTo>
                  <a:lnTo>
                    <a:pt x="1699" y="1705"/>
                  </a:lnTo>
                  <a:lnTo>
                    <a:pt x="1705" y="1716"/>
                  </a:lnTo>
                  <a:lnTo>
                    <a:pt x="1706" y="1728"/>
                  </a:lnTo>
                  <a:lnTo>
                    <a:pt x="1712" y="1741"/>
                  </a:lnTo>
                  <a:lnTo>
                    <a:pt x="1714" y="1753"/>
                  </a:lnTo>
                  <a:lnTo>
                    <a:pt x="1718" y="1765"/>
                  </a:lnTo>
                  <a:lnTo>
                    <a:pt x="1720" y="1776"/>
                  </a:lnTo>
                  <a:lnTo>
                    <a:pt x="1724" y="1790"/>
                  </a:lnTo>
                  <a:lnTo>
                    <a:pt x="1724" y="1802"/>
                  </a:lnTo>
                  <a:lnTo>
                    <a:pt x="1726" y="1813"/>
                  </a:lnTo>
                  <a:lnTo>
                    <a:pt x="1728" y="1825"/>
                  </a:lnTo>
                  <a:lnTo>
                    <a:pt x="1730" y="1837"/>
                  </a:lnTo>
                  <a:lnTo>
                    <a:pt x="1730" y="1848"/>
                  </a:lnTo>
                  <a:lnTo>
                    <a:pt x="1732" y="1860"/>
                  </a:lnTo>
                  <a:lnTo>
                    <a:pt x="1732" y="1871"/>
                  </a:lnTo>
                  <a:lnTo>
                    <a:pt x="1734" y="1883"/>
                  </a:lnTo>
                  <a:lnTo>
                    <a:pt x="1732" y="1895"/>
                  </a:lnTo>
                  <a:lnTo>
                    <a:pt x="1732" y="1906"/>
                  </a:lnTo>
                  <a:lnTo>
                    <a:pt x="1730" y="1918"/>
                  </a:lnTo>
                  <a:lnTo>
                    <a:pt x="1730" y="1930"/>
                  </a:lnTo>
                  <a:lnTo>
                    <a:pt x="1728" y="1941"/>
                  </a:lnTo>
                  <a:lnTo>
                    <a:pt x="1726" y="1953"/>
                  </a:lnTo>
                  <a:lnTo>
                    <a:pt x="1724" y="1965"/>
                  </a:lnTo>
                  <a:lnTo>
                    <a:pt x="1722" y="1978"/>
                  </a:lnTo>
                  <a:lnTo>
                    <a:pt x="1625" y="1947"/>
                  </a:lnTo>
                  <a:lnTo>
                    <a:pt x="1610" y="1914"/>
                  </a:lnTo>
                  <a:lnTo>
                    <a:pt x="1610" y="1817"/>
                  </a:lnTo>
                  <a:lnTo>
                    <a:pt x="1610" y="1769"/>
                  </a:lnTo>
                  <a:lnTo>
                    <a:pt x="1592" y="1769"/>
                  </a:lnTo>
                  <a:lnTo>
                    <a:pt x="1577" y="1881"/>
                  </a:lnTo>
                  <a:lnTo>
                    <a:pt x="1513" y="1978"/>
                  </a:lnTo>
                  <a:lnTo>
                    <a:pt x="1480" y="1947"/>
                  </a:lnTo>
                  <a:lnTo>
                    <a:pt x="1431" y="1769"/>
                  </a:lnTo>
                  <a:lnTo>
                    <a:pt x="1416" y="1881"/>
                  </a:lnTo>
                  <a:lnTo>
                    <a:pt x="1431" y="1914"/>
                  </a:lnTo>
                  <a:lnTo>
                    <a:pt x="1385" y="1994"/>
                  </a:lnTo>
                  <a:lnTo>
                    <a:pt x="1319" y="1947"/>
                  </a:lnTo>
                  <a:lnTo>
                    <a:pt x="1303" y="1947"/>
                  </a:lnTo>
                  <a:lnTo>
                    <a:pt x="1303" y="1689"/>
                  </a:lnTo>
                  <a:lnTo>
                    <a:pt x="1288" y="1705"/>
                  </a:lnTo>
                  <a:lnTo>
                    <a:pt x="1288" y="1786"/>
                  </a:lnTo>
                  <a:lnTo>
                    <a:pt x="1255" y="1947"/>
                  </a:lnTo>
                  <a:lnTo>
                    <a:pt x="1158" y="1881"/>
                  </a:lnTo>
                  <a:lnTo>
                    <a:pt x="1142" y="1866"/>
                  </a:lnTo>
                  <a:lnTo>
                    <a:pt x="1142" y="1753"/>
                  </a:lnTo>
                  <a:lnTo>
                    <a:pt x="1094" y="1802"/>
                  </a:lnTo>
                  <a:lnTo>
                    <a:pt x="1094" y="1786"/>
                  </a:lnTo>
                  <a:lnTo>
                    <a:pt x="1078" y="1769"/>
                  </a:lnTo>
                  <a:lnTo>
                    <a:pt x="1094" y="1689"/>
                  </a:lnTo>
                  <a:lnTo>
                    <a:pt x="1078" y="1641"/>
                  </a:lnTo>
                  <a:lnTo>
                    <a:pt x="1063" y="1656"/>
                  </a:lnTo>
                  <a:lnTo>
                    <a:pt x="1045" y="1753"/>
                  </a:lnTo>
                  <a:lnTo>
                    <a:pt x="999" y="1817"/>
                  </a:lnTo>
                  <a:lnTo>
                    <a:pt x="979" y="1804"/>
                  </a:lnTo>
                  <a:lnTo>
                    <a:pt x="968" y="1790"/>
                  </a:lnTo>
                  <a:lnTo>
                    <a:pt x="954" y="1774"/>
                  </a:lnTo>
                  <a:lnTo>
                    <a:pt x="948" y="1761"/>
                  </a:lnTo>
                  <a:lnTo>
                    <a:pt x="940" y="1745"/>
                  </a:lnTo>
                  <a:lnTo>
                    <a:pt x="937" y="1730"/>
                  </a:lnTo>
                  <a:lnTo>
                    <a:pt x="935" y="1714"/>
                  </a:lnTo>
                  <a:lnTo>
                    <a:pt x="935" y="1701"/>
                  </a:lnTo>
                  <a:lnTo>
                    <a:pt x="933" y="1683"/>
                  </a:lnTo>
                  <a:lnTo>
                    <a:pt x="933" y="1666"/>
                  </a:lnTo>
                  <a:lnTo>
                    <a:pt x="933" y="1648"/>
                  </a:lnTo>
                  <a:lnTo>
                    <a:pt x="935" y="1631"/>
                  </a:lnTo>
                  <a:lnTo>
                    <a:pt x="935" y="1613"/>
                  </a:lnTo>
                  <a:lnTo>
                    <a:pt x="935" y="1596"/>
                  </a:lnTo>
                  <a:lnTo>
                    <a:pt x="933" y="1579"/>
                  </a:lnTo>
                  <a:lnTo>
                    <a:pt x="933" y="1561"/>
                  </a:lnTo>
                  <a:lnTo>
                    <a:pt x="917" y="1544"/>
                  </a:lnTo>
                  <a:lnTo>
                    <a:pt x="917" y="1641"/>
                  </a:lnTo>
                  <a:lnTo>
                    <a:pt x="869" y="1738"/>
                  </a:lnTo>
                  <a:lnTo>
                    <a:pt x="838" y="1720"/>
                  </a:lnTo>
                  <a:lnTo>
                    <a:pt x="838" y="1464"/>
                  </a:lnTo>
                  <a:lnTo>
                    <a:pt x="820" y="1447"/>
                  </a:lnTo>
                  <a:lnTo>
                    <a:pt x="741" y="1625"/>
                  </a:lnTo>
                  <a:lnTo>
                    <a:pt x="677" y="1656"/>
                  </a:lnTo>
                  <a:lnTo>
                    <a:pt x="741" y="1464"/>
                  </a:lnTo>
                  <a:lnTo>
                    <a:pt x="725" y="1431"/>
                  </a:lnTo>
                  <a:lnTo>
                    <a:pt x="708" y="1431"/>
                  </a:lnTo>
                  <a:lnTo>
                    <a:pt x="696" y="1447"/>
                  </a:lnTo>
                  <a:lnTo>
                    <a:pt x="690" y="1464"/>
                  </a:lnTo>
                  <a:lnTo>
                    <a:pt x="683" y="1482"/>
                  </a:lnTo>
                  <a:lnTo>
                    <a:pt x="679" y="1499"/>
                  </a:lnTo>
                  <a:lnTo>
                    <a:pt x="673" y="1515"/>
                  </a:lnTo>
                  <a:lnTo>
                    <a:pt x="669" y="1532"/>
                  </a:lnTo>
                  <a:lnTo>
                    <a:pt x="665" y="1548"/>
                  </a:lnTo>
                  <a:lnTo>
                    <a:pt x="665" y="1565"/>
                  </a:lnTo>
                  <a:lnTo>
                    <a:pt x="661" y="1579"/>
                  </a:lnTo>
                  <a:lnTo>
                    <a:pt x="659" y="1596"/>
                  </a:lnTo>
                  <a:lnTo>
                    <a:pt x="659" y="1610"/>
                  </a:lnTo>
                  <a:lnTo>
                    <a:pt x="659" y="1627"/>
                  </a:lnTo>
                  <a:lnTo>
                    <a:pt x="659" y="1641"/>
                  </a:lnTo>
                  <a:lnTo>
                    <a:pt x="659" y="1658"/>
                  </a:lnTo>
                  <a:lnTo>
                    <a:pt x="659" y="1672"/>
                  </a:lnTo>
                  <a:lnTo>
                    <a:pt x="659" y="1689"/>
                  </a:lnTo>
                  <a:lnTo>
                    <a:pt x="708" y="1689"/>
                  </a:lnTo>
                  <a:lnTo>
                    <a:pt x="756" y="1656"/>
                  </a:lnTo>
                  <a:lnTo>
                    <a:pt x="805" y="1753"/>
                  </a:lnTo>
                  <a:lnTo>
                    <a:pt x="805" y="1769"/>
                  </a:lnTo>
                  <a:lnTo>
                    <a:pt x="838" y="1786"/>
                  </a:lnTo>
                  <a:lnTo>
                    <a:pt x="869" y="1786"/>
                  </a:lnTo>
                  <a:lnTo>
                    <a:pt x="869" y="1769"/>
                  </a:lnTo>
                  <a:lnTo>
                    <a:pt x="933" y="1833"/>
                  </a:lnTo>
                  <a:lnTo>
                    <a:pt x="981" y="1881"/>
                  </a:lnTo>
                  <a:lnTo>
                    <a:pt x="1030" y="1866"/>
                  </a:lnTo>
                  <a:lnTo>
                    <a:pt x="1063" y="1833"/>
                  </a:lnTo>
                  <a:lnTo>
                    <a:pt x="1078" y="1866"/>
                  </a:lnTo>
                  <a:lnTo>
                    <a:pt x="1239" y="1978"/>
                  </a:lnTo>
                  <a:lnTo>
                    <a:pt x="1288" y="1963"/>
                  </a:lnTo>
                  <a:lnTo>
                    <a:pt x="1497" y="2203"/>
                  </a:lnTo>
                  <a:lnTo>
                    <a:pt x="1513" y="2236"/>
                  </a:lnTo>
                  <a:lnTo>
                    <a:pt x="1561" y="2316"/>
                  </a:lnTo>
                  <a:lnTo>
                    <a:pt x="1497" y="2413"/>
                  </a:lnTo>
                  <a:lnTo>
                    <a:pt x="1480" y="2397"/>
                  </a:lnTo>
                  <a:close/>
                </a:path>
              </a:pathLst>
            </a:custGeom>
            <a:solidFill>
              <a:srgbClr val="3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60440" y="4826880"/>
              <a:ext cx="63360" cy="43920"/>
            </a:xfrm>
            <a:custGeom>
              <a:avLst/>
              <a:gdLst/>
              <a:ahLst/>
              <a:rect l="l" t="t" r="r" b="b"/>
              <a:pathLst>
                <a:path w="304" h="386">
                  <a:moveTo>
                    <a:pt x="48" y="386"/>
                  </a:moveTo>
                  <a:lnTo>
                    <a:pt x="31" y="355"/>
                  </a:lnTo>
                  <a:lnTo>
                    <a:pt x="0" y="194"/>
                  </a:lnTo>
                  <a:lnTo>
                    <a:pt x="31" y="161"/>
                  </a:lnTo>
                  <a:lnTo>
                    <a:pt x="64" y="337"/>
                  </a:lnTo>
                  <a:lnTo>
                    <a:pt x="112" y="306"/>
                  </a:lnTo>
                  <a:lnTo>
                    <a:pt x="112" y="112"/>
                  </a:lnTo>
                  <a:lnTo>
                    <a:pt x="225" y="128"/>
                  </a:lnTo>
                  <a:lnTo>
                    <a:pt x="258" y="112"/>
                  </a:lnTo>
                  <a:lnTo>
                    <a:pt x="258" y="81"/>
                  </a:lnTo>
                  <a:lnTo>
                    <a:pt x="128" y="33"/>
                  </a:lnTo>
                  <a:lnTo>
                    <a:pt x="97" y="0"/>
                  </a:lnTo>
                  <a:lnTo>
                    <a:pt x="192" y="0"/>
                  </a:lnTo>
                  <a:lnTo>
                    <a:pt x="304" y="64"/>
                  </a:lnTo>
                  <a:lnTo>
                    <a:pt x="304" y="81"/>
                  </a:lnTo>
                  <a:lnTo>
                    <a:pt x="304" y="112"/>
                  </a:lnTo>
                  <a:lnTo>
                    <a:pt x="289" y="145"/>
                  </a:lnTo>
                  <a:lnTo>
                    <a:pt x="225" y="161"/>
                  </a:lnTo>
                  <a:lnTo>
                    <a:pt x="161" y="161"/>
                  </a:lnTo>
                  <a:lnTo>
                    <a:pt x="163" y="172"/>
                  </a:lnTo>
                  <a:lnTo>
                    <a:pt x="165" y="184"/>
                  </a:lnTo>
                  <a:lnTo>
                    <a:pt x="165" y="196"/>
                  </a:lnTo>
                  <a:lnTo>
                    <a:pt x="165" y="207"/>
                  </a:lnTo>
                  <a:lnTo>
                    <a:pt x="163" y="219"/>
                  </a:lnTo>
                  <a:lnTo>
                    <a:pt x="163" y="231"/>
                  </a:lnTo>
                  <a:lnTo>
                    <a:pt x="161" y="242"/>
                  </a:lnTo>
                  <a:lnTo>
                    <a:pt x="159" y="256"/>
                  </a:lnTo>
                  <a:lnTo>
                    <a:pt x="155" y="267"/>
                  </a:lnTo>
                  <a:lnTo>
                    <a:pt x="151" y="279"/>
                  </a:lnTo>
                  <a:lnTo>
                    <a:pt x="145" y="291"/>
                  </a:lnTo>
                  <a:lnTo>
                    <a:pt x="141" y="304"/>
                  </a:lnTo>
                  <a:lnTo>
                    <a:pt x="134" y="316"/>
                  </a:lnTo>
                  <a:lnTo>
                    <a:pt x="128" y="329"/>
                  </a:lnTo>
                  <a:lnTo>
                    <a:pt x="120" y="341"/>
                  </a:lnTo>
                  <a:lnTo>
                    <a:pt x="112" y="355"/>
                  </a:lnTo>
                  <a:lnTo>
                    <a:pt x="48" y="38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43640" y="4821840"/>
              <a:ext cx="100440" cy="33840"/>
            </a:xfrm>
            <a:custGeom>
              <a:avLst/>
              <a:gdLst/>
              <a:ahLst/>
              <a:rect l="l" t="t" r="r" b="b"/>
              <a:pathLst>
                <a:path w="483" h="307">
                  <a:moveTo>
                    <a:pt x="338" y="307"/>
                  </a:moveTo>
                  <a:lnTo>
                    <a:pt x="322" y="258"/>
                  </a:lnTo>
                  <a:lnTo>
                    <a:pt x="307" y="210"/>
                  </a:lnTo>
                  <a:lnTo>
                    <a:pt x="130" y="258"/>
                  </a:lnTo>
                  <a:lnTo>
                    <a:pt x="0" y="210"/>
                  </a:lnTo>
                  <a:lnTo>
                    <a:pt x="97" y="82"/>
                  </a:lnTo>
                  <a:lnTo>
                    <a:pt x="274" y="0"/>
                  </a:lnTo>
                  <a:lnTo>
                    <a:pt x="64" y="177"/>
                  </a:lnTo>
                  <a:lnTo>
                    <a:pt x="64" y="194"/>
                  </a:lnTo>
                  <a:lnTo>
                    <a:pt x="210" y="194"/>
                  </a:lnTo>
                  <a:lnTo>
                    <a:pt x="338" y="146"/>
                  </a:lnTo>
                  <a:lnTo>
                    <a:pt x="338" y="194"/>
                  </a:lnTo>
                  <a:lnTo>
                    <a:pt x="386" y="258"/>
                  </a:lnTo>
                  <a:lnTo>
                    <a:pt x="468" y="113"/>
                  </a:lnTo>
                  <a:lnTo>
                    <a:pt x="483" y="113"/>
                  </a:lnTo>
                  <a:lnTo>
                    <a:pt x="404" y="307"/>
                  </a:lnTo>
                  <a:lnTo>
                    <a:pt x="338" y="30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59080" y="4730760"/>
              <a:ext cx="64800" cy="42840"/>
            </a:xfrm>
            <a:custGeom>
              <a:avLst/>
              <a:gdLst/>
              <a:ahLst/>
              <a:rect l="l" t="t" r="r" b="b"/>
              <a:pathLst>
                <a:path w="304" h="386">
                  <a:moveTo>
                    <a:pt x="48" y="386"/>
                  </a:moveTo>
                  <a:lnTo>
                    <a:pt x="31" y="355"/>
                  </a:lnTo>
                  <a:lnTo>
                    <a:pt x="0" y="194"/>
                  </a:lnTo>
                  <a:lnTo>
                    <a:pt x="31" y="161"/>
                  </a:lnTo>
                  <a:lnTo>
                    <a:pt x="64" y="337"/>
                  </a:lnTo>
                  <a:lnTo>
                    <a:pt x="112" y="306"/>
                  </a:lnTo>
                  <a:lnTo>
                    <a:pt x="112" y="112"/>
                  </a:lnTo>
                  <a:lnTo>
                    <a:pt x="225" y="128"/>
                  </a:lnTo>
                  <a:lnTo>
                    <a:pt x="258" y="112"/>
                  </a:lnTo>
                  <a:lnTo>
                    <a:pt x="258" y="81"/>
                  </a:lnTo>
                  <a:lnTo>
                    <a:pt x="128" y="33"/>
                  </a:lnTo>
                  <a:lnTo>
                    <a:pt x="97" y="0"/>
                  </a:lnTo>
                  <a:lnTo>
                    <a:pt x="192" y="0"/>
                  </a:lnTo>
                  <a:lnTo>
                    <a:pt x="304" y="64"/>
                  </a:lnTo>
                  <a:lnTo>
                    <a:pt x="304" y="81"/>
                  </a:lnTo>
                  <a:lnTo>
                    <a:pt x="304" y="112"/>
                  </a:lnTo>
                  <a:lnTo>
                    <a:pt x="289" y="145"/>
                  </a:lnTo>
                  <a:lnTo>
                    <a:pt x="225" y="161"/>
                  </a:lnTo>
                  <a:lnTo>
                    <a:pt x="161" y="161"/>
                  </a:lnTo>
                  <a:lnTo>
                    <a:pt x="163" y="172"/>
                  </a:lnTo>
                  <a:lnTo>
                    <a:pt x="165" y="184"/>
                  </a:lnTo>
                  <a:lnTo>
                    <a:pt x="165" y="196"/>
                  </a:lnTo>
                  <a:lnTo>
                    <a:pt x="165" y="207"/>
                  </a:lnTo>
                  <a:lnTo>
                    <a:pt x="163" y="219"/>
                  </a:lnTo>
                  <a:lnTo>
                    <a:pt x="163" y="231"/>
                  </a:lnTo>
                  <a:lnTo>
                    <a:pt x="161" y="242"/>
                  </a:lnTo>
                  <a:lnTo>
                    <a:pt x="159" y="256"/>
                  </a:lnTo>
                  <a:lnTo>
                    <a:pt x="155" y="267"/>
                  </a:lnTo>
                  <a:lnTo>
                    <a:pt x="151" y="279"/>
                  </a:lnTo>
                  <a:lnTo>
                    <a:pt x="145" y="291"/>
                  </a:lnTo>
                  <a:lnTo>
                    <a:pt x="141" y="304"/>
                  </a:lnTo>
                  <a:lnTo>
                    <a:pt x="134" y="316"/>
                  </a:lnTo>
                  <a:lnTo>
                    <a:pt x="128" y="329"/>
                  </a:lnTo>
                  <a:lnTo>
                    <a:pt x="120" y="341"/>
                  </a:lnTo>
                  <a:lnTo>
                    <a:pt x="112" y="355"/>
                  </a:lnTo>
                  <a:lnTo>
                    <a:pt x="48" y="38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44080" y="4725720"/>
              <a:ext cx="100440" cy="33840"/>
            </a:xfrm>
            <a:custGeom>
              <a:avLst/>
              <a:gdLst/>
              <a:ahLst/>
              <a:rect l="l" t="t" r="r" b="b"/>
              <a:pathLst>
                <a:path w="483" h="307">
                  <a:moveTo>
                    <a:pt x="338" y="307"/>
                  </a:moveTo>
                  <a:lnTo>
                    <a:pt x="322" y="258"/>
                  </a:lnTo>
                  <a:lnTo>
                    <a:pt x="307" y="210"/>
                  </a:lnTo>
                  <a:lnTo>
                    <a:pt x="130" y="258"/>
                  </a:lnTo>
                  <a:lnTo>
                    <a:pt x="0" y="210"/>
                  </a:lnTo>
                  <a:lnTo>
                    <a:pt x="97" y="82"/>
                  </a:lnTo>
                  <a:lnTo>
                    <a:pt x="274" y="0"/>
                  </a:lnTo>
                  <a:lnTo>
                    <a:pt x="64" y="177"/>
                  </a:lnTo>
                  <a:lnTo>
                    <a:pt x="64" y="194"/>
                  </a:lnTo>
                  <a:lnTo>
                    <a:pt x="210" y="194"/>
                  </a:lnTo>
                  <a:lnTo>
                    <a:pt x="338" y="146"/>
                  </a:lnTo>
                  <a:lnTo>
                    <a:pt x="338" y="194"/>
                  </a:lnTo>
                  <a:lnTo>
                    <a:pt x="386" y="258"/>
                  </a:lnTo>
                  <a:lnTo>
                    <a:pt x="468" y="113"/>
                  </a:lnTo>
                  <a:lnTo>
                    <a:pt x="483" y="113"/>
                  </a:lnTo>
                  <a:lnTo>
                    <a:pt x="404" y="307"/>
                  </a:lnTo>
                  <a:lnTo>
                    <a:pt x="338" y="30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193120" y="4692600"/>
              <a:ext cx="63360" cy="43200"/>
            </a:xfrm>
            <a:custGeom>
              <a:avLst/>
              <a:gdLst/>
              <a:ahLst/>
              <a:rect l="l" t="t" r="r" b="b"/>
              <a:pathLst>
                <a:path w="304" h="386">
                  <a:moveTo>
                    <a:pt x="48" y="386"/>
                  </a:moveTo>
                  <a:lnTo>
                    <a:pt x="31" y="355"/>
                  </a:lnTo>
                  <a:lnTo>
                    <a:pt x="0" y="194"/>
                  </a:lnTo>
                  <a:lnTo>
                    <a:pt x="31" y="161"/>
                  </a:lnTo>
                  <a:lnTo>
                    <a:pt x="64" y="337"/>
                  </a:lnTo>
                  <a:lnTo>
                    <a:pt x="112" y="306"/>
                  </a:lnTo>
                  <a:lnTo>
                    <a:pt x="112" y="112"/>
                  </a:lnTo>
                  <a:lnTo>
                    <a:pt x="225" y="128"/>
                  </a:lnTo>
                  <a:lnTo>
                    <a:pt x="258" y="112"/>
                  </a:lnTo>
                  <a:lnTo>
                    <a:pt x="258" y="81"/>
                  </a:lnTo>
                  <a:lnTo>
                    <a:pt x="128" y="33"/>
                  </a:lnTo>
                  <a:lnTo>
                    <a:pt x="97" y="0"/>
                  </a:lnTo>
                  <a:lnTo>
                    <a:pt x="192" y="0"/>
                  </a:lnTo>
                  <a:lnTo>
                    <a:pt x="304" y="64"/>
                  </a:lnTo>
                  <a:lnTo>
                    <a:pt x="304" y="81"/>
                  </a:lnTo>
                  <a:lnTo>
                    <a:pt x="304" y="112"/>
                  </a:lnTo>
                  <a:lnTo>
                    <a:pt x="289" y="145"/>
                  </a:lnTo>
                  <a:lnTo>
                    <a:pt x="225" y="161"/>
                  </a:lnTo>
                  <a:lnTo>
                    <a:pt x="161" y="161"/>
                  </a:lnTo>
                  <a:lnTo>
                    <a:pt x="163" y="172"/>
                  </a:lnTo>
                  <a:lnTo>
                    <a:pt x="165" y="184"/>
                  </a:lnTo>
                  <a:lnTo>
                    <a:pt x="165" y="196"/>
                  </a:lnTo>
                  <a:lnTo>
                    <a:pt x="165" y="207"/>
                  </a:lnTo>
                  <a:lnTo>
                    <a:pt x="163" y="219"/>
                  </a:lnTo>
                  <a:lnTo>
                    <a:pt x="163" y="231"/>
                  </a:lnTo>
                  <a:lnTo>
                    <a:pt x="161" y="242"/>
                  </a:lnTo>
                  <a:lnTo>
                    <a:pt x="159" y="256"/>
                  </a:lnTo>
                  <a:lnTo>
                    <a:pt x="155" y="267"/>
                  </a:lnTo>
                  <a:lnTo>
                    <a:pt x="151" y="279"/>
                  </a:lnTo>
                  <a:lnTo>
                    <a:pt x="145" y="291"/>
                  </a:lnTo>
                  <a:lnTo>
                    <a:pt x="141" y="304"/>
                  </a:lnTo>
                  <a:lnTo>
                    <a:pt x="134" y="316"/>
                  </a:lnTo>
                  <a:lnTo>
                    <a:pt x="128" y="329"/>
                  </a:lnTo>
                  <a:lnTo>
                    <a:pt x="120" y="341"/>
                  </a:lnTo>
                  <a:lnTo>
                    <a:pt x="112" y="355"/>
                  </a:lnTo>
                  <a:lnTo>
                    <a:pt x="48" y="38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78480" y="4687560"/>
              <a:ext cx="100440" cy="33840"/>
            </a:xfrm>
            <a:custGeom>
              <a:avLst/>
              <a:gdLst/>
              <a:ahLst/>
              <a:rect l="l" t="t" r="r" b="b"/>
              <a:pathLst>
                <a:path w="483" h="307">
                  <a:moveTo>
                    <a:pt x="338" y="307"/>
                  </a:moveTo>
                  <a:lnTo>
                    <a:pt x="322" y="258"/>
                  </a:lnTo>
                  <a:lnTo>
                    <a:pt x="307" y="210"/>
                  </a:lnTo>
                  <a:lnTo>
                    <a:pt x="130" y="258"/>
                  </a:lnTo>
                  <a:lnTo>
                    <a:pt x="0" y="210"/>
                  </a:lnTo>
                  <a:lnTo>
                    <a:pt x="97" y="82"/>
                  </a:lnTo>
                  <a:lnTo>
                    <a:pt x="274" y="0"/>
                  </a:lnTo>
                  <a:lnTo>
                    <a:pt x="64" y="177"/>
                  </a:lnTo>
                  <a:lnTo>
                    <a:pt x="64" y="194"/>
                  </a:lnTo>
                  <a:lnTo>
                    <a:pt x="210" y="194"/>
                  </a:lnTo>
                  <a:lnTo>
                    <a:pt x="338" y="146"/>
                  </a:lnTo>
                  <a:lnTo>
                    <a:pt x="338" y="194"/>
                  </a:lnTo>
                  <a:lnTo>
                    <a:pt x="386" y="258"/>
                  </a:lnTo>
                  <a:lnTo>
                    <a:pt x="468" y="113"/>
                  </a:lnTo>
                  <a:lnTo>
                    <a:pt x="483" y="113"/>
                  </a:lnTo>
                  <a:lnTo>
                    <a:pt x="404" y="307"/>
                  </a:lnTo>
                  <a:lnTo>
                    <a:pt x="338" y="30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3780000" y="4437000"/>
            <a:ext cx="1180440" cy="1028520"/>
            <a:chOff x="3780000" y="4437000"/>
            <a:chExt cx="1180440" cy="1028520"/>
          </a:xfrm>
        </p:grpSpPr>
        <p:sp>
          <p:nvSpPr>
            <p:cNvPr id="301" name=""/>
            <p:cNvSpPr/>
            <p:nvPr/>
          </p:nvSpPr>
          <p:spPr>
            <a:xfrm>
              <a:off x="3928680" y="4437000"/>
              <a:ext cx="1031760" cy="88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43360" y="4504680"/>
              <a:ext cx="1032120" cy="88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80000" y="4582440"/>
              <a:ext cx="1032120" cy="8830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4161240" y="4923360"/>
              <a:ext cx="348120" cy="514440"/>
              <a:chOff x="4161240" y="4923360"/>
              <a:chExt cx="348120" cy="514440"/>
            </a:xfrm>
          </p:grpSpPr>
          <p:sp>
            <p:nvSpPr>
              <p:cNvPr id="305" name=""/>
              <p:cNvSpPr/>
              <p:nvPr/>
            </p:nvSpPr>
            <p:spPr>
              <a:xfrm>
                <a:off x="4341600" y="5061240"/>
                <a:ext cx="48240" cy="71640"/>
              </a:xfrm>
              <a:custGeom>
                <a:avLst/>
                <a:gdLst/>
                <a:ahLst/>
                <a:rect l="l" t="t" r="r" b="b"/>
                <a:pathLst>
                  <a:path w="120" h="307">
                    <a:moveTo>
                      <a:pt x="120" y="5"/>
                    </a:moveTo>
                    <a:lnTo>
                      <a:pt x="107" y="41"/>
                    </a:lnTo>
                    <a:lnTo>
                      <a:pt x="93" y="77"/>
                    </a:lnTo>
                    <a:lnTo>
                      <a:pt x="79" y="113"/>
                    </a:lnTo>
                    <a:lnTo>
                      <a:pt x="66" y="149"/>
                    </a:lnTo>
                    <a:lnTo>
                      <a:pt x="53" y="185"/>
                    </a:lnTo>
                    <a:lnTo>
                      <a:pt x="41" y="222"/>
                    </a:lnTo>
                    <a:lnTo>
                      <a:pt x="30" y="260"/>
                    </a:lnTo>
                    <a:lnTo>
                      <a:pt x="22" y="297"/>
                    </a:lnTo>
                    <a:lnTo>
                      <a:pt x="21" y="302"/>
                    </a:lnTo>
                    <a:lnTo>
                      <a:pt x="18" y="306"/>
                    </a:lnTo>
                    <a:lnTo>
                      <a:pt x="13" y="307"/>
                    </a:lnTo>
                    <a:lnTo>
                      <a:pt x="8" y="307"/>
                    </a:lnTo>
                    <a:lnTo>
                      <a:pt x="5" y="306"/>
                    </a:lnTo>
                    <a:lnTo>
                      <a:pt x="1" y="302"/>
                    </a:lnTo>
                    <a:lnTo>
                      <a:pt x="0" y="297"/>
                    </a:lnTo>
                    <a:lnTo>
                      <a:pt x="0" y="293"/>
                    </a:lnTo>
                    <a:lnTo>
                      <a:pt x="5" y="254"/>
                    </a:lnTo>
                    <a:lnTo>
                      <a:pt x="14" y="215"/>
                    </a:lnTo>
                    <a:lnTo>
                      <a:pt x="26" y="178"/>
                    </a:lnTo>
                    <a:lnTo>
                      <a:pt x="40" y="140"/>
                    </a:lnTo>
                    <a:lnTo>
                      <a:pt x="55" y="105"/>
                    </a:lnTo>
                    <a:lnTo>
                      <a:pt x="74" y="70"/>
                    </a:lnTo>
                    <a:lnTo>
                      <a:pt x="93" y="35"/>
                    </a:lnTo>
                    <a:lnTo>
                      <a:pt x="114" y="2"/>
                    </a:lnTo>
                    <a:lnTo>
                      <a:pt x="114" y="1"/>
                    </a:lnTo>
                    <a:lnTo>
                      <a:pt x="115" y="0"/>
                    </a:lnTo>
                    <a:lnTo>
                      <a:pt x="117" y="0"/>
                    </a:lnTo>
                    <a:lnTo>
                      <a:pt x="118" y="1"/>
                    </a:lnTo>
                    <a:lnTo>
                      <a:pt x="119" y="1"/>
                    </a:lnTo>
                    <a:lnTo>
                      <a:pt x="120" y="2"/>
                    </a:lnTo>
                    <a:lnTo>
                      <a:pt x="120" y="4"/>
                    </a:lnTo>
                    <a:lnTo>
                      <a:pt x="120" y="5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Futura Bk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256640" y="4969800"/>
                <a:ext cx="186480" cy="468000"/>
              </a:xfrm>
              <a:custGeom>
                <a:avLst/>
                <a:gdLst/>
                <a:ahLst/>
                <a:rect l="l" t="t" r="r" b="b"/>
                <a:pathLst>
                  <a:path w="470" h="2010">
                    <a:moveTo>
                      <a:pt x="466" y="1177"/>
                    </a:moveTo>
                    <a:lnTo>
                      <a:pt x="451" y="1180"/>
                    </a:lnTo>
                    <a:lnTo>
                      <a:pt x="435" y="1184"/>
                    </a:lnTo>
                    <a:lnTo>
                      <a:pt x="419" y="1188"/>
                    </a:lnTo>
                    <a:lnTo>
                      <a:pt x="405" y="1194"/>
                    </a:lnTo>
                    <a:lnTo>
                      <a:pt x="390" y="1200"/>
                    </a:lnTo>
                    <a:lnTo>
                      <a:pt x="376" y="1208"/>
                    </a:lnTo>
                    <a:lnTo>
                      <a:pt x="361" y="1216"/>
                    </a:lnTo>
                    <a:lnTo>
                      <a:pt x="348" y="1224"/>
                    </a:lnTo>
                    <a:lnTo>
                      <a:pt x="334" y="1233"/>
                    </a:lnTo>
                    <a:lnTo>
                      <a:pt x="321" y="1243"/>
                    </a:lnTo>
                    <a:lnTo>
                      <a:pt x="308" y="1253"/>
                    </a:lnTo>
                    <a:lnTo>
                      <a:pt x="296" y="1264"/>
                    </a:lnTo>
                    <a:lnTo>
                      <a:pt x="285" y="1275"/>
                    </a:lnTo>
                    <a:lnTo>
                      <a:pt x="273" y="1286"/>
                    </a:lnTo>
                    <a:lnTo>
                      <a:pt x="261" y="1298"/>
                    </a:lnTo>
                    <a:lnTo>
                      <a:pt x="250" y="1310"/>
                    </a:lnTo>
                    <a:lnTo>
                      <a:pt x="254" y="1269"/>
                    </a:lnTo>
                    <a:lnTo>
                      <a:pt x="257" y="1229"/>
                    </a:lnTo>
                    <a:lnTo>
                      <a:pt x="259" y="1187"/>
                    </a:lnTo>
                    <a:lnTo>
                      <a:pt x="260" y="1146"/>
                    </a:lnTo>
                    <a:lnTo>
                      <a:pt x="260" y="1094"/>
                    </a:lnTo>
                    <a:lnTo>
                      <a:pt x="257" y="1043"/>
                    </a:lnTo>
                    <a:lnTo>
                      <a:pt x="255" y="991"/>
                    </a:lnTo>
                    <a:lnTo>
                      <a:pt x="250" y="941"/>
                    </a:lnTo>
                    <a:lnTo>
                      <a:pt x="246" y="890"/>
                    </a:lnTo>
                    <a:lnTo>
                      <a:pt x="239" y="839"/>
                    </a:lnTo>
                    <a:lnTo>
                      <a:pt x="229" y="788"/>
                    </a:lnTo>
                    <a:lnTo>
                      <a:pt x="220" y="739"/>
                    </a:lnTo>
                    <a:lnTo>
                      <a:pt x="226" y="727"/>
                    </a:lnTo>
                    <a:lnTo>
                      <a:pt x="230" y="712"/>
                    </a:lnTo>
                    <a:lnTo>
                      <a:pt x="234" y="699"/>
                    </a:lnTo>
                    <a:lnTo>
                      <a:pt x="236" y="691"/>
                    </a:lnTo>
                    <a:lnTo>
                      <a:pt x="244" y="654"/>
                    </a:lnTo>
                    <a:lnTo>
                      <a:pt x="255" y="616"/>
                    </a:lnTo>
                    <a:lnTo>
                      <a:pt x="267" y="579"/>
                    </a:lnTo>
                    <a:lnTo>
                      <a:pt x="280" y="543"/>
                    </a:lnTo>
                    <a:lnTo>
                      <a:pt x="293" y="507"/>
                    </a:lnTo>
                    <a:lnTo>
                      <a:pt x="307" y="471"/>
                    </a:lnTo>
                    <a:lnTo>
                      <a:pt x="321" y="435"/>
                    </a:lnTo>
                    <a:lnTo>
                      <a:pt x="334" y="399"/>
                    </a:lnTo>
                    <a:lnTo>
                      <a:pt x="334" y="398"/>
                    </a:lnTo>
                    <a:lnTo>
                      <a:pt x="334" y="396"/>
                    </a:lnTo>
                    <a:lnTo>
                      <a:pt x="333" y="395"/>
                    </a:lnTo>
                    <a:lnTo>
                      <a:pt x="332" y="395"/>
                    </a:lnTo>
                    <a:lnTo>
                      <a:pt x="331" y="394"/>
                    </a:lnTo>
                    <a:lnTo>
                      <a:pt x="329" y="394"/>
                    </a:lnTo>
                    <a:lnTo>
                      <a:pt x="328" y="395"/>
                    </a:lnTo>
                    <a:lnTo>
                      <a:pt x="328" y="396"/>
                    </a:lnTo>
                    <a:lnTo>
                      <a:pt x="307" y="429"/>
                    </a:lnTo>
                    <a:lnTo>
                      <a:pt x="288" y="464"/>
                    </a:lnTo>
                    <a:lnTo>
                      <a:pt x="269" y="499"/>
                    </a:lnTo>
                    <a:lnTo>
                      <a:pt x="254" y="534"/>
                    </a:lnTo>
                    <a:lnTo>
                      <a:pt x="240" y="572"/>
                    </a:lnTo>
                    <a:lnTo>
                      <a:pt x="228" y="609"/>
                    </a:lnTo>
                    <a:lnTo>
                      <a:pt x="219" y="648"/>
                    </a:lnTo>
                    <a:lnTo>
                      <a:pt x="214" y="687"/>
                    </a:lnTo>
                    <a:lnTo>
                      <a:pt x="213" y="689"/>
                    </a:lnTo>
                    <a:lnTo>
                      <a:pt x="213" y="691"/>
                    </a:lnTo>
                    <a:lnTo>
                      <a:pt x="213" y="696"/>
                    </a:lnTo>
                    <a:lnTo>
                      <a:pt x="211" y="701"/>
                    </a:lnTo>
                    <a:lnTo>
                      <a:pt x="206" y="675"/>
                    </a:lnTo>
                    <a:lnTo>
                      <a:pt x="200" y="649"/>
                    </a:lnTo>
                    <a:lnTo>
                      <a:pt x="193" y="623"/>
                    </a:lnTo>
                    <a:lnTo>
                      <a:pt x="185" y="597"/>
                    </a:lnTo>
                    <a:lnTo>
                      <a:pt x="177" y="571"/>
                    </a:lnTo>
                    <a:lnTo>
                      <a:pt x="169" y="545"/>
                    </a:lnTo>
                    <a:lnTo>
                      <a:pt x="161" y="519"/>
                    </a:lnTo>
                    <a:lnTo>
                      <a:pt x="151" y="493"/>
                    </a:lnTo>
                    <a:lnTo>
                      <a:pt x="134" y="432"/>
                    </a:lnTo>
                    <a:lnTo>
                      <a:pt x="125" y="369"/>
                    </a:lnTo>
                    <a:lnTo>
                      <a:pt x="123" y="308"/>
                    </a:lnTo>
                    <a:lnTo>
                      <a:pt x="128" y="245"/>
                    </a:lnTo>
                    <a:lnTo>
                      <a:pt x="137" y="184"/>
                    </a:lnTo>
                    <a:lnTo>
                      <a:pt x="151" y="122"/>
                    </a:lnTo>
                    <a:lnTo>
                      <a:pt x="170" y="62"/>
                    </a:lnTo>
                    <a:lnTo>
                      <a:pt x="190" y="3"/>
                    </a:lnTo>
                    <a:lnTo>
                      <a:pt x="190" y="2"/>
                    </a:lnTo>
                    <a:lnTo>
                      <a:pt x="190" y="1"/>
                    </a:lnTo>
                    <a:lnTo>
                      <a:pt x="189" y="0"/>
                    </a:lnTo>
                    <a:lnTo>
                      <a:pt x="188" y="0"/>
                    </a:lnTo>
                    <a:lnTo>
                      <a:pt x="187" y="0"/>
                    </a:lnTo>
                    <a:lnTo>
                      <a:pt x="187" y="1"/>
                    </a:lnTo>
                    <a:lnTo>
                      <a:pt x="185" y="1"/>
                    </a:lnTo>
                    <a:lnTo>
                      <a:pt x="185" y="2"/>
                    </a:lnTo>
                    <a:lnTo>
                      <a:pt x="163" y="61"/>
                    </a:lnTo>
                    <a:lnTo>
                      <a:pt x="143" y="122"/>
                    </a:lnTo>
                    <a:lnTo>
                      <a:pt x="126" y="184"/>
                    </a:lnTo>
                    <a:lnTo>
                      <a:pt x="113" y="246"/>
                    </a:lnTo>
                    <a:lnTo>
                      <a:pt x="106" y="309"/>
                    </a:lnTo>
                    <a:lnTo>
                      <a:pt x="106" y="373"/>
                    </a:lnTo>
                    <a:lnTo>
                      <a:pt x="113" y="436"/>
                    </a:lnTo>
                    <a:lnTo>
                      <a:pt x="130" y="499"/>
                    </a:lnTo>
                    <a:lnTo>
                      <a:pt x="145" y="546"/>
                    </a:lnTo>
                    <a:lnTo>
                      <a:pt x="160" y="593"/>
                    </a:lnTo>
                    <a:lnTo>
                      <a:pt x="172" y="641"/>
                    </a:lnTo>
                    <a:lnTo>
                      <a:pt x="184" y="688"/>
                    </a:lnTo>
                    <a:lnTo>
                      <a:pt x="194" y="736"/>
                    </a:lnTo>
                    <a:lnTo>
                      <a:pt x="203" y="784"/>
                    </a:lnTo>
                    <a:lnTo>
                      <a:pt x="210" y="832"/>
                    </a:lnTo>
                    <a:lnTo>
                      <a:pt x="216" y="880"/>
                    </a:lnTo>
                    <a:lnTo>
                      <a:pt x="207" y="869"/>
                    </a:lnTo>
                    <a:lnTo>
                      <a:pt x="197" y="857"/>
                    </a:lnTo>
                    <a:lnTo>
                      <a:pt x="187" y="846"/>
                    </a:lnTo>
                    <a:lnTo>
                      <a:pt x="175" y="835"/>
                    </a:lnTo>
                    <a:lnTo>
                      <a:pt x="163" y="825"/>
                    </a:lnTo>
                    <a:lnTo>
                      <a:pt x="151" y="815"/>
                    </a:lnTo>
                    <a:lnTo>
                      <a:pt x="138" y="807"/>
                    </a:lnTo>
                    <a:lnTo>
                      <a:pt x="125" y="798"/>
                    </a:lnTo>
                    <a:lnTo>
                      <a:pt x="112" y="789"/>
                    </a:lnTo>
                    <a:lnTo>
                      <a:pt x="98" y="782"/>
                    </a:lnTo>
                    <a:lnTo>
                      <a:pt x="85" y="775"/>
                    </a:lnTo>
                    <a:lnTo>
                      <a:pt x="71" y="768"/>
                    </a:lnTo>
                    <a:lnTo>
                      <a:pt x="57" y="762"/>
                    </a:lnTo>
                    <a:lnTo>
                      <a:pt x="41" y="756"/>
                    </a:lnTo>
                    <a:lnTo>
                      <a:pt x="27" y="750"/>
                    </a:lnTo>
                    <a:lnTo>
                      <a:pt x="13" y="746"/>
                    </a:lnTo>
                    <a:lnTo>
                      <a:pt x="12" y="746"/>
                    </a:lnTo>
                    <a:lnTo>
                      <a:pt x="11" y="746"/>
                    </a:lnTo>
                    <a:lnTo>
                      <a:pt x="10" y="747"/>
                    </a:lnTo>
                    <a:lnTo>
                      <a:pt x="8" y="748"/>
                    </a:lnTo>
                    <a:lnTo>
                      <a:pt x="8" y="749"/>
                    </a:lnTo>
                    <a:lnTo>
                      <a:pt x="8" y="750"/>
                    </a:lnTo>
                    <a:lnTo>
                      <a:pt x="10" y="752"/>
                    </a:lnTo>
                    <a:lnTo>
                      <a:pt x="11" y="753"/>
                    </a:lnTo>
                    <a:lnTo>
                      <a:pt x="27" y="762"/>
                    </a:lnTo>
                    <a:lnTo>
                      <a:pt x="43" y="772"/>
                    </a:lnTo>
                    <a:lnTo>
                      <a:pt x="58" y="781"/>
                    </a:lnTo>
                    <a:lnTo>
                      <a:pt x="73" y="793"/>
                    </a:lnTo>
                    <a:lnTo>
                      <a:pt x="87" y="804"/>
                    </a:lnTo>
                    <a:lnTo>
                      <a:pt x="102" y="815"/>
                    </a:lnTo>
                    <a:lnTo>
                      <a:pt x="115" y="828"/>
                    </a:lnTo>
                    <a:lnTo>
                      <a:pt x="129" y="840"/>
                    </a:lnTo>
                    <a:lnTo>
                      <a:pt x="142" y="853"/>
                    </a:lnTo>
                    <a:lnTo>
                      <a:pt x="154" y="867"/>
                    </a:lnTo>
                    <a:lnTo>
                      <a:pt x="167" y="880"/>
                    </a:lnTo>
                    <a:lnTo>
                      <a:pt x="178" y="894"/>
                    </a:lnTo>
                    <a:lnTo>
                      <a:pt x="190" y="909"/>
                    </a:lnTo>
                    <a:lnTo>
                      <a:pt x="202" y="923"/>
                    </a:lnTo>
                    <a:lnTo>
                      <a:pt x="213" y="938"/>
                    </a:lnTo>
                    <a:lnTo>
                      <a:pt x="223" y="952"/>
                    </a:lnTo>
                    <a:lnTo>
                      <a:pt x="227" y="1001"/>
                    </a:lnTo>
                    <a:lnTo>
                      <a:pt x="228" y="1049"/>
                    </a:lnTo>
                    <a:lnTo>
                      <a:pt x="229" y="1098"/>
                    </a:lnTo>
                    <a:lnTo>
                      <a:pt x="228" y="1147"/>
                    </a:lnTo>
                    <a:lnTo>
                      <a:pt x="224" y="1212"/>
                    </a:lnTo>
                    <a:lnTo>
                      <a:pt x="220" y="1276"/>
                    </a:lnTo>
                    <a:lnTo>
                      <a:pt x="211" y="1340"/>
                    </a:lnTo>
                    <a:lnTo>
                      <a:pt x="202" y="1403"/>
                    </a:lnTo>
                    <a:lnTo>
                      <a:pt x="191" y="1467"/>
                    </a:lnTo>
                    <a:lnTo>
                      <a:pt x="180" y="1531"/>
                    </a:lnTo>
                    <a:lnTo>
                      <a:pt x="167" y="1596"/>
                    </a:lnTo>
                    <a:lnTo>
                      <a:pt x="154" y="1661"/>
                    </a:lnTo>
                    <a:lnTo>
                      <a:pt x="150" y="1676"/>
                    </a:lnTo>
                    <a:lnTo>
                      <a:pt x="148" y="1692"/>
                    </a:lnTo>
                    <a:lnTo>
                      <a:pt x="144" y="1708"/>
                    </a:lnTo>
                    <a:lnTo>
                      <a:pt x="141" y="1723"/>
                    </a:lnTo>
                    <a:lnTo>
                      <a:pt x="130" y="1687"/>
                    </a:lnTo>
                    <a:lnTo>
                      <a:pt x="118" y="1650"/>
                    </a:lnTo>
                    <a:lnTo>
                      <a:pt x="104" y="1613"/>
                    </a:lnTo>
                    <a:lnTo>
                      <a:pt x="90" y="1577"/>
                    </a:lnTo>
                    <a:lnTo>
                      <a:pt x="73" y="1543"/>
                    </a:lnTo>
                    <a:lnTo>
                      <a:pt x="53" y="1509"/>
                    </a:lnTo>
                    <a:lnTo>
                      <a:pt x="31" y="1478"/>
                    </a:lnTo>
                    <a:lnTo>
                      <a:pt x="6" y="1448"/>
                    </a:lnTo>
                    <a:lnTo>
                      <a:pt x="5" y="1447"/>
                    </a:lnTo>
                    <a:lnTo>
                      <a:pt x="4" y="1447"/>
                    </a:lnTo>
                    <a:lnTo>
                      <a:pt x="3" y="1447"/>
                    </a:lnTo>
                    <a:lnTo>
                      <a:pt x="1" y="1448"/>
                    </a:lnTo>
                    <a:lnTo>
                      <a:pt x="0" y="1449"/>
                    </a:lnTo>
                    <a:lnTo>
                      <a:pt x="0" y="1450"/>
                    </a:lnTo>
                    <a:lnTo>
                      <a:pt x="0" y="1452"/>
                    </a:lnTo>
                    <a:lnTo>
                      <a:pt x="0" y="1453"/>
                    </a:lnTo>
                    <a:lnTo>
                      <a:pt x="19" y="1488"/>
                    </a:lnTo>
                    <a:lnTo>
                      <a:pt x="36" y="1524"/>
                    </a:lnTo>
                    <a:lnTo>
                      <a:pt x="51" y="1560"/>
                    </a:lnTo>
                    <a:lnTo>
                      <a:pt x="64" y="1597"/>
                    </a:lnTo>
                    <a:lnTo>
                      <a:pt x="77" y="1635"/>
                    </a:lnTo>
                    <a:lnTo>
                      <a:pt x="91" y="1672"/>
                    </a:lnTo>
                    <a:lnTo>
                      <a:pt x="104" y="1709"/>
                    </a:lnTo>
                    <a:lnTo>
                      <a:pt x="119" y="1746"/>
                    </a:lnTo>
                    <a:lnTo>
                      <a:pt x="122" y="1750"/>
                    </a:lnTo>
                    <a:lnTo>
                      <a:pt x="125" y="1754"/>
                    </a:lnTo>
                    <a:lnTo>
                      <a:pt x="130" y="1755"/>
                    </a:lnTo>
                    <a:lnTo>
                      <a:pt x="135" y="1755"/>
                    </a:lnTo>
                    <a:lnTo>
                      <a:pt x="128" y="1787"/>
                    </a:lnTo>
                    <a:lnTo>
                      <a:pt x="122" y="1819"/>
                    </a:lnTo>
                    <a:lnTo>
                      <a:pt x="116" y="1851"/>
                    </a:lnTo>
                    <a:lnTo>
                      <a:pt x="110" y="1883"/>
                    </a:lnTo>
                    <a:lnTo>
                      <a:pt x="104" y="1914"/>
                    </a:lnTo>
                    <a:lnTo>
                      <a:pt x="99" y="1946"/>
                    </a:lnTo>
                    <a:lnTo>
                      <a:pt x="95" y="1978"/>
                    </a:lnTo>
                    <a:lnTo>
                      <a:pt x="90" y="2010"/>
                    </a:lnTo>
                    <a:lnTo>
                      <a:pt x="122" y="2010"/>
                    </a:lnTo>
                    <a:lnTo>
                      <a:pt x="128" y="1968"/>
                    </a:lnTo>
                    <a:lnTo>
                      <a:pt x="136" y="1925"/>
                    </a:lnTo>
                    <a:lnTo>
                      <a:pt x="144" y="1883"/>
                    </a:lnTo>
                    <a:lnTo>
                      <a:pt x="154" y="1840"/>
                    </a:lnTo>
                    <a:lnTo>
                      <a:pt x="163" y="1798"/>
                    </a:lnTo>
                    <a:lnTo>
                      <a:pt x="172" y="1755"/>
                    </a:lnTo>
                    <a:lnTo>
                      <a:pt x="183" y="1711"/>
                    </a:lnTo>
                    <a:lnTo>
                      <a:pt x="191" y="1668"/>
                    </a:lnTo>
                    <a:lnTo>
                      <a:pt x="200" y="1628"/>
                    </a:lnTo>
                    <a:lnTo>
                      <a:pt x="207" y="1587"/>
                    </a:lnTo>
                    <a:lnTo>
                      <a:pt x="215" y="1548"/>
                    </a:lnTo>
                    <a:lnTo>
                      <a:pt x="222" y="1508"/>
                    </a:lnTo>
                    <a:lnTo>
                      <a:pt x="228" y="1469"/>
                    </a:lnTo>
                    <a:lnTo>
                      <a:pt x="235" y="1430"/>
                    </a:lnTo>
                    <a:lnTo>
                      <a:pt x="241" y="1393"/>
                    </a:lnTo>
                    <a:lnTo>
                      <a:pt x="246" y="1354"/>
                    </a:lnTo>
                    <a:lnTo>
                      <a:pt x="257" y="1340"/>
                    </a:lnTo>
                    <a:lnTo>
                      <a:pt x="269" y="1327"/>
                    </a:lnTo>
                    <a:lnTo>
                      <a:pt x="281" y="1314"/>
                    </a:lnTo>
                    <a:lnTo>
                      <a:pt x="293" y="1299"/>
                    </a:lnTo>
                    <a:lnTo>
                      <a:pt x="305" y="1288"/>
                    </a:lnTo>
                    <a:lnTo>
                      <a:pt x="318" y="1275"/>
                    </a:lnTo>
                    <a:lnTo>
                      <a:pt x="331" y="1263"/>
                    </a:lnTo>
                    <a:lnTo>
                      <a:pt x="345" y="1251"/>
                    </a:lnTo>
                    <a:lnTo>
                      <a:pt x="359" y="1240"/>
                    </a:lnTo>
                    <a:lnTo>
                      <a:pt x="373" y="1230"/>
                    </a:lnTo>
                    <a:lnTo>
                      <a:pt x="387" y="1219"/>
                    </a:lnTo>
                    <a:lnTo>
                      <a:pt x="403" y="1211"/>
                    </a:lnTo>
                    <a:lnTo>
                      <a:pt x="418" y="1203"/>
                    </a:lnTo>
                    <a:lnTo>
                      <a:pt x="435" y="1194"/>
                    </a:lnTo>
                    <a:lnTo>
                      <a:pt x="451" y="1188"/>
                    </a:lnTo>
                    <a:lnTo>
                      <a:pt x="468" y="1183"/>
                    </a:lnTo>
                    <a:lnTo>
                      <a:pt x="469" y="1181"/>
                    </a:lnTo>
                    <a:lnTo>
                      <a:pt x="470" y="1180"/>
                    </a:lnTo>
                    <a:lnTo>
                      <a:pt x="470" y="1179"/>
                    </a:lnTo>
                    <a:lnTo>
                      <a:pt x="470" y="1178"/>
                    </a:lnTo>
                    <a:lnTo>
                      <a:pt x="470" y="1177"/>
                    </a:lnTo>
                    <a:lnTo>
                      <a:pt x="469" y="1177"/>
                    </a:lnTo>
                    <a:lnTo>
                      <a:pt x="468" y="1177"/>
                    </a:lnTo>
                    <a:lnTo>
                      <a:pt x="466" y="1177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Futura Bk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356720" y="5013720"/>
                <a:ext cx="131040" cy="78120"/>
              </a:xfrm>
              <a:custGeom>
                <a:avLst/>
                <a:gdLst/>
                <a:ahLst/>
                <a:rect l="l" t="t" r="r" b="b"/>
                <a:pathLst>
                  <a:path w="330" h="337">
                    <a:moveTo>
                      <a:pt x="239" y="7"/>
                    </a:moveTo>
                    <a:lnTo>
                      <a:pt x="233" y="1"/>
                    </a:lnTo>
                    <a:lnTo>
                      <a:pt x="226" y="0"/>
                    </a:lnTo>
                    <a:lnTo>
                      <a:pt x="218" y="1"/>
                    </a:lnTo>
                    <a:lnTo>
                      <a:pt x="209" y="4"/>
                    </a:lnTo>
                    <a:lnTo>
                      <a:pt x="200" y="9"/>
                    </a:lnTo>
                    <a:lnTo>
                      <a:pt x="192" y="16"/>
                    </a:lnTo>
                    <a:lnTo>
                      <a:pt x="184" y="24"/>
                    </a:lnTo>
                    <a:lnTo>
                      <a:pt x="178" y="31"/>
                    </a:lnTo>
                    <a:lnTo>
                      <a:pt x="177" y="33"/>
                    </a:lnTo>
                    <a:lnTo>
                      <a:pt x="177" y="33"/>
                    </a:lnTo>
                    <a:lnTo>
                      <a:pt x="177" y="34"/>
                    </a:lnTo>
                    <a:lnTo>
                      <a:pt x="175" y="35"/>
                    </a:lnTo>
                    <a:lnTo>
                      <a:pt x="172" y="62"/>
                    </a:lnTo>
                    <a:lnTo>
                      <a:pt x="171" y="90"/>
                    </a:lnTo>
                    <a:lnTo>
                      <a:pt x="166" y="116"/>
                    </a:lnTo>
                    <a:lnTo>
                      <a:pt x="154" y="140"/>
                    </a:lnTo>
                    <a:lnTo>
                      <a:pt x="147" y="149"/>
                    </a:lnTo>
                    <a:lnTo>
                      <a:pt x="139" y="157"/>
                    </a:lnTo>
                    <a:lnTo>
                      <a:pt x="129" y="161"/>
                    </a:lnTo>
                    <a:lnTo>
                      <a:pt x="120" y="164"/>
                    </a:lnTo>
                    <a:lnTo>
                      <a:pt x="108" y="165"/>
                    </a:lnTo>
                    <a:lnTo>
                      <a:pt x="96" y="165"/>
                    </a:lnTo>
                    <a:lnTo>
                      <a:pt x="83" y="165"/>
                    </a:lnTo>
                    <a:lnTo>
                      <a:pt x="70" y="164"/>
                    </a:lnTo>
                    <a:lnTo>
                      <a:pt x="61" y="162"/>
                    </a:lnTo>
                    <a:lnTo>
                      <a:pt x="53" y="162"/>
                    </a:lnTo>
                    <a:lnTo>
                      <a:pt x="43" y="162"/>
                    </a:lnTo>
                    <a:lnTo>
                      <a:pt x="35" y="162"/>
                    </a:lnTo>
                    <a:lnTo>
                      <a:pt x="26" y="162"/>
                    </a:lnTo>
                    <a:lnTo>
                      <a:pt x="17" y="164"/>
                    </a:lnTo>
                    <a:lnTo>
                      <a:pt x="8" y="166"/>
                    </a:lnTo>
                    <a:lnTo>
                      <a:pt x="0" y="168"/>
                    </a:lnTo>
                    <a:lnTo>
                      <a:pt x="93" y="337"/>
                    </a:lnTo>
                    <a:lnTo>
                      <a:pt x="96" y="337"/>
                    </a:lnTo>
                    <a:lnTo>
                      <a:pt x="105" y="331"/>
                    </a:lnTo>
                    <a:lnTo>
                      <a:pt x="113" y="322"/>
                    </a:lnTo>
                    <a:lnTo>
                      <a:pt x="119" y="316"/>
                    </a:lnTo>
                    <a:lnTo>
                      <a:pt x="124" y="312"/>
                    </a:lnTo>
                    <a:lnTo>
                      <a:pt x="128" y="309"/>
                    </a:lnTo>
                    <a:lnTo>
                      <a:pt x="133" y="306"/>
                    </a:lnTo>
                    <a:lnTo>
                      <a:pt x="137" y="304"/>
                    </a:lnTo>
                    <a:lnTo>
                      <a:pt x="141" y="302"/>
                    </a:lnTo>
                    <a:lnTo>
                      <a:pt x="146" y="301"/>
                    </a:lnTo>
                    <a:lnTo>
                      <a:pt x="149" y="301"/>
                    </a:lnTo>
                    <a:lnTo>
                      <a:pt x="154" y="299"/>
                    </a:lnTo>
                    <a:lnTo>
                      <a:pt x="162" y="299"/>
                    </a:lnTo>
                    <a:lnTo>
                      <a:pt x="172" y="301"/>
                    </a:lnTo>
                    <a:lnTo>
                      <a:pt x="180" y="302"/>
                    </a:lnTo>
                    <a:lnTo>
                      <a:pt x="190" y="304"/>
                    </a:lnTo>
                    <a:lnTo>
                      <a:pt x="198" y="305"/>
                    </a:lnTo>
                    <a:lnTo>
                      <a:pt x="207" y="305"/>
                    </a:lnTo>
                    <a:lnTo>
                      <a:pt x="216" y="304"/>
                    </a:lnTo>
                    <a:lnTo>
                      <a:pt x="225" y="302"/>
                    </a:lnTo>
                    <a:lnTo>
                      <a:pt x="237" y="296"/>
                    </a:lnTo>
                    <a:lnTo>
                      <a:pt x="245" y="288"/>
                    </a:lnTo>
                    <a:lnTo>
                      <a:pt x="251" y="277"/>
                    </a:lnTo>
                    <a:lnTo>
                      <a:pt x="256" y="264"/>
                    </a:lnTo>
                    <a:lnTo>
                      <a:pt x="258" y="251"/>
                    </a:lnTo>
                    <a:lnTo>
                      <a:pt x="262" y="237"/>
                    </a:lnTo>
                    <a:lnTo>
                      <a:pt x="264" y="223"/>
                    </a:lnTo>
                    <a:lnTo>
                      <a:pt x="268" y="209"/>
                    </a:lnTo>
                    <a:lnTo>
                      <a:pt x="269" y="206"/>
                    </a:lnTo>
                    <a:lnTo>
                      <a:pt x="271" y="203"/>
                    </a:lnTo>
                    <a:lnTo>
                      <a:pt x="272" y="199"/>
                    </a:lnTo>
                    <a:lnTo>
                      <a:pt x="273" y="197"/>
                    </a:lnTo>
                    <a:lnTo>
                      <a:pt x="279" y="190"/>
                    </a:lnTo>
                    <a:lnTo>
                      <a:pt x="285" y="183"/>
                    </a:lnTo>
                    <a:lnTo>
                      <a:pt x="292" y="177"/>
                    </a:lnTo>
                    <a:lnTo>
                      <a:pt x="299" y="172"/>
                    </a:lnTo>
                    <a:lnTo>
                      <a:pt x="306" y="168"/>
                    </a:lnTo>
                    <a:lnTo>
                      <a:pt x="315" y="167"/>
                    </a:lnTo>
                    <a:lnTo>
                      <a:pt x="322" y="167"/>
                    </a:lnTo>
                    <a:lnTo>
                      <a:pt x="330" y="168"/>
                    </a:lnTo>
                    <a:lnTo>
                      <a:pt x="239" y="7"/>
                    </a:lnTo>
                    <a:close/>
                  </a:path>
                </a:pathLst>
              </a:custGeom>
              <a:solidFill>
                <a:srgbClr val="3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Futura Bk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298040" y="4923360"/>
                <a:ext cx="131040" cy="78840"/>
              </a:xfrm>
              <a:custGeom>
                <a:avLst/>
                <a:gdLst/>
                <a:ahLst/>
                <a:rect l="l" t="t" r="r" b="b"/>
                <a:pathLst>
                  <a:path w="330" h="338">
                    <a:moveTo>
                      <a:pt x="238" y="7"/>
                    </a:moveTo>
                    <a:lnTo>
                      <a:pt x="232" y="2"/>
                    </a:lnTo>
                    <a:lnTo>
                      <a:pt x="225" y="0"/>
                    </a:lnTo>
                    <a:lnTo>
                      <a:pt x="217" y="2"/>
                    </a:lnTo>
                    <a:lnTo>
                      <a:pt x="209" y="5"/>
                    </a:lnTo>
                    <a:lnTo>
                      <a:pt x="201" y="11"/>
                    </a:lnTo>
                    <a:lnTo>
                      <a:pt x="191" y="18"/>
                    </a:lnTo>
                    <a:lnTo>
                      <a:pt x="184" y="25"/>
                    </a:lnTo>
                    <a:lnTo>
                      <a:pt x="178" y="33"/>
                    </a:lnTo>
                    <a:lnTo>
                      <a:pt x="177" y="35"/>
                    </a:lnTo>
                    <a:lnTo>
                      <a:pt x="177" y="35"/>
                    </a:lnTo>
                    <a:lnTo>
                      <a:pt x="176" y="35"/>
                    </a:lnTo>
                    <a:lnTo>
                      <a:pt x="176" y="36"/>
                    </a:lnTo>
                    <a:lnTo>
                      <a:pt x="172" y="63"/>
                    </a:lnTo>
                    <a:lnTo>
                      <a:pt x="171" y="91"/>
                    </a:lnTo>
                    <a:lnTo>
                      <a:pt x="166" y="118"/>
                    </a:lnTo>
                    <a:lnTo>
                      <a:pt x="154" y="142"/>
                    </a:lnTo>
                    <a:lnTo>
                      <a:pt x="147" y="151"/>
                    </a:lnTo>
                    <a:lnTo>
                      <a:pt x="139" y="159"/>
                    </a:lnTo>
                    <a:lnTo>
                      <a:pt x="130" y="163"/>
                    </a:lnTo>
                    <a:lnTo>
                      <a:pt x="119" y="166"/>
                    </a:lnTo>
                    <a:lnTo>
                      <a:pt x="108" y="167"/>
                    </a:lnTo>
                    <a:lnTo>
                      <a:pt x="95" y="167"/>
                    </a:lnTo>
                    <a:lnTo>
                      <a:pt x="84" y="166"/>
                    </a:lnTo>
                    <a:lnTo>
                      <a:pt x="71" y="164"/>
                    </a:lnTo>
                    <a:lnTo>
                      <a:pt x="61" y="164"/>
                    </a:lnTo>
                    <a:lnTo>
                      <a:pt x="53" y="163"/>
                    </a:lnTo>
                    <a:lnTo>
                      <a:pt x="44" y="163"/>
                    </a:lnTo>
                    <a:lnTo>
                      <a:pt x="35" y="163"/>
                    </a:lnTo>
                    <a:lnTo>
                      <a:pt x="26" y="163"/>
                    </a:lnTo>
                    <a:lnTo>
                      <a:pt x="18" y="164"/>
                    </a:lnTo>
                    <a:lnTo>
                      <a:pt x="8" y="167"/>
                    </a:lnTo>
                    <a:lnTo>
                      <a:pt x="0" y="169"/>
                    </a:lnTo>
                    <a:lnTo>
                      <a:pt x="93" y="338"/>
                    </a:lnTo>
                    <a:lnTo>
                      <a:pt x="97" y="338"/>
                    </a:lnTo>
                    <a:lnTo>
                      <a:pt x="105" y="332"/>
                    </a:lnTo>
                    <a:lnTo>
                      <a:pt x="113" y="323"/>
                    </a:lnTo>
                    <a:lnTo>
                      <a:pt x="119" y="317"/>
                    </a:lnTo>
                    <a:lnTo>
                      <a:pt x="127" y="310"/>
                    </a:lnTo>
                    <a:lnTo>
                      <a:pt x="137" y="305"/>
                    </a:lnTo>
                    <a:lnTo>
                      <a:pt x="145" y="303"/>
                    </a:lnTo>
                    <a:lnTo>
                      <a:pt x="153" y="301"/>
                    </a:lnTo>
                    <a:lnTo>
                      <a:pt x="163" y="301"/>
                    </a:lnTo>
                    <a:lnTo>
                      <a:pt x="171" y="303"/>
                    </a:lnTo>
                    <a:lnTo>
                      <a:pt x="180" y="304"/>
                    </a:lnTo>
                    <a:lnTo>
                      <a:pt x="189" y="305"/>
                    </a:lnTo>
                    <a:lnTo>
                      <a:pt x="198" y="306"/>
                    </a:lnTo>
                    <a:lnTo>
                      <a:pt x="206" y="307"/>
                    </a:lnTo>
                    <a:lnTo>
                      <a:pt x="216" y="306"/>
                    </a:lnTo>
                    <a:lnTo>
                      <a:pt x="224" y="304"/>
                    </a:lnTo>
                    <a:lnTo>
                      <a:pt x="236" y="298"/>
                    </a:lnTo>
                    <a:lnTo>
                      <a:pt x="245" y="288"/>
                    </a:lnTo>
                    <a:lnTo>
                      <a:pt x="251" y="278"/>
                    </a:lnTo>
                    <a:lnTo>
                      <a:pt x="255" y="265"/>
                    </a:lnTo>
                    <a:lnTo>
                      <a:pt x="258" y="252"/>
                    </a:lnTo>
                    <a:lnTo>
                      <a:pt x="261" y="238"/>
                    </a:lnTo>
                    <a:lnTo>
                      <a:pt x="264" y="223"/>
                    </a:lnTo>
                    <a:lnTo>
                      <a:pt x="268" y="211"/>
                    </a:lnTo>
                    <a:lnTo>
                      <a:pt x="269" y="207"/>
                    </a:lnTo>
                    <a:lnTo>
                      <a:pt x="270" y="203"/>
                    </a:lnTo>
                    <a:lnTo>
                      <a:pt x="273" y="201"/>
                    </a:lnTo>
                    <a:lnTo>
                      <a:pt x="274" y="198"/>
                    </a:lnTo>
                    <a:lnTo>
                      <a:pt x="280" y="190"/>
                    </a:lnTo>
                    <a:lnTo>
                      <a:pt x="286" y="183"/>
                    </a:lnTo>
                    <a:lnTo>
                      <a:pt x="293" y="177"/>
                    </a:lnTo>
                    <a:lnTo>
                      <a:pt x="300" y="173"/>
                    </a:lnTo>
                    <a:lnTo>
                      <a:pt x="307" y="169"/>
                    </a:lnTo>
                    <a:lnTo>
                      <a:pt x="315" y="168"/>
                    </a:lnTo>
                    <a:lnTo>
                      <a:pt x="322" y="168"/>
                    </a:lnTo>
                    <a:lnTo>
                      <a:pt x="330" y="169"/>
                    </a:lnTo>
                    <a:lnTo>
                      <a:pt x="238" y="7"/>
                    </a:lnTo>
                    <a:close/>
                  </a:path>
                </a:pathLst>
              </a:custGeom>
              <a:solidFill>
                <a:srgbClr val="3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Futura Bk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161240" y="5093280"/>
                <a:ext cx="145440" cy="70920"/>
              </a:xfrm>
              <a:custGeom>
                <a:avLst/>
                <a:gdLst/>
                <a:ahLst/>
                <a:rect l="l" t="t" r="r" b="b"/>
                <a:pathLst>
                  <a:path w="366" h="306">
                    <a:moveTo>
                      <a:pt x="363" y="159"/>
                    </a:moveTo>
                    <a:lnTo>
                      <a:pt x="366" y="152"/>
                    </a:lnTo>
                    <a:lnTo>
                      <a:pt x="365" y="144"/>
                    </a:lnTo>
                    <a:lnTo>
                      <a:pt x="360" y="137"/>
                    </a:lnTo>
                    <a:lnTo>
                      <a:pt x="354" y="130"/>
                    </a:lnTo>
                    <a:lnTo>
                      <a:pt x="346" y="124"/>
                    </a:lnTo>
                    <a:lnTo>
                      <a:pt x="337" y="119"/>
                    </a:lnTo>
                    <a:lnTo>
                      <a:pt x="326" y="114"/>
                    </a:lnTo>
                    <a:lnTo>
                      <a:pt x="317" y="112"/>
                    </a:lnTo>
                    <a:lnTo>
                      <a:pt x="316" y="112"/>
                    </a:lnTo>
                    <a:lnTo>
                      <a:pt x="316" y="112"/>
                    </a:lnTo>
                    <a:lnTo>
                      <a:pt x="314" y="112"/>
                    </a:lnTo>
                    <a:lnTo>
                      <a:pt x="313" y="111"/>
                    </a:lnTo>
                    <a:lnTo>
                      <a:pt x="300" y="114"/>
                    </a:lnTo>
                    <a:lnTo>
                      <a:pt x="286" y="118"/>
                    </a:lnTo>
                    <a:lnTo>
                      <a:pt x="273" y="123"/>
                    </a:lnTo>
                    <a:lnTo>
                      <a:pt x="260" y="127"/>
                    </a:lnTo>
                    <a:lnTo>
                      <a:pt x="246" y="131"/>
                    </a:lnTo>
                    <a:lnTo>
                      <a:pt x="233" y="133"/>
                    </a:lnTo>
                    <a:lnTo>
                      <a:pt x="220" y="133"/>
                    </a:lnTo>
                    <a:lnTo>
                      <a:pt x="207" y="132"/>
                    </a:lnTo>
                    <a:lnTo>
                      <a:pt x="195" y="130"/>
                    </a:lnTo>
                    <a:lnTo>
                      <a:pt x="186" y="124"/>
                    </a:lnTo>
                    <a:lnTo>
                      <a:pt x="179" y="117"/>
                    </a:lnTo>
                    <a:lnTo>
                      <a:pt x="171" y="109"/>
                    </a:lnTo>
                    <a:lnTo>
                      <a:pt x="167" y="99"/>
                    </a:lnTo>
                    <a:lnTo>
                      <a:pt x="162" y="87"/>
                    </a:lnTo>
                    <a:lnTo>
                      <a:pt x="157" y="75"/>
                    </a:lnTo>
                    <a:lnTo>
                      <a:pt x="154" y="64"/>
                    </a:lnTo>
                    <a:lnTo>
                      <a:pt x="148" y="47"/>
                    </a:lnTo>
                    <a:lnTo>
                      <a:pt x="142" y="29"/>
                    </a:lnTo>
                    <a:lnTo>
                      <a:pt x="133" y="14"/>
                    </a:lnTo>
                    <a:lnTo>
                      <a:pt x="122" y="0"/>
                    </a:lnTo>
                    <a:lnTo>
                      <a:pt x="2" y="150"/>
                    </a:lnTo>
                    <a:lnTo>
                      <a:pt x="0" y="151"/>
                    </a:lnTo>
                    <a:lnTo>
                      <a:pt x="3" y="153"/>
                    </a:lnTo>
                    <a:lnTo>
                      <a:pt x="6" y="156"/>
                    </a:lnTo>
                    <a:lnTo>
                      <a:pt x="12" y="158"/>
                    </a:lnTo>
                    <a:lnTo>
                      <a:pt x="18" y="160"/>
                    </a:lnTo>
                    <a:lnTo>
                      <a:pt x="23" y="163"/>
                    </a:lnTo>
                    <a:lnTo>
                      <a:pt x="27" y="165"/>
                    </a:lnTo>
                    <a:lnTo>
                      <a:pt x="31" y="166"/>
                    </a:lnTo>
                    <a:lnTo>
                      <a:pt x="42" y="172"/>
                    </a:lnTo>
                    <a:lnTo>
                      <a:pt x="49" y="178"/>
                    </a:lnTo>
                    <a:lnTo>
                      <a:pt x="55" y="185"/>
                    </a:lnTo>
                    <a:lnTo>
                      <a:pt x="59" y="192"/>
                    </a:lnTo>
                    <a:lnTo>
                      <a:pt x="65" y="209"/>
                    </a:lnTo>
                    <a:lnTo>
                      <a:pt x="69" y="227"/>
                    </a:lnTo>
                    <a:lnTo>
                      <a:pt x="75" y="243"/>
                    </a:lnTo>
                    <a:lnTo>
                      <a:pt x="84" y="258"/>
                    </a:lnTo>
                    <a:lnTo>
                      <a:pt x="95" y="268"/>
                    </a:lnTo>
                    <a:lnTo>
                      <a:pt x="107" y="273"/>
                    </a:lnTo>
                    <a:lnTo>
                      <a:pt x="118" y="274"/>
                    </a:lnTo>
                    <a:lnTo>
                      <a:pt x="131" y="273"/>
                    </a:lnTo>
                    <a:lnTo>
                      <a:pt x="146" y="270"/>
                    </a:lnTo>
                    <a:lnTo>
                      <a:pt x="159" y="267"/>
                    </a:lnTo>
                    <a:lnTo>
                      <a:pt x="173" y="264"/>
                    </a:lnTo>
                    <a:lnTo>
                      <a:pt x="187" y="263"/>
                    </a:lnTo>
                    <a:lnTo>
                      <a:pt x="190" y="263"/>
                    </a:lnTo>
                    <a:lnTo>
                      <a:pt x="194" y="263"/>
                    </a:lnTo>
                    <a:lnTo>
                      <a:pt x="197" y="263"/>
                    </a:lnTo>
                    <a:lnTo>
                      <a:pt x="201" y="264"/>
                    </a:lnTo>
                    <a:lnTo>
                      <a:pt x="210" y="267"/>
                    </a:lnTo>
                    <a:lnTo>
                      <a:pt x="219" y="269"/>
                    </a:lnTo>
                    <a:lnTo>
                      <a:pt x="227" y="274"/>
                    </a:lnTo>
                    <a:lnTo>
                      <a:pt x="234" y="278"/>
                    </a:lnTo>
                    <a:lnTo>
                      <a:pt x="239" y="284"/>
                    </a:lnTo>
                    <a:lnTo>
                      <a:pt x="244" y="290"/>
                    </a:lnTo>
                    <a:lnTo>
                      <a:pt x="247" y="297"/>
                    </a:lnTo>
                    <a:lnTo>
                      <a:pt x="248" y="306"/>
                    </a:lnTo>
                    <a:lnTo>
                      <a:pt x="363" y="159"/>
                    </a:lnTo>
                    <a:close/>
                  </a:path>
                </a:pathLst>
              </a:custGeom>
              <a:solidFill>
                <a:srgbClr val="3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Futura Bk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177080" y="5259960"/>
                <a:ext cx="144720" cy="72000"/>
              </a:xfrm>
              <a:custGeom>
                <a:avLst/>
                <a:gdLst/>
                <a:ahLst/>
                <a:rect l="l" t="t" r="r" b="b"/>
                <a:pathLst>
                  <a:path w="365" h="311">
                    <a:moveTo>
                      <a:pt x="362" y="169"/>
                    </a:moveTo>
                    <a:lnTo>
                      <a:pt x="365" y="162"/>
                    </a:lnTo>
                    <a:lnTo>
                      <a:pt x="364" y="155"/>
                    </a:lnTo>
                    <a:lnTo>
                      <a:pt x="361" y="148"/>
                    </a:lnTo>
                    <a:lnTo>
                      <a:pt x="355" y="141"/>
                    </a:lnTo>
                    <a:lnTo>
                      <a:pt x="346" y="134"/>
                    </a:lnTo>
                    <a:lnTo>
                      <a:pt x="337" y="129"/>
                    </a:lnTo>
                    <a:lnTo>
                      <a:pt x="327" y="124"/>
                    </a:lnTo>
                    <a:lnTo>
                      <a:pt x="318" y="121"/>
                    </a:lnTo>
                    <a:lnTo>
                      <a:pt x="317" y="121"/>
                    </a:lnTo>
                    <a:lnTo>
                      <a:pt x="316" y="121"/>
                    </a:lnTo>
                    <a:lnTo>
                      <a:pt x="314" y="121"/>
                    </a:lnTo>
                    <a:lnTo>
                      <a:pt x="313" y="119"/>
                    </a:lnTo>
                    <a:lnTo>
                      <a:pt x="300" y="122"/>
                    </a:lnTo>
                    <a:lnTo>
                      <a:pt x="286" y="127"/>
                    </a:lnTo>
                    <a:lnTo>
                      <a:pt x="273" y="130"/>
                    </a:lnTo>
                    <a:lnTo>
                      <a:pt x="260" y="134"/>
                    </a:lnTo>
                    <a:lnTo>
                      <a:pt x="246" y="137"/>
                    </a:lnTo>
                    <a:lnTo>
                      <a:pt x="233" y="138"/>
                    </a:lnTo>
                    <a:lnTo>
                      <a:pt x="220" y="138"/>
                    </a:lnTo>
                    <a:lnTo>
                      <a:pt x="207" y="136"/>
                    </a:lnTo>
                    <a:lnTo>
                      <a:pt x="195" y="132"/>
                    </a:lnTo>
                    <a:lnTo>
                      <a:pt x="187" y="128"/>
                    </a:lnTo>
                    <a:lnTo>
                      <a:pt x="179" y="119"/>
                    </a:lnTo>
                    <a:lnTo>
                      <a:pt x="173" y="111"/>
                    </a:lnTo>
                    <a:lnTo>
                      <a:pt x="168" y="101"/>
                    </a:lnTo>
                    <a:lnTo>
                      <a:pt x="165" y="90"/>
                    </a:lnTo>
                    <a:lnTo>
                      <a:pt x="161" y="78"/>
                    </a:lnTo>
                    <a:lnTo>
                      <a:pt x="157" y="65"/>
                    </a:lnTo>
                    <a:lnTo>
                      <a:pt x="152" y="49"/>
                    </a:lnTo>
                    <a:lnTo>
                      <a:pt x="146" y="31"/>
                    </a:lnTo>
                    <a:lnTo>
                      <a:pt x="139" y="16"/>
                    </a:lnTo>
                    <a:lnTo>
                      <a:pt x="128" y="0"/>
                    </a:lnTo>
                    <a:lnTo>
                      <a:pt x="2" y="145"/>
                    </a:lnTo>
                    <a:lnTo>
                      <a:pt x="0" y="147"/>
                    </a:lnTo>
                    <a:lnTo>
                      <a:pt x="3" y="149"/>
                    </a:lnTo>
                    <a:lnTo>
                      <a:pt x="6" y="151"/>
                    </a:lnTo>
                    <a:lnTo>
                      <a:pt x="11" y="154"/>
                    </a:lnTo>
                    <a:lnTo>
                      <a:pt x="17" y="156"/>
                    </a:lnTo>
                    <a:lnTo>
                      <a:pt x="22" y="160"/>
                    </a:lnTo>
                    <a:lnTo>
                      <a:pt x="26" y="162"/>
                    </a:lnTo>
                    <a:lnTo>
                      <a:pt x="30" y="163"/>
                    </a:lnTo>
                    <a:lnTo>
                      <a:pt x="41" y="169"/>
                    </a:lnTo>
                    <a:lnTo>
                      <a:pt x="48" y="176"/>
                    </a:lnTo>
                    <a:lnTo>
                      <a:pt x="54" y="183"/>
                    </a:lnTo>
                    <a:lnTo>
                      <a:pt x="57" y="190"/>
                    </a:lnTo>
                    <a:lnTo>
                      <a:pt x="63" y="208"/>
                    </a:lnTo>
                    <a:lnTo>
                      <a:pt x="65" y="226"/>
                    </a:lnTo>
                    <a:lnTo>
                      <a:pt x="70" y="242"/>
                    </a:lnTo>
                    <a:lnTo>
                      <a:pt x="80" y="258"/>
                    </a:lnTo>
                    <a:lnTo>
                      <a:pt x="89" y="267"/>
                    </a:lnTo>
                    <a:lnTo>
                      <a:pt x="101" y="272"/>
                    </a:lnTo>
                    <a:lnTo>
                      <a:pt x="113" y="274"/>
                    </a:lnTo>
                    <a:lnTo>
                      <a:pt x="126" y="273"/>
                    </a:lnTo>
                    <a:lnTo>
                      <a:pt x="140" y="272"/>
                    </a:lnTo>
                    <a:lnTo>
                      <a:pt x="154" y="269"/>
                    </a:lnTo>
                    <a:lnTo>
                      <a:pt x="168" y="267"/>
                    </a:lnTo>
                    <a:lnTo>
                      <a:pt x="182" y="267"/>
                    </a:lnTo>
                    <a:lnTo>
                      <a:pt x="186" y="267"/>
                    </a:lnTo>
                    <a:lnTo>
                      <a:pt x="189" y="267"/>
                    </a:lnTo>
                    <a:lnTo>
                      <a:pt x="193" y="267"/>
                    </a:lnTo>
                    <a:lnTo>
                      <a:pt x="195" y="268"/>
                    </a:lnTo>
                    <a:lnTo>
                      <a:pt x="205" y="271"/>
                    </a:lnTo>
                    <a:lnTo>
                      <a:pt x="213" y="274"/>
                    </a:lnTo>
                    <a:lnTo>
                      <a:pt x="221" y="279"/>
                    </a:lnTo>
                    <a:lnTo>
                      <a:pt x="227" y="284"/>
                    </a:lnTo>
                    <a:lnTo>
                      <a:pt x="233" y="289"/>
                    </a:lnTo>
                    <a:lnTo>
                      <a:pt x="238" y="295"/>
                    </a:lnTo>
                    <a:lnTo>
                      <a:pt x="240" y="302"/>
                    </a:lnTo>
                    <a:lnTo>
                      <a:pt x="241" y="311"/>
                    </a:lnTo>
                    <a:lnTo>
                      <a:pt x="362" y="169"/>
                    </a:lnTo>
                    <a:close/>
                  </a:path>
                </a:pathLst>
              </a:custGeom>
              <a:solidFill>
                <a:srgbClr val="3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Futura Bk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79040" y="5195520"/>
                <a:ext cx="130320" cy="78480"/>
              </a:xfrm>
              <a:custGeom>
                <a:avLst/>
                <a:gdLst/>
                <a:ahLst/>
                <a:rect l="l" t="t" r="r" b="b"/>
                <a:pathLst>
                  <a:path w="329" h="337">
                    <a:moveTo>
                      <a:pt x="239" y="7"/>
                    </a:moveTo>
                    <a:lnTo>
                      <a:pt x="233" y="1"/>
                    </a:lnTo>
                    <a:lnTo>
                      <a:pt x="226" y="0"/>
                    </a:lnTo>
                    <a:lnTo>
                      <a:pt x="217" y="0"/>
                    </a:lnTo>
                    <a:lnTo>
                      <a:pt x="209" y="4"/>
                    </a:lnTo>
                    <a:lnTo>
                      <a:pt x="200" y="10"/>
                    </a:lnTo>
                    <a:lnTo>
                      <a:pt x="191" y="17"/>
                    </a:lnTo>
                    <a:lnTo>
                      <a:pt x="184" y="24"/>
                    </a:lnTo>
                    <a:lnTo>
                      <a:pt x="177" y="32"/>
                    </a:lnTo>
                    <a:lnTo>
                      <a:pt x="177" y="33"/>
                    </a:lnTo>
                    <a:lnTo>
                      <a:pt x="176" y="33"/>
                    </a:lnTo>
                    <a:lnTo>
                      <a:pt x="176" y="34"/>
                    </a:lnTo>
                    <a:lnTo>
                      <a:pt x="175" y="34"/>
                    </a:lnTo>
                    <a:lnTo>
                      <a:pt x="171" y="62"/>
                    </a:lnTo>
                    <a:lnTo>
                      <a:pt x="170" y="90"/>
                    </a:lnTo>
                    <a:lnTo>
                      <a:pt x="165" y="117"/>
                    </a:lnTo>
                    <a:lnTo>
                      <a:pt x="155" y="141"/>
                    </a:lnTo>
                    <a:lnTo>
                      <a:pt x="148" y="150"/>
                    </a:lnTo>
                    <a:lnTo>
                      <a:pt x="139" y="157"/>
                    </a:lnTo>
                    <a:lnTo>
                      <a:pt x="130" y="162"/>
                    </a:lnTo>
                    <a:lnTo>
                      <a:pt x="119" y="164"/>
                    </a:lnTo>
                    <a:lnTo>
                      <a:pt x="107" y="165"/>
                    </a:lnTo>
                    <a:lnTo>
                      <a:pt x="96" y="165"/>
                    </a:lnTo>
                    <a:lnTo>
                      <a:pt x="83" y="164"/>
                    </a:lnTo>
                    <a:lnTo>
                      <a:pt x="70" y="163"/>
                    </a:lnTo>
                    <a:lnTo>
                      <a:pt x="61" y="163"/>
                    </a:lnTo>
                    <a:lnTo>
                      <a:pt x="52" y="162"/>
                    </a:lnTo>
                    <a:lnTo>
                      <a:pt x="44" y="162"/>
                    </a:lnTo>
                    <a:lnTo>
                      <a:pt x="35" y="162"/>
                    </a:lnTo>
                    <a:lnTo>
                      <a:pt x="26" y="163"/>
                    </a:lnTo>
                    <a:lnTo>
                      <a:pt x="18" y="164"/>
                    </a:lnTo>
                    <a:lnTo>
                      <a:pt x="8" y="165"/>
                    </a:lnTo>
                    <a:lnTo>
                      <a:pt x="0" y="169"/>
                    </a:lnTo>
                    <a:lnTo>
                      <a:pt x="92" y="337"/>
                    </a:lnTo>
                    <a:lnTo>
                      <a:pt x="96" y="337"/>
                    </a:lnTo>
                    <a:lnTo>
                      <a:pt x="104" y="331"/>
                    </a:lnTo>
                    <a:lnTo>
                      <a:pt x="112" y="322"/>
                    </a:lnTo>
                    <a:lnTo>
                      <a:pt x="119" y="317"/>
                    </a:lnTo>
                    <a:lnTo>
                      <a:pt x="128" y="309"/>
                    </a:lnTo>
                    <a:lnTo>
                      <a:pt x="137" y="305"/>
                    </a:lnTo>
                    <a:lnTo>
                      <a:pt x="145" y="301"/>
                    </a:lnTo>
                    <a:lnTo>
                      <a:pt x="154" y="300"/>
                    </a:lnTo>
                    <a:lnTo>
                      <a:pt x="163" y="300"/>
                    </a:lnTo>
                    <a:lnTo>
                      <a:pt x="171" y="301"/>
                    </a:lnTo>
                    <a:lnTo>
                      <a:pt x="181" y="302"/>
                    </a:lnTo>
                    <a:lnTo>
                      <a:pt x="189" y="304"/>
                    </a:lnTo>
                    <a:lnTo>
                      <a:pt x="198" y="305"/>
                    </a:lnTo>
                    <a:lnTo>
                      <a:pt x="207" y="306"/>
                    </a:lnTo>
                    <a:lnTo>
                      <a:pt x="216" y="305"/>
                    </a:lnTo>
                    <a:lnTo>
                      <a:pt x="224" y="302"/>
                    </a:lnTo>
                    <a:lnTo>
                      <a:pt x="236" y="297"/>
                    </a:lnTo>
                    <a:lnTo>
                      <a:pt x="246" y="287"/>
                    </a:lnTo>
                    <a:lnTo>
                      <a:pt x="251" y="276"/>
                    </a:lnTo>
                    <a:lnTo>
                      <a:pt x="255" y="263"/>
                    </a:lnTo>
                    <a:lnTo>
                      <a:pt x="259" y="250"/>
                    </a:lnTo>
                    <a:lnTo>
                      <a:pt x="261" y="236"/>
                    </a:lnTo>
                    <a:lnTo>
                      <a:pt x="264" y="222"/>
                    </a:lnTo>
                    <a:lnTo>
                      <a:pt x="268" y="209"/>
                    </a:lnTo>
                    <a:lnTo>
                      <a:pt x="269" y="206"/>
                    </a:lnTo>
                    <a:lnTo>
                      <a:pt x="270" y="202"/>
                    </a:lnTo>
                    <a:lnTo>
                      <a:pt x="273" y="200"/>
                    </a:lnTo>
                    <a:lnTo>
                      <a:pt x="274" y="196"/>
                    </a:lnTo>
                    <a:lnTo>
                      <a:pt x="280" y="189"/>
                    </a:lnTo>
                    <a:lnTo>
                      <a:pt x="286" y="182"/>
                    </a:lnTo>
                    <a:lnTo>
                      <a:pt x="293" y="176"/>
                    </a:lnTo>
                    <a:lnTo>
                      <a:pt x="300" y="171"/>
                    </a:lnTo>
                    <a:lnTo>
                      <a:pt x="307" y="169"/>
                    </a:lnTo>
                    <a:lnTo>
                      <a:pt x="314" y="168"/>
                    </a:lnTo>
                    <a:lnTo>
                      <a:pt x="322" y="168"/>
                    </a:lnTo>
                    <a:lnTo>
                      <a:pt x="329" y="169"/>
                    </a:lnTo>
                    <a:lnTo>
                      <a:pt x="239" y="7"/>
                    </a:lnTo>
                    <a:close/>
                  </a:path>
                </a:pathLst>
              </a:custGeom>
              <a:solidFill>
                <a:srgbClr val="3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Futura Bk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6084720" y="4508640"/>
            <a:ext cx="1155960" cy="990360"/>
            <a:chOff x="6084720" y="4508640"/>
            <a:chExt cx="1155960" cy="990360"/>
          </a:xfrm>
        </p:grpSpPr>
        <p:sp>
          <p:nvSpPr>
            <p:cNvPr id="313" name=""/>
            <p:cNvSpPr/>
            <p:nvPr/>
          </p:nvSpPr>
          <p:spPr>
            <a:xfrm>
              <a:off x="6230520" y="4508640"/>
              <a:ext cx="1010160" cy="850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47000" y="4573800"/>
              <a:ext cx="1010160" cy="850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84720" y="4648680"/>
              <a:ext cx="1010160" cy="85032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6483240" y="5251680"/>
              <a:ext cx="219600" cy="222840"/>
              <a:chOff x="6483240" y="5251680"/>
              <a:chExt cx="219600" cy="222840"/>
            </a:xfrm>
          </p:grpSpPr>
          <p:sp>
            <p:nvSpPr>
              <p:cNvPr id="317" name=""/>
              <p:cNvSpPr/>
              <p:nvPr/>
            </p:nvSpPr>
            <p:spPr>
              <a:xfrm>
                <a:off x="6483240" y="5251680"/>
                <a:ext cx="219600" cy="126360"/>
              </a:xfrm>
              <a:custGeom>
                <a:avLst/>
                <a:gdLst/>
                <a:ahLst/>
                <a:rect l="l" t="t" r="r" b="b"/>
                <a:pathLst>
                  <a:path w="330" h="338">
                    <a:moveTo>
                      <a:pt x="240" y="7"/>
                    </a:moveTo>
                    <a:lnTo>
                      <a:pt x="234" y="1"/>
                    </a:lnTo>
                    <a:lnTo>
                      <a:pt x="227" y="0"/>
                    </a:lnTo>
                    <a:lnTo>
                      <a:pt x="218" y="1"/>
                    </a:lnTo>
                    <a:lnTo>
                      <a:pt x="209" y="5"/>
                    </a:lnTo>
                    <a:lnTo>
                      <a:pt x="201" y="11"/>
                    </a:lnTo>
                    <a:lnTo>
                      <a:pt x="192" y="18"/>
                    </a:lnTo>
                    <a:lnTo>
                      <a:pt x="184" y="25"/>
                    </a:lnTo>
                    <a:lnTo>
                      <a:pt x="178" y="33"/>
                    </a:lnTo>
                    <a:lnTo>
                      <a:pt x="177" y="34"/>
                    </a:lnTo>
                    <a:lnTo>
                      <a:pt x="177" y="34"/>
                    </a:lnTo>
                    <a:lnTo>
                      <a:pt x="177" y="34"/>
                    </a:lnTo>
                    <a:lnTo>
                      <a:pt x="176" y="35"/>
                    </a:lnTo>
                    <a:lnTo>
                      <a:pt x="172" y="63"/>
                    </a:lnTo>
                    <a:lnTo>
                      <a:pt x="171" y="91"/>
                    </a:lnTo>
                    <a:lnTo>
                      <a:pt x="166" y="118"/>
                    </a:lnTo>
                    <a:lnTo>
                      <a:pt x="155" y="142"/>
                    </a:lnTo>
                    <a:lnTo>
                      <a:pt x="147" y="151"/>
                    </a:lnTo>
                    <a:lnTo>
                      <a:pt x="139" y="158"/>
                    </a:lnTo>
                    <a:lnTo>
                      <a:pt x="130" y="163"/>
                    </a:lnTo>
                    <a:lnTo>
                      <a:pt x="120" y="165"/>
                    </a:lnTo>
                    <a:lnTo>
                      <a:pt x="109" y="166"/>
                    </a:lnTo>
                    <a:lnTo>
                      <a:pt x="97" y="166"/>
                    </a:lnTo>
                    <a:lnTo>
                      <a:pt x="84" y="165"/>
                    </a:lnTo>
                    <a:lnTo>
                      <a:pt x="71" y="164"/>
                    </a:lnTo>
                    <a:lnTo>
                      <a:pt x="61" y="164"/>
                    </a:lnTo>
                    <a:lnTo>
                      <a:pt x="53" y="163"/>
                    </a:lnTo>
                    <a:lnTo>
                      <a:pt x="44" y="163"/>
                    </a:lnTo>
                    <a:lnTo>
                      <a:pt x="35" y="163"/>
                    </a:lnTo>
                    <a:lnTo>
                      <a:pt x="26" y="163"/>
                    </a:lnTo>
                    <a:lnTo>
                      <a:pt x="18" y="164"/>
                    </a:lnTo>
                    <a:lnTo>
                      <a:pt x="8" y="166"/>
                    </a:lnTo>
                    <a:lnTo>
                      <a:pt x="0" y="169"/>
                    </a:lnTo>
                    <a:lnTo>
                      <a:pt x="93" y="338"/>
                    </a:lnTo>
                    <a:lnTo>
                      <a:pt x="97" y="338"/>
                    </a:lnTo>
                    <a:lnTo>
                      <a:pt x="105" y="332"/>
                    </a:lnTo>
                    <a:lnTo>
                      <a:pt x="113" y="323"/>
                    </a:lnTo>
                    <a:lnTo>
                      <a:pt x="119" y="317"/>
                    </a:lnTo>
                    <a:lnTo>
                      <a:pt x="124" y="314"/>
                    </a:lnTo>
                    <a:lnTo>
                      <a:pt x="129" y="310"/>
                    </a:lnTo>
                    <a:lnTo>
                      <a:pt x="133" y="307"/>
                    </a:lnTo>
                    <a:lnTo>
                      <a:pt x="137" y="306"/>
                    </a:lnTo>
                    <a:lnTo>
                      <a:pt x="142" y="303"/>
                    </a:lnTo>
                    <a:lnTo>
                      <a:pt x="146" y="302"/>
                    </a:lnTo>
                    <a:lnTo>
                      <a:pt x="150" y="301"/>
                    </a:lnTo>
                    <a:lnTo>
                      <a:pt x="155" y="301"/>
                    </a:lnTo>
                    <a:lnTo>
                      <a:pt x="163" y="301"/>
                    </a:lnTo>
                    <a:lnTo>
                      <a:pt x="172" y="302"/>
                    </a:lnTo>
                    <a:lnTo>
                      <a:pt x="181" y="303"/>
                    </a:lnTo>
                    <a:lnTo>
                      <a:pt x="190" y="304"/>
                    </a:lnTo>
                    <a:lnTo>
                      <a:pt x="198" y="306"/>
                    </a:lnTo>
                    <a:lnTo>
                      <a:pt x="208" y="307"/>
                    </a:lnTo>
                    <a:lnTo>
                      <a:pt x="216" y="306"/>
                    </a:lnTo>
                    <a:lnTo>
                      <a:pt x="225" y="303"/>
                    </a:lnTo>
                    <a:lnTo>
                      <a:pt x="237" y="297"/>
                    </a:lnTo>
                    <a:lnTo>
                      <a:pt x="247" y="288"/>
                    </a:lnTo>
                    <a:lnTo>
                      <a:pt x="253" y="277"/>
                    </a:lnTo>
                    <a:lnTo>
                      <a:pt x="256" y="264"/>
                    </a:lnTo>
                    <a:lnTo>
                      <a:pt x="260" y="251"/>
                    </a:lnTo>
                    <a:lnTo>
                      <a:pt x="262" y="237"/>
                    </a:lnTo>
                    <a:lnTo>
                      <a:pt x="266" y="223"/>
                    </a:lnTo>
                    <a:lnTo>
                      <a:pt x="269" y="210"/>
                    </a:lnTo>
                    <a:lnTo>
                      <a:pt x="270" y="207"/>
                    </a:lnTo>
                    <a:lnTo>
                      <a:pt x="271" y="203"/>
                    </a:lnTo>
                    <a:lnTo>
                      <a:pt x="273" y="201"/>
                    </a:lnTo>
                    <a:lnTo>
                      <a:pt x="274" y="197"/>
                    </a:lnTo>
                    <a:lnTo>
                      <a:pt x="280" y="190"/>
                    </a:lnTo>
                    <a:lnTo>
                      <a:pt x="286" y="183"/>
                    </a:lnTo>
                    <a:lnTo>
                      <a:pt x="293" y="177"/>
                    </a:lnTo>
                    <a:lnTo>
                      <a:pt x="300" y="172"/>
                    </a:lnTo>
                    <a:lnTo>
                      <a:pt x="307" y="170"/>
                    </a:lnTo>
                    <a:lnTo>
                      <a:pt x="315" y="168"/>
                    </a:lnTo>
                    <a:lnTo>
                      <a:pt x="322" y="168"/>
                    </a:lnTo>
                    <a:lnTo>
                      <a:pt x="330" y="169"/>
                    </a:lnTo>
                    <a:lnTo>
                      <a:pt x="240" y="7"/>
                    </a:lnTo>
                    <a:close/>
                  </a:path>
                </a:pathLst>
              </a:custGeom>
              <a:solidFill>
                <a:srgbClr val="3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Futura Bk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580800" y="5349600"/>
                <a:ext cx="67320" cy="124920"/>
              </a:xfrm>
              <a:custGeom>
                <a:avLst/>
                <a:gdLst/>
                <a:ahLst/>
                <a:rect l="l" t="t" r="r" b="b"/>
                <a:pathLst>
                  <a:path w="102" h="332">
                    <a:moveTo>
                      <a:pt x="5" y="2"/>
                    </a:moveTo>
                    <a:lnTo>
                      <a:pt x="0" y="32"/>
                    </a:lnTo>
                    <a:lnTo>
                      <a:pt x="3" y="60"/>
                    </a:lnTo>
                    <a:lnTo>
                      <a:pt x="11" y="89"/>
                    </a:lnTo>
                    <a:lnTo>
                      <a:pt x="22" y="116"/>
                    </a:lnTo>
                    <a:lnTo>
                      <a:pt x="34" y="142"/>
                    </a:lnTo>
                    <a:lnTo>
                      <a:pt x="47" y="169"/>
                    </a:lnTo>
                    <a:lnTo>
                      <a:pt x="58" y="197"/>
                    </a:lnTo>
                    <a:lnTo>
                      <a:pt x="67" y="225"/>
                    </a:lnTo>
                    <a:lnTo>
                      <a:pt x="69" y="238"/>
                    </a:lnTo>
                    <a:lnTo>
                      <a:pt x="68" y="250"/>
                    </a:lnTo>
                    <a:lnTo>
                      <a:pt x="65" y="261"/>
                    </a:lnTo>
                    <a:lnTo>
                      <a:pt x="61" y="271"/>
                    </a:lnTo>
                    <a:lnTo>
                      <a:pt x="56" y="282"/>
                    </a:lnTo>
                    <a:lnTo>
                      <a:pt x="50" y="293"/>
                    </a:lnTo>
                    <a:lnTo>
                      <a:pt x="44" y="303"/>
                    </a:lnTo>
                    <a:lnTo>
                      <a:pt x="38" y="314"/>
                    </a:lnTo>
                    <a:lnTo>
                      <a:pt x="37" y="319"/>
                    </a:lnTo>
                    <a:lnTo>
                      <a:pt x="37" y="323"/>
                    </a:lnTo>
                    <a:lnTo>
                      <a:pt x="38" y="327"/>
                    </a:lnTo>
                    <a:lnTo>
                      <a:pt x="42" y="331"/>
                    </a:lnTo>
                    <a:lnTo>
                      <a:pt x="47" y="332"/>
                    </a:lnTo>
                    <a:lnTo>
                      <a:pt x="51" y="332"/>
                    </a:lnTo>
                    <a:lnTo>
                      <a:pt x="55" y="331"/>
                    </a:lnTo>
                    <a:lnTo>
                      <a:pt x="58" y="327"/>
                    </a:lnTo>
                    <a:lnTo>
                      <a:pt x="74" y="310"/>
                    </a:lnTo>
                    <a:lnTo>
                      <a:pt x="85" y="293"/>
                    </a:lnTo>
                    <a:lnTo>
                      <a:pt x="95" y="274"/>
                    </a:lnTo>
                    <a:lnTo>
                      <a:pt x="101" y="254"/>
                    </a:lnTo>
                    <a:lnTo>
                      <a:pt x="102" y="234"/>
                    </a:lnTo>
                    <a:lnTo>
                      <a:pt x="100" y="212"/>
                    </a:lnTo>
                    <a:lnTo>
                      <a:pt x="93" y="192"/>
                    </a:lnTo>
                    <a:lnTo>
                      <a:pt x="81" y="174"/>
                    </a:lnTo>
                    <a:lnTo>
                      <a:pt x="67" y="153"/>
                    </a:lnTo>
                    <a:lnTo>
                      <a:pt x="54" y="133"/>
                    </a:lnTo>
                    <a:lnTo>
                      <a:pt x="42" y="113"/>
                    </a:lnTo>
                    <a:lnTo>
                      <a:pt x="32" y="92"/>
                    </a:lnTo>
                    <a:lnTo>
                      <a:pt x="24" y="71"/>
                    </a:lnTo>
                    <a:lnTo>
                      <a:pt x="17" y="48"/>
                    </a:lnTo>
                    <a:lnTo>
                      <a:pt x="12" y="26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Futura Bk"/>
                </a:endParaRPr>
              </a:p>
            </p:txBody>
          </p:sp>
        </p:grpSp>
      </p:grpSp>
      <p:sp>
        <p:nvSpPr>
          <p:cNvPr id="319" name=""/>
          <p:cNvSpPr/>
          <p:nvPr/>
        </p:nvSpPr>
        <p:spPr>
          <a:xfrm>
            <a:off x="684360" y="333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utura Lt"/>
                <a:ea typeface="幼圆"/>
              </a:rPr>
              <a:t>理由四：三层面论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BD815-C667-47A4-A8AA-A962F69D6733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5BBC566B-6C90-4EF2-A89D-325103DBF66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787640" y="217080"/>
            <a:ext cx="4118040" cy="63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4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一个好的防御方法，就是发动一场有效的进攻。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324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324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孙子曰：故善战者，求之与势不责于人，故能择人而任势。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324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324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保持市场领先者优势，须在三条战线上努力：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324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、扩大总市场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324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、保护市场份额。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324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、扩大相对市场份额。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189000"/>
            <a:ext cx="457200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2" name=""/>
          <p:cNvSpPr/>
          <p:nvPr/>
        </p:nvSpPr>
        <p:spPr>
          <a:xfrm>
            <a:off x="684360" y="2637000"/>
            <a:ext cx="36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utura Lt"/>
                <a:ea typeface="幼圆"/>
              </a:rPr>
              <a:t>理由五：市场领先竞争策略</a:t>
            </a:r>
            <a:endParaRPr b="0" lang="en-US" sz="4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C8730-26DE-4E9E-9436-D6973C1C813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9202FB7D-5105-4D31-BCFA-2263F04C21E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1840" y="228600"/>
            <a:ext cx="4224240" cy="63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24" name=""/>
          <p:cNvSpPr/>
          <p:nvPr/>
        </p:nvSpPr>
        <p:spPr>
          <a:xfrm>
            <a:off x="4643280" y="0"/>
            <a:ext cx="432144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2708280"/>
            <a:ext cx="3816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Futura Lt"/>
                <a:ea typeface="幼圆"/>
              </a:rPr>
              <a:t>理由六：对</a:t>
            </a:r>
            <a:r>
              <a:rPr b="1" lang="en-US" sz="3600" spc="-1" strike="noStrike">
                <a:solidFill>
                  <a:srgbClr val="ffffff"/>
                </a:solidFill>
                <a:latin typeface="Futura Lt"/>
                <a:ea typeface="幼圆"/>
              </a:rPr>
              <a:t>Jim</a:t>
            </a:r>
            <a:r>
              <a:rPr b="1" lang="zh-CN" sz="3600" spc="-1" strike="noStrike">
                <a:solidFill>
                  <a:srgbClr val="ffffff"/>
                </a:solidFill>
                <a:latin typeface="Futura Lt"/>
                <a:ea typeface="幼圆"/>
              </a:rPr>
              <a:t>营销计划质疑的正面回答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6" name=""/>
          <p:cNvSpPr/>
          <p:nvPr/>
        </p:nvSpPr>
        <p:spPr>
          <a:xfrm>
            <a:off x="4859280" y="620640"/>
            <a:ext cx="3745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utura Lt"/>
                <a:ea typeface="幼圆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Futura Lt"/>
                <a:ea typeface="幼圆"/>
              </a:rPr>
              <a:t>MV2</a:t>
            </a:r>
            <a:r>
              <a:rPr b="1" lang="zh-CN" sz="2800" spc="-1" strike="noStrike">
                <a:solidFill>
                  <a:srgbClr val="000000"/>
                </a:solidFill>
                <a:latin typeface="Futura Lt"/>
                <a:ea typeface="幼圆"/>
              </a:rPr>
              <a:t>销售的投入并非不能通过其带来的收益弥补。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2133720"/>
            <a:ext cx="3745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utura Lt"/>
                <a:ea typeface="幼圆"/>
              </a:rPr>
              <a:t>就算短期内不能弥补，应看到品牌建设所带来的长期收益。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8" name=""/>
          <p:cNvSpPr/>
          <p:nvPr/>
        </p:nvSpPr>
        <p:spPr>
          <a:xfrm>
            <a:off x="4859280" y="3716280"/>
            <a:ext cx="3816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utura Lt"/>
                <a:ea typeface="幼圆"/>
              </a:rPr>
              <a:t>还可以采纳</a:t>
            </a:r>
            <a:r>
              <a:rPr b="1" lang="en-US" sz="2800" spc="-1" strike="noStrike">
                <a:solidFill>
                  <a:srgbClr val="000000"/>
                </a:solidFill>
                <a:latin typeface="Futura Lt"/>
                <a:ea typeface="幼圆"/>
              </a:rPr>
              <a:t>Jim</a:t>
            </a:r>
            <a:r>
              <a:rPr b="1" lang="zh-CN" sz="2800" spc="-1" strike="noStrike">
                <a:solidFill>
                  <a:srgbClr val="000000"/>
                </a:solidFill>
                <a:latin typeface="Futura Lt"/>
                <a:ea typeface="幼圆"/>
              </a:rPr>
              <a:t>的建议，先以产品升级的方式，销售新产品，既可以扩大产品的知名度，也可以解决一部分资金问题。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D9BC9-952A-41B8-BAA4-F493207E9C84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C62C11DF-98E3-46DE-BB9F-B4D4E145E1C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1840" y="228600"/>
            <a:ext cx="4224240" cy="63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787640" y="333000"/>
            <a:ext cx="4105080" cy="62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40" indent="0" algn="ctr"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zh-CN" sz="2200" spc="-1" strike="noStrike">
                <a:solidFill>
                  <a:srgbClr val="ffffff"/>
                </a:solidFill>
                <a:latin typeface="幼圆"/>
                <a:ea typeface="幼圆"/>
              </a:rPr>
              <a:t>在相当一段时间，茅台酒厂认为不需打广告、不需努力做市场，只卖给省市糖酒公司，仍供不应求。但是上世纪九十年代中期各地的市县糖酒公司纷纷倒闭，随着市场网络的断裂，一些地方出现“假茅台”，败坏了茅台的名誉。直到</a:t>
            </a:r>
            <a:r>
              <a:rPr b="1" lang="en-US" sz="2200" spc="-1" strike="noStrike">
                <a:solidFill>
                  <a:srgbClr val="ffffff"/>
                </a:solidFill>
                <a:latin typeface="幼圆"/>
                <a:ea typeface="幼圆"/>
              </a:rPr>
              <a:t>1998</a:t>
            </a:r>
            <a:r>
              <a:rPr b="1" lang="zh-CN" sz="2200" spc="-1" strike="noStrike">
                <a:solidFill>
                  <a:srgbClr val="ffffff"/>
                </a:solidFill>
                <a:latin typeface="幼圆"/>
                <a:ea typeface="幼圆"/>
              </a:rPr>
              <a:t>年，茅台集团才着手在全国发展经销商，组建营销网络，而此时五粮液已风靡全国。 </a:t>
            </a:r>
            <a:br>
              <a:rPr sz="2200"/>
            </a:br>
            <a:r>
              <a:rPr b="1" lang="zh-CN" sz="2200" spc="-1" strike="noStrike">
                <a:solidFill>
                  <a:srgbClr val="ffffff"/>
                </a:solidFill>
                <a:latin typeface="幼圆"/>
                <a:ea typeface="幼圆"/>
              </a:rPr>
              <a:t>茅台似乎总要“慢”一点，其表现距离现代企业仍有不小的距离。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marL="3240" indent="0"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1" name=""/>
          <p:cNvSpPr/>
          <p:nvPr/>
        </p:nvSpPr>
        <p:spPr>
          <a:xfrm>
            <a:off x="179280" y="73080"/>
            <a:ext cx="432144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2" name=""/>
          <p:cNvSpPr/>
          <p:nvPr/>
        </p:nvSpPr>
        <p:spPr>
          <a:xfrm>
            <a:off x="468360" y="2349360"/>
            <a:ext cx="3960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事例</a:t>
            </a:r>
            <a:r>
              <a:rPr b="1" lang="en-US" sz="3600" spc="-1" strike="noStrike">
                <a:solidFill>
                  <a:srgbClr val="000000"/>
                </a:solidFill>
                <a:latin typeface="Futura Lt"/>
                <a:ea typeface="幼圆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utura Lt"/>
                <a:ea typeface="幼圆"/>
              </a:rPr>
              <a:t>茅台酒根深蒂固的产品战略思想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A6CAD-B2AF-46B5-A351-727F635DD56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D8BA8CA6-764E-4546-813B-40BB6C1147B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1840" y="228600"/>
            <a:ext cx="4224240" cy="63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0"/>
            <a:ext cx="457200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5" name=""/>
          <p:cNvSpPr/>
          <p:nvPr/>
        </p:nvSpPr>
        <p:spPr>
          <a:xfrm>
            <a:off x="179280" y="404640"/>
            <a:ext cx="42847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英特尔是芯片市场的领袖。以最快速度开发最具竞争力的产品是英特尔成功的重要砝码。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5360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说到它的成功，必须提到， 英特尔营销专家丹尼斯</a:t>
            </a:r>
            <a:r>
              <a:rPr b="1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·</a:t>
            </a: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卡特提出的品牌战略，并得到高层安迪</a:t>
            </a:r>
            <a:r>
              <a:rPr b="1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·</a:t>
            </a: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格罗夫大力支持。之前，很少人把品牌建设作为战略的重点，所以丹尼斯</a:t>
            </a:r>
            <a:r>
              <a:rPr b="1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·</a:t>
            </a: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卡特的这次‘创新”可谓是一次伟大的革命。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5360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在预算为</a:t>
            </a:r>
            <a:r>
              <a:rPr b="1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亿美元的“</a:t>
            </a:r>
            <a:r>
              <a:rPr b="1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Intel Inside”</a:t>
            </a: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计划启动之初，公司内部争议很大：有人主张这笔资金投入研发；更多的人对英特尔的品牌建设策略产生质疑。但是不久之后，丹尼斯</a:t>
            </a:r>
            <a:r>
              <a:rPr b="1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·</a:t>
            </a: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卡特便向世人证明他的这项计划非常成功，在我们的身边，”</a:t>
            </a:r>
            <a:r>
              <a:rPr b="1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Intel Inside”</a:t>
            </a: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的标志无处不在。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5360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虽然英特尔在品牌建设方面的投入已达</a:t>
            </a:r>
            <a:r>
              <a:rPr b="1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亿之多，但是这也使英特尔在市场上处于长期的统治地位 。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5360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6" name=""/>
          <p:cNvSpPr/>
          <p:nvPr/>
        </p:nvSpPr>
        <p:spPr>
          <a:xfrm>
            <a:off x="4716360" y="2276640"/>
            <a:ext cx="3961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事例</a:t>
            </a:r>
            <a:r>
              <a:rPr b="1" lang="en-US" sz="3600" spc="-1" strike="noStrike">
                <a:solidFill>
                  <a:srgbClr val="000000"/>
                </a:solidFill>
                <a:latin typeface="Futura Lt"/>
                <a:ea typeface="幼圆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a Lt"/>
                <a:ea typeface="幼圆"/>
              </a:rPr>
              <a:t>Inter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公司的市场领先品牌战略思想</a:t>
            </a:r>
            <a:br>
              <a:rPr sz="1800"/>
            </a:b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78F5D-93F3-43D2-9195-19CD60B00FB6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F0361E20-524B-42D7-B833-5A04E1C0288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1840" y="228600"/>
            <a:ext cx="4224240" cy="63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38" name=""/>
          <p:cNvSpPr/>
          <p:nvPr/>
        </p:nvSpPr>
        <p:spPr>
          <a:xfrm>
            <a:off x="539640" y="23493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以</a:t>
            </a:r>
            <a:r>
              <a:rPr b="1" lang="en-US" sz="3600" spc="-1" strike="noStrike">
                <a:solidFill>
                  <a:srgbClr val="ffffff"/>
                </a:solidFill>
                <a:latin typeface="Futura Lt"/>
                <a:ea typeface="幼圆"/>
              </a:rPr>
              <a:t>Jim</a:t>
            </a: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和销售副总裁为代表的营销人员的态度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672080" y="217080"/>
            <a:ext cx="4076640" cy="63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536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建立以市场以客户需求为导向的市场营销战略。通过完备的营销计划，增加营销投入，巩固市场领先地位。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536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"/>
                <a:ea typeface="幼圆"/>
              </a:rPr>
              <a:t>MV2</a:t>
            </a: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的投放市场是公司进一步巩固品牌领先地位，确保企业长期盈利的黄金机会。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536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"/>
                <a:ea typeface="幼圆"/>
              </a:rPr>
              <a:t>MV2</a:t>
            </a: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的推出可以从根本上阻止竞争者市场扩张，并使企业高速发展。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536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产品销售越多，产生的销售费用越多，</a:t>
            </a:r>
            <a:r>
              <a:rPr b="1" lang="en-US" sz="2400" spc="-1" strike="noStrike">
                <a:solidFill>
                  <a:srgbClr val="ffffff"/>
                </a:solidFill>
                <a:latin typeface="Futura Lt"/>
                <a:ea typeface="幼圆"/>
              </a:rPr>
              <a:t>Jim</a:t>
            </a: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给出的计划可使该企业的最重要产品销售更快。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3586C-3A8A-40CC-828E-592539ED030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B5649CF6-B86B-4314-8037-460E0E61C26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492760" y="6602400"/>
            <a:ext cx="39204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Lt"/>
              </a:rPr>
              <a:t>Page </a:t>
            </a:r>
            <a:fld id="{12DC4EA4-6032-4DEB-92B1-255045BB5C18}" type="slidenum">
              <a:rPr b="0" lang="en-US" sz="800" spc="-1" strike="noStrike">
                <a:solidFill>
                  <a:srgbClr val="000000"/>
                </a:solidFill>
                <a:latin typeface="Futura L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73160" y="6602400"/>
            <a:ext cx="109548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Lt"/>
              </a:rPr>
              <a:t>&lt;footer&gt;</a:t>
            </a:r>
            <a:r>
              <a:rPr b="0" lang="en-US" sz="800" spc="-1" strike="noStrike">
                <a:solidFill>
                  <a:srgbClr val="000000"/>
                </a:solidFill>
                <a:latin typeface="Futura Lt"/>
              </a:rPr>
              <a:t>filename\location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6800" y="6663240"/>
            <a:ext cx="48708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263D-272F-4F23-AD28-515118C66D8C}" type="datetime3">
              <a:rPr b="0" lang="en-US" sz="800" spc="-1" strike="noStrike">
                <a:solidFill>
                  <a:srgbClr val="010000"/>
                </a:solidFill>
                <a:latin typeface="Futura Lt"/>
              </a:rPr>
              <a:t>July 31, 2026</a:t>
            </a:fld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1840" y="228600"/>
            <a:ext cx="4224240" cy="63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3573360"/>
            <a:ext cx="2952720" cy="1464480"/>
          </a:xfrm>
          <a:prstGeom prst="rect">
            <a:avLst/>
          </a:prstGeom>
          <a:solidFill>
            <a:srgbClr val="0a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 Lt"/>
                <a:ea typeface="楷体_GB2312"/>
              </a:rPr>
              <a:t>Can This High-Tech Product Sell Itself?</a:t>
            </a:r>
            <a:endParaRPr b="0" lang="en-US" sz="3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1628640"/>
            <a:ext cx="2954520" cy="1312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Futura Lt"/>
                <a:ea typeface="幼圆"/>
              </a:rPr>
              <a:t>哈佛商业评论案例分析</a:t>
            </a:r>
            <a:endParaRPr b="0" lang="en-US" sz="4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1484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李 彦 秋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2997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毛 国 峰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3" name=""/>
          <p:cNvSpPr/>
          <p:nvPr/>
        </p:nvSpPr>
        <p:spPr>
          <a:xfrm>
            <a:off x="572436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采 国 光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1052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 Lt"/>
              </a:rPr>
              <a:t>Li Yanqiu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407664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 Lt"/>
              </a:rPr>
              <a:t>Cai Guoguang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6" name=""/>
          <p:cNvSpPr/>
          <p:nvPr/>
        </p:nvSpPr>
        <p:spPr>
          <a:xfrm>
            <a:off x="5219640" y="249228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 Lt"/>
              </a:rPr>
              <a:t>Mao Guofeng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1840" y="228600"/>
            <a:ext cx="4224240" cy="63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671720" y="217080"/>
            <a:ext cx="4003560" cy="63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40" indent="0" algn="ctr">
              <a:lnSpc>
                <a:spcPct val="100000"/>
              </a:lnSpc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Futura Hv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Futura Lt"/>
                <a:ea typeface="幼圆"/>
              </a:rPr>
              <a:t>Jim</a:t>
            </a:r>
            <a:r>
              <a:rPr b="1" lang="zh-CN" sz="4000" spc="-1" strike="noStrike">
                <a:solidFill>
                  <a:srgbClr val="ffffff"/>
                </a:solidFill>
                <a:latin typeface="幼圆"/>
                <a:ea typeface="幼圆"/>
              </a:rPr>
              <a:t>及其团队应进一步考虑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2" name=""/>
          <p:cNvSpPr/>
          <p:nvPr/>
        </p:nvSpPr>
        <p:spPr>
          <a:xfrm>
            <a:off x="179280" y="189000"/>
            <a:ext cx="432144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3" name=""/>
          <p:cNvSpPr/>
          <p:nvPr/>
        </p:nvSpPr>
        <p:spPr>
          <a:xfrm>
            <a:off x="468360" y="476280"/>
            <a:ext cx="38988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>
              <a:lnSpc>
                <a:spcPct val="2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重新考量营销计划，加强市场预测，盈利预测等技术性分析，在保证营销推广效果的前提下，是否能缩减资金投入额？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A179A-7D4F-49FA-82EF-4AD7A69EE79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EB713DD5-9FBA-4544-9B77-1CC7BBBCC89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31840" y="228600"/>
            <a:ext cx="4224240" cy="63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672080" y="217080"/>
            <a:ext cx="4076640" cy="63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11200" indent="-50796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立刻着手市场营销方面知识的全员培训，使企业中的每个人都能意识到以市场，以客户需求为导向重要性。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511200" indent="-50796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细化营销方案，加强部门内外特别是产品经理和</a:t>
            </a:r>
            <a:r>
              <a:rPr b="1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CFO</a:t>
            </a: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的沟通，以最大可能缩减促销费用并争取获得</a:t>
            </a:r>
            <a:r>
              <a:rPr b="1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CFO</a:t>
            </a: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的支持。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511200" indent="-50796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以营销者的角度营销自己的观念。加强上下级特别是与</a:t>
            </a:r>
            <a:r>
              <a:rPr b="1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CEO</a:t>
            </a: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之间的沟通，强化营销战略，加强品牌对企业长期发展的优势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511200" indent="-50796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借助外部力量（如咨询公司等）提供市场调研</a:t>
            </a:r>
            <a:r>
              <a:rPr b="1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即二代产品推出可行性报告及收益预测，细化盈利模式及进程分析，为自己的观点提供佐证，增强说服力。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6" name=""/>
          <p:cNvSpPr/>
          <p:nvPr/>
        </p:nvSpPr>
        <p:spPr>
          <a:xfrm>
            <a:off x="468360" y="2349360"/>
            <a:ext cx="37544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幼圆"/>
                <a:ea typeface="幼圆"/>
              </a:rPr>
              <a:t>我们给</a:t>
            </a:r>
            <a:r>
              <a:rPr b="1" lang="en-US" sz="4800" spc="-1" strike="noStrike">
                <a:solidFill>
                  <a:srgbClr val="ffffff"/>
                </a:solidFill>
                <a:latin typeface="Futura Lt"/>
                <a:ea typeface="幼圆"/>
              </a:rPr>
              <a:t>Jim</a:t>
            </a:r>
            <a:r>
              <a:rPr b="1" lang="zh-CN" sz="4800" spc="-1" strike="noStrike">
                <a:solidFill>
                  <a:srgbClr val="ffffff"/>
                </a:solidFill>
                <a:latin typeface="幼圆"/>
                <a:ea typeface="幼圆"/>
              </a:rPr>
              <a:t>的建议</a:t>
            </a:r>
            <a:endParaRPr b="0" lang="en-US" sz="4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A538F-A6F5-4B32-81D9-14E31D7D50E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6431458D-D303-4F5B-BEA9-DF74EDAC5B0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2411280" y="2204640"/>
            <a:ext cx="4484880" cy="21272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rmAutofit/>
          </a:bodyPr>
          <a:p>
            <a:pPr indent="0"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Futura Bk"/>
                <a:ea typeface="幼圆"/>
              </a:rPr>
              <a:t>综  述</a:t>
            </a:r>
            <a:endParaRPr b="0" lang="en-US" sz="9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93BCB-F6F9-4484-B90B-E1824806F945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B9B797-9ECB-4B83-8515-3D2E35CDC6A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31840" y="228600"/>
            <a:ext cx="4224240" cy="63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49" name=""/>
          <p:cNvSpPr/>
          <p:nvPr/>
        </p:nvSpPr>
        <p:spPr>
          <a:xfrm>
            <a:off x="819000" y="2065320"/>
            <a:ext cx="3095640" cy="3060720"/>
          </a:xfrm>
          <a:custGeom>
            <a:avLst/>
            <a:gdLst/>
            <a:ahLst/>
            <a:rect l="l" t="t" r="r" b="b"/>
            <a:pathLst>
              <a:path w="363" h="361">
                <a:moveTo>
                  <a:pt x="8" y="206"/>
                </a:moveTo>
                <a:cubicBezTo>
                  <a:pt x="61" y="246"/>
                  <a:pt x="67" y="329"/>
                  <a:pt x="89" y="345"/>
                </a:cubicBezTo>
                <a:cubicBezTo>
                  <a:pt x="111" y="361"/>
                  <a:pt x="124" y="334"/>
                  <a:pt x="138" y="303"/>
                </a:cubicBezTo>
                <a:cubicBezTo>
                  <a:pt x="212" y="147"/>
                  <a:pt x="327" y="62"/>
                  <a:pt x="363" y="12"/>
                </a:cubicBezTo>
                <a:cubicBezTo>
                  <a:pt x="363" y="12"/>
                  <a:pt x="354" y="0"/>
                  <a:pt x="354" y="0"/>
                </a:cubicBezTo>
                <a:cubicBezTo>
                  <a:pt x="186" y="105"/>
                  <a:pt x="128" y="254"/>
                  <a:pt x="108" y="252"/>
                </a:cubicBezTo>
                <a:cubicBezTo>
                  <a:pt x="88" y="250"/>
                  <a:pt x="83" y="188"/>
                  <a:pt x="66" y="180"/>
                </a:cubicBezTo>
                <a:cubicBezTo>
                  <a:pt x="49" y="172"/>
                  <a:pt x="0" y="201"/>
                  <a:pt x="8" y="206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0" name=""/>
          <p:cNvSpPr/>
          <p:nvPr/>
        </p:nvSpPr>
        <p:spPr>
          <a:xfrm>
            <a:off x="5435640" y="1916280"/>
            <a:ext cx="3093840" cy="3060360"/>
          </a:xfrm>
          <a:custGeom>
            <a:avLst/>
            <a:gdLst/>
            <a:ahLst/>
            <a:rect l="l" t="t" r="r" b="b"/>
            <a:pathLst>
              <a:path w="273" h="254">
                <a:moveTo>
                  <a:pt x="87" y="27"/>
                </a:moveTo>
                <a:cubicBezTo>
                  <a:pt x="97" y="69"/>
                  <a:pt x="106" y="96"/>
                  <a:pt x="124" y="98"/>
                </a:cubicBezTo>
                <a:lnTo>
                  <a:pt x="196" y="38"/>
                </a:lnTo>
                <a:cubicBezTo>
                  <a:pt x="216" y="34"/>
                  <a:pt x="264" y="66"/>
                  <a:pt x="247" y="75"/>
                </a:cubicBezTo>
                <a:cubicBezTo>
                  <a:pt x="220" y="90"/>
                  <a:pt x="161" y="129"/>
                  <a:pt x="162" y="149"/>
                </a:cubicBezTo>
                <a:cubicBezTo>
                  <a:pt x="163" y="170"/>
                  <a:pt x="221" y="195"/>
                  <a:pt x="256" y="200"/>
                </a:cubicBezTo>
                <a:cubicBezTo>
                  <a:pt x="273" y="202"/>
                  <a:pt x="220" y="239"/>
                  <a:pt x="199" y="239"/>
                </a:cubicBezTo>
                <a:cubicBezTo>
                  <a:pt x="176" y="245"/>
                  <a:pt x="154" y="191"/>
                  <a:pt x="130" y="194"/>
                </a:cubicBezTo>
                <a:cubicBezTo>
                  <a:pt x="106" y="197"/>
                  <a:pt x="93" y="254"/>
                  <a:pt x="54" y="254"/>
                </a:cubicBezTo>
                <a:cubicBezTo>
                  <a:pt x="32" y="254"/>
                  <a:pt x="0" y="227"/>
                  <a:pt x="9" y="210"/>
                </a:cubicBezTo>
                <a:lnTo>
                  <a:pt x="91" y="156"/>
                </a:lnTo>
                <a:lnTo>
                  <a:pt x="36" y="74"/>
                </a:lnTo>
                <a:cubicBezTo>
                  <a:pt x="35" y="53"/>
                  <a:pt x="81" y="0"/>
                  <a:pt x="87" y="27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1" name=""/>
          <p:cNvSpPr/>
          <p:nvPr/>
        </p:nvSpPr>
        <p:spPr>
          <a:xfrm>
            <a:off x="-396720" y="1268280"/>
            <a:ext cx="44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Futura Lt"/>
                <a:ea typeface="幼圆"/>
              </a:rPr>
              <a:t>团 队 运 作</a:t>
            </a:r>
            <a:endParaRPr b="0" lang="en-US" sz="4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2" name=""/>
          <p:cNvSpPr/>
          <p:nvPr/>
        </p:nvSpPr>
        <p:spPr>
          <a:xfrm>
            <a:off x="900000" y="263700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Futura Lt"/>
                <a:ea typeface="幼圆"/>
              </a:rPr>
              <a:t>职 责 分 明</a:t>
            </a:r>
            <a:endParaRPr b="0" lang="en-US" sz="4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3" name=""/>
          <p:cNvSpPr/>
          <p:nvPr/>
        </p:nvSpPr>
        <p:spPr>
          <a:xfrm>
            <a:off x="-396720" y="386064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Futura Lt"/>
                <a:ea typeface="幼圆"/>
              </a:rPr>
              <a:t>技 术 创 新</a:t>
            </a:r>
            <a:endParaRPr b="0" lang="en-US" sz="4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4" name=""/>
          <p:cNvSpPr/>
          <p:nvPr/>
        </p:nvSpPr>
        <p:spPr>
          <a:xfrm>
            <a:off x="5292720" y="126828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Futura Lt"/>
                <a:ea typeface="幼圆"/>
              </a:rPr>
              <a:t>企 业 文 化</a:t>
            </a:r>
            <a:endParaRPr b="0" lang="en-US" sz="4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5" name=""/>
          <p:cNvSpPr/>
          <p:nvPr/>
        </p:nvSpPr>
        <p:spPr>
          <a:xfrm>
            <a:off x="5292720" y="270828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Futura Lt"/>
                <a:ea typeface="幼圆"/>
              </a:rPr>
              <a:t>有 效 沟 通</a:t>
            </a:r>
            <a:endParaRPr b="0" lang="en-US" sz="4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6" name=""/>
          <p:cNvSpPr/>
          <p:nvPr/>
        </p:nvSpPr>
        <p:spPr>
          <a:xfrm>
            <a:off x="5292720" y="393372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Futura Lt"/>
                <a:ea typeface="幼圆"/>
              </a:rPr>
              <a:t>部 门 本 位</a:t>
            </a:r>
            <a:endParaRPr b="0" lang="en-US" sz="4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32509-CF84-46D8-B5BC-8DBE36CF08E0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EC02EC05-AA54-42CF-8B93-AE218EA6B7C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3680" y="2421000"/>
            <a:ext cx="8680320" cy="10713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Futura Hv"/>
                <a:ea typeface="幼圆"/>
              </a:rPr>
              <a:t>谢 谢 大 家 ！</a:t>
            </a:r>
            <a:endParaRPr b="0" lang="en-US" sz="96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7E49A-2CF0-491E-867E-1C88729957EE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45FE1C-8601-432E-83AB-2FE18186ABC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492760" y="6602400"/>
            <a:ext cx="39204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Lt"/>
              </a:rPr>
              <a:t>Page </a:t>
            </a:r>
            <a:fld id="{38FBF75A-E562-4089-9F02-28A02948784F}" type="slidenum">
              <a:rPr b="0" lang="en-US" sz="800" spc="-1" strike="noStrike">
                <a:solidFill>
                  <a:srgbClr val="000000"/>
                </a:solidFill>
                <a:latin typeface="Futura L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73160" y="6602400"/>
            <a:ext cx="109548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Lt"/>
              </a:rPr>
              <a:t>&lt;footer&gt;</a:t>
            </a:r>
            <a:r>
              <a:rPr b="0" lang="en-US" sz="800" spc="-1" strike="noStrike">
                <a:solidFill>
                  <a:srgbClr val="000000"/>
                </a:solidFill>
                <a:latin typeface="Futura Lt"/>
              </a:rPr>
              <a:t>filename\location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6800" y="6663240"/>
            <a:ext cx="48708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EAE8-5729-496A-96B0-91E3F58C9D02}" type="datetime3">
              <a:rPr b="0" lang="en-US" sz="800" spc="-1" strike="noStrike">
                <a:solidFill>
                  <a:srgbClr val="010000"/>
                </a:solidFill>
                <a:latin typeface="Futura Lt"/>
              </a:rPr>
              <a:t>July 31, 2026</a:t>
            </a:fld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1840" y="228600"/>
            <a:ext cx="4224240" cy="63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幼圆"/>
                <a:ea typeface="幼圆"/>
              </a:rPr>
              <a:t>案 例 简 介</a:t>
            </a:r>
            <a:endParaRPr b="0" lang="en-US" sz="48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671720" y="217080"/>
            <a:ext cx="4233960" cy="63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5360" indent="0">
              <a:lnSpc>
                <a:spcPct val="15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a Lt"/>
                <a:ea typeface="幼圆"/>
              </a:rPr>
              <a:t>Jim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是加州视觉工具公司的销售主管。公司的</a:t>
            </a:r>
            <a:r>
              <a:rPr b="1" lang="en-US" sz="2200" spc="-1" strike="noStrike">
                <a:solidFill>
                  <a:srgbClr val="000000"/>
                </a:solidFill>
                <a:latin typeface="Futura Lt"/>
                <a:ea typeface="幼圆"/>
              </a:rPr>
              <a:t>MV1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软件投放市场后创造了骄人的业绩，为公司带来巨额利润，但如今竞争者大批涌现，仿造品充斥市场。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marL="225360" indent="0">
              <a:lnSpc>
                <a:spcPct val="15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此时</a:t>
            </a:r>
            <a:r>
              <a:rPr b="1" lang="en-US" sz="2200" spc="-1" strike="noStrike">
                <a:solidFill>
                  <a:srgbClr val="000000"/>
                </a:solidFill>
                <a:latin typeface="Futura Lt"/>
                <a:ea typeface="幼圆"/>
              </a:rPr>
              <a:t>MV2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软件即将投放市场，</a:t>
            </a:r>
            <a:r>
              <a:rPr b="1" lang="en-US" sz="2200" spc="-1" strike="noStrike">
                <a:solidFill>
                  <a:srgbClr val="000000"/>
                </a:solidFill>
                <a:latin typeface="Futura Lt"/>
                <a:ea typeface="幼圆"/>
              </a:rPr>
              <a:t>Jim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领导的销售团队做了一个强力营销计划，但总经理及部分高管对此计划看法并非一致。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marL="225360" indent="0">
              <a:lnSpc>
                <a:spcPct val="10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492760" y="6602400"/>
            <a:ext cx="39204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Lt"/>
              </a:rPr>
              <a:t>Page </a:t>
            </a:r>
            <a:fld id="{DA967389-C8F3-4BC4-AE49-7FC07785402C}" type="slidenum">
              <a:rPr b="0" lang="en-US" sz="800" spc="-1" strike="noStrike">
                <a:solidFill>
                  <a:srgbClr val="000000"/>
                </a:solidFill>
                <a:latin typeface="Futura L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73160" y="6602400"/>
            <a:ext cx="109548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Lt"/>
              </a:rPr>
              <a:t>&lt;footer&gt;</a:t>
            </a:r>
            <a:r>
              <a:rPr b="0" lang="en-US" sz="800" spc="-1" strike="noStrike">
                <a:solidFill>
                  <a:srgbClr val="000000"/>
                </a:solidFill>
                <a:latin typeface="Futura Lt"/>
              </a:rPr>
              <a:t>filename\location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6800" y="6663240"/>
            <a:ext cx="48708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5E13-D0D1-4494-81FA-AD067DCD126F}" type="datetime3">
              <a:rPr b="0" lang="en-US" sz="800" spc="-1" strike="noStrike">
                <a:solidFill>
                  <a:srgbClr val="010000"/>
                </a:solidFill>
                <a:latin typeface="Futura Lt"/>
              </a:rPr>
              <a:t>July 31, 2026</a:t>
            </a:fld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228600"/>
            <a:ext cx="422424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Futura Lt"/>
                <a:ea typeface="幼圆"/>
              </a:rPr>
              <a:t>问 题 </a:t>
            </a:r>
            <a:endParaRPr b="0" lang="en-US" sz="8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4653000"/>
            <a:ext cx="3529080" cy="1519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spcAft>
                <a:spcPts val="1749"/>
              </a:spcAft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或者，管理层中的其他人员是否有些目光短浅？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762120"/>
            <a:ext cx="3529080" cy="1371600"/>
          </a:xfrm>
          <a:prstGeom prst="rect">
            <a:avLst/>
          </a:prstGeom>
          <a:solidFill>
            <a:srgbClr val="a7c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spcAft>
                <a:spcPts val="1749"/>
              </a:spcAft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Lt"/>
                <a:ea typeface="幼圆"/>
              </a:rPr>
              <a:t>Jim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这么做是否只是想让部门内的新员工高兴？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2492280"/>
            <a:ext cx="3529080" cy="1800360"/>
          </a:xfrm>
          <a:prstGeom prst="rect">
            <a:avLst/>
          </a:prstGeom>
          <a:solidFill>
            <a:srgbClr val="a9a7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spcAft>
                <a:spcPts val="1749"/>
              </a:spcAft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他是否应该在没有额外资金的情况下尝试实施他的提议？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3680" y="2276640"/>
            <a:ext cx="8680320" cy="10713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幼圆"/>
                <a:ea typeface="幼圆"/>
              </a:rPr>
              <a:t>分 析 论 证</a:t>
            </a:r>
            <a:endParaRPr b="0" lang="en-US" sz="88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346DC-09E6-4E75-B034-DF5D9482CE7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2F71D4-5967-44F4-AB12-009322D8759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492760" y="6602400"/>
            <a:ext cx="39204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Lt"/>
              </a:rPr>
              <a:t>Page </a:t>
            </a:r>
            <a:fld id="{7B5C88A3-96FD-4430-88AF-23D0D51669C8}" type="slidenum">
              <a:rPr b="0" lang="en-US" sz="800" spc="-1" strike="noStrike">
                <a:solidFill>
                  <a:srgbClr val="000000"/>
                </a:solidFill>
                <a:latin typeface="Futura L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73160" y="6602400"/>
            <a:ext cx="109548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Lt"/>
              </a:rPr>
              <a:t>&lt;footer&gt;</a:t>
            </a:r>
            <a:r>
              <a:rPr b="0" lang="en-US" sz="800" spc="-1" strike="noStrike">
                <a:solidFill>
                  <a:srgbClr val="000000"/>
                </a:solidFill>
                <a:latin typeface="Futura Lt"/>
              </a:rPr>
              <a:t>filename\location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6800" y="6663240"/>
            <a:ext cx="48708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3293-9D4A-4215-93F2-871F3F4AE493}" type="datetime3">
              <a:rPr b="0" lang="en-US" sz="800" spc="-1" strike="noStrike">
                <a:solidFill>
                  <a:srgbClr val="010000"/>
                </a:solidFill>
                <a:latin typeface="Futura Lt"/>
              </a:rPr>
              <a:t>July 31, 2026</a:t>
            </a:fld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2924280"/>
            <a:ext cx="1800000" cy="1655640"/>
          </a:xfrm>
          <a:prstGeom prst="irregularSeal2">
            <a:avLst/>
          </a:prstGeom>
          <a:solidFill>
            <a:srgbClr val="d1e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217440"/>
            <a:ext cx="8677440" cy="6400800"/>
          </a:xfrm>
          <a:prstGeom prst="roundRect">
            <a:avLst>
              <a:gd name="adj" fmla="val 30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5000" y="217080"/>
            <a:ext cx="8680680" cy="1071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Futura Hv"/>
                <a:ea typeface="幼圆"/>
              </a:rPr>
              <a:t>本案例解析思路</a:t>
            </a:r>
            <a:endParaRPr b="0" lang="en-US" sz="6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56" name=""/>
          <p:cNvSpPr/>
          <p:nvPr/>
        </p:nvSpPr>
        <p:spPr>
          <a:xfrm>
            <a:off x="2124000" y="242100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7" name=""/>
          <p:cNvSpPr/>
          <p:nvPr/>
        </p:nvSpPr>
        <p:spPr>
          <a:xfrm>
            <a:off x="2124000" y="494172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2421000"/>
            <a:ext cx="0" cy="25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9" name=""/>
          <p:cNvSpPr/>
          <p:nvPr/>
        </p:nvSpPr>
        <p:spPr>
          <a:xfrm>
            <a:off x="2124000" y="3716280"/>
            <a:ext cx="489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716280"/>
            <a:ext cx="647640" cy="122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1" name=""/>
          <p:cNvSpPr/>
          <p:nvPr/>
        </p:nvSpPr>
        <p:spPr>
          <a:xfrm>
            <a:off x="5435640" y="2421000"/>
            <a:ext cx="5047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2421000"/>
            <a:ext cx="43164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3" name=""/>
          <p:cNvSpPr/>
          <p:nvPr/>
        </p:nvSpPr>
        <p:spPr>
          <a:xfrm>
            <a:off x="3635280" y="2421000"/>
            <a:ext cx="36036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4" name=""/>
          <p:cNvSpPr/>
          <p:nvPr/>
        </p:nvSpPr>
        <p:spPr>
          <a:xfrm>
            <a:off x="2771640" y="2421000"/>
            <a:ext cx="36036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2924280"/>
            <a:ext cx="1655640" cy="1655640"/>
          </a:xfrm>
          <a:prstGeom prst="ellipse">
            <a:avLst/>
          </a:prstGeom>
          <a:solidFill>
            <a:srgbClr val="d1e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328464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3429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utura Lt"/>
                <a:ea typeface="幼圆"/>
              </a:rPr>
              <a:t>问 题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8" name=""/>
          <p:cNvSpPr/>
          <p:nvPr/>
        </p:nvSpPr>
        <p:spPr>
          <a:xfrm>
            <a:off x="2124000" y="2565360"/>
            <a:ext cx="79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Futura Lt"/>
                <a:ea typeface="幼圆"/>
              </a:rPr>
              <a:t>界定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Futura Lt"/>
                <a:ea typeface="幼圆"/>
              </a:rPr>
              <a:t>问题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2565360"/>
            <a:ext cx="719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Futura Lt"/>
                <a:ea typeface="幼圆"/>
              </a:rPr>
              <a:t>分析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Futura Lt"/>
                <a:ea typeface="幼圆"/>
              </a:rPr>
              <a:t>问题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2565360"/>
            <a:ext cx="718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Futura Lt"/>
                <a:ea typeface="幼圆"/>
              </a:rPr>
              <a:t>阐明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Futura Lt"/>
                <a:ea typeface="幼圆"/>
              </a:rPr>
              <a:t>观点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2565360"/>
            <a:ext cx="719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Futura Lt"/>
                <a:ea typeface="幼圆"/>
              </a:rPr>
              <a:t>给出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Futura Lt"/>
                <a:ea typeface="幼圆"/>
              </a:rPr>
              <a:t>理由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2" name=""/>
          <p:cNvSpPr/>
          <p:nvPr/>
        </p:nvSpPr>
        <p:spPr>
          <a:xfrm>
            <a:off x="5796000" y="2565360"/>
            <a:ext cx="719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Futura Lt"/>
                <a:ea typeface="幼圆"/>
              </a:rPr>
              <a:t>提出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Futura Lt"/>
                <a:ea typeface="幼圆"/>
              </a:rPr>
              <a:t>建议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3" name=""/>
          <p:cNvSpPr/>
          <p:nvPr/>
        </p:nvSpPr>
        <p:spPr>
          <a:xfrm>
            <a:off x="7236000" y="33577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utura Lt"/>
                <a:ea typeface="幼圆"/>
              </a:rPr>
              <a:t>综 述</a:t>
            </a:r>
            <a:endParaRPr b="0" lang="en-US" sz="4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4" name=""/>
          <p:cNvSpPr/>
          <p:nvPr/>
        </p:nvSpPr>
        <p:spPr>
          <a:xfrm>
            <a:off x="6372360" y="2421000"/>
            <a:ext cx="64908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4005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Futura Lt"/>
                <a:ea typeface="幼圆"/>
              </a:rPr>
              <a:t>有 效 沟 通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1840" y="228600"/>
            <a:ext cx="4224240" cy="63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Futura Hv"/>
                <a:ea typeface="幼圆"/>
              </a:rPr>
              <a:t>问 题 解 析</a:t>
            </a:r>
            <a:endParaRPr b="0" lang="en-US" sz="48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643280" y="188640"/>
            <a:ext cx="4105440" cy="63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5360" indent="0"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utura Bk"/>
                <a:ea typeface="幼圆"/>
              </a:rPr>
              <a:t>我们认为本案例实质性问题是：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5360" indent="0">
              <a:spcBef>
                <a:spcPts val="22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Futura Bk"/>
                <a:ea typeface="幼圆"/>
              </a:rPr>
              <a:t>企业发展过程中的产品导向战略和营销导向战略之间的冲突。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  <a:p>
            <a:pPr marL="225360"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72B68-FAEF-4230-A028-010475690A3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BE68B78E-65FC-438C-98B0-46EC942A46F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1840" y="228600"/>
            <a:ext cx="4224240" cy="63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73080"/>
            <a:ext cx="439272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0" name=""/>
          <p:cNvSpPr/>
          <p:nvPr/>
        </p:nvSpPr>
        <p:spPr>
          <a:xfrm>
            <a:off x="684360" y="1989000"/>
            <a:ext cx="36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以</a:t>
            </a:r>
            <a:r>
              <a:rPr b="1" lang="en-US" sz="3600" spc="-1" strike="noStrike">
                <a:solidFill>
                  <a:srgbClr val="ffffff"/>
                </a:solidFill>
                <a:latin typeface="Futura Lt"/>
                <a:ea typeface="幼圆"/>
              </a:rPr>
              <a:t>CEO</a:t>
            </a:r>
            <a:r>
              <a:rPr b="1" lang="en-US" sz="3600" spc="-1" strike="noStrike">
                <a:solidFill>
                  <a:srgbClr val="ffffff"/>
                </a:solidFill>
                <a:latin typeface="幼圆"/>
                <a:ea typeface="幼圆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及首席工程师为代表的管理人员对销售计划的态度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1" name=""/>
          <p:cNvSpPr/>
          <p:nvPr/>
        </p:nvSpPr>
        <p:spPr>
          <a:xfrm>
            <a:off x="4788000" y="692280"/>
            <a:ext cx="396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Lt"/>
                <a:ea typeface="幼圆"/>
              </a:rPr>
              <a:t>Marketing   dollars  didn’t get animation  features, Engineering  dollars did. It’s products that drive sales , not parties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utura Lt"/>
                <a:ea typeface="幼圆"/>
              </a:rPr>
              <a:t>销售收益是由产品自身技术含量决定的，好产品不愁卖营销工作只是辅助性工作。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2" name=""/>
          <p:cNvSpPr/>
          <p:nvPr/>
        </p:nvSpPr>
        <p:spPr>
          <a:xfrm>
            <a:off x="4788000" y="4005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通过增强营销工作巩固品牌的领导地位是必要的，但无需加大的资金投入。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990AE-5AB1-461A-A519-3A4A2E67629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5FFEFA5F-7AB4-4AA8-AA25-1ADB4FA587C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648320" y="228600"/>
            <a:ext cx="422424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Futura Lt"/>
                <a:ea typeface="幼圆"/>
              </a:rPr>
              <a:t>持此种观点的理由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189000"/>
            <a:ext cx="439272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1844640"/>
            <a:ext cx="41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公司需开发的新产品很多，现有</a:t>
            </a: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20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个开发项目因缺工程师而无法展开。增加工程师是当务之急。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549360"/>
            <a:ext cx="388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a Lt"/>
                <a:ea typeface="幼圆"/>
              </a:rPr>
              <a:t>MV1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投入市场后热销，顾客主动上门购买，为公司带来巨大收益。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3429000"/>
            <a:ext cx="403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新产品推出，与之相配套的生产能力短时间无法满足市场的需求。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4724280"/>
            <a:ext cx="41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如果销售预算不能通过销售新产品所增加的收入弥补，公司的收益会下降，进而影响股市对公司的信心。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E35D1-41B5-44DC-A17E-28E57C9C1418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4F422EBA-8CEE-477C-9D9D-5A03B94D3C1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6T12:03:59Z</dcterms:created>
  <dc:creator>Bernd Klopsch</dc:creator>
  <dc:description/>
  <dc:language>en-US</dc:language>
  <cp:lastModifiedBy>Benjamin</cp:lastModifiedBy>
  <cp:lastPrinted>2000-02-16T19:58:08Z</cp:lastPrinted>
  <dcterms:modified xsi:type="dcterms:W3CDTF">2005-11-19T01:31:18Z</dcterms:modified>
  <cp:revision>27</cp:revision>
  <dc:subject/>
  <dc:title>PowerPoint Presentation</dc:title>
</cp:coreProperties>
</file>